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DE77-5105-4398-BE49-E6F1D7665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AC23-C06F-4ACD-ACDA-03645AABB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7CB4-E23C-4869-ABD3-8659268F4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3ED9-1322-408C-92D5-6AD2453CE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F52E-B560-426B-8679-EF916AA17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9400-2C6C-4FB3-81EF-46905E1C5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39C3-AC45-4B34-ACDF-DE4BF7FB1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BDC3-B584-47D7-8057-F3C63A8F6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C3C8-004C-478A-9C6A-ABE0FABC5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69B5-AC6A-4CE2-92E3-3DC6E289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C354-1386-4FA9-9EF6-8783801D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736B-BD20-4382-B4B5-0F8D62D7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FF4C-AF82-45C0-AF86-2C71BE8DD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s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8991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3 different sets of paper on your desk (one blue, one yellow, one small slip of pap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ep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Finish the Blue DBQ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ep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Choose any 2 of the documents from the yellow pap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 them in your noteb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ep 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Write the essa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ep 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Turn in your blue packet, yellow packet, essay question, and essay.  Pick up a pink review shee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Why Western Europe has more $$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to Industrial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 Economy during Cold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to Industrial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Economy during Cold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80880" y="1371600"/>
            <a:ext cx="2286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Western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876920" y="1371600"/>
            <a:ext cx="2286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astern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"/>
          <p:cNvSpPr/>
          <p:nvPr/>
        </p:nvSpPr>
        <p:spPr>
          <a:xfrm>
            <a:off x="4343400" y="1219320"/>
            <a:ext cx="7632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2590920"/>
            <a:ext cx="8458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8080" y="5334120"/>
            <a:ext cx="784872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l in the headings at the top of the char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nother bullet to each s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id they get more $$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WWII Ends – 19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 USA and Russia become superpo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  Europe is divided along the IRON CUR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3505320"/>
            <a:ext cx="8077320" cy="17524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6. Directions: complete the Frayer Model below.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5800" y="1066680"/>
          <a:ext cx="8001000" cy="483228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ON CURTAI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Definition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e separation between democratic Western Europe and communist Eastern Europe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What are the effects of the iron curtain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1219320" y="5105520"/>
            <a:ext cx="32004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p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eave this portion blank and complete it as you go through the slid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rcRect l="7293" t="19447" r="68057" b="11113"/>
          <a:stretch/>
        </p:blipFill>
        <p:spPr>
          <a:xfrm>
            <a:off x="2133720" y="0"/>
            <a:ext cx="701028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04920" y="762120"/>
            <a:ext cx="190476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Iron Curt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946-199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s of the Iron Curt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tern Europe is less develo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Econ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profit incen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ces, production, businesses controlled by Rus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Sheet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A – Landforms: SKIP THE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. Use p. 282 and your Europe Map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Same as #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ustrial R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– 6.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tebook (Industrial Revolution Less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p. 28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li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Notebook under Conflict Lesson, look for Balkan Conflict, or p. 31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 Northern Ireland Notes p. 30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kan Conflict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pru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kip till tomo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i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ross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-11. Ethnic Cleansing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eck Balkan conflict notes or p. 3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ropean Un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 EU 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. EU 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. Skip the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. EU –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. EU –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. Skip only the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ox “Which EU members use it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a #20, #21, and #22 on the back of the pink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U Additional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1066680"/>
            <a:ext cx="8991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a #20, #21, and #22 on the back of your pink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. What must a country have to get into the EU?  (see Copenhagen Criteria on the EU – Background pa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. What is a trade bloc? (EU Economi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. Why did they create a trade bloc? (EU Economi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rope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rcRect l="10070" t="8334" r="50002" b="25003"/>
          <a:stretch/>
        </p:blipFill>
        <p:spPr>
          <a:xfrm>
            <a:off x="0" y="1133640"/>
            <a:ext cx="9144000" cy="57243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943600" y="5638680"/>
            <a:ext cx="2057400" cy="9907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15228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t #9 on the Review Sheet  - CYP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. Cyprus Confl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it?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small island country in the Mediterranean S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eek Cypriots vs. Turkish Cypri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Wh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urks are trying to control their 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Ethnocentrism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urks are not allowing them to practice their cultu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3886200"/>
            <a:ext cx="8686800" cy="2514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18288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the Cyprus of your review shee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Turkish police beat protester"/>
          <p:cNvPicPr/>
          <p:nvPr/>
        </p:nvPicPr>
        <p:blipFill>
          <a:blip r:embed="rId2"/>
          <a:stretch/>
        </p:blipFill>
        <p:spPr>
          <a:xfrm>
            <a:off x="4343400" y="380880"/>
            <a:ext cx="4495680" cy="3365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343400" y="3733920"/>
            <a:ext cx="449568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kish Cops trying to beat up Greek Protesters in Cypr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152280"/>
            <a:ext cx="3886200" cy="61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prus is in the European Uni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How does this behavior go against the Copenhagen Criteria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What should the EU do to Cyprus as a consequence for this behavio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28600" y="914400"/>
          <a:ext cx="8763120" cy="547992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Europe Unit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ver Page/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ustrial Revolution/Colon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say He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li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an Un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 Revi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228600" y="16002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new page in your notebook titled “Europe Review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questions 1 and 2 on the following slides and answer them in your notebook as we work through the slid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add more information to this page tomorr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rcRect l="21528" t="8334" r="0" b="10185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486400" y="0"/>
            <a:ext cx="3657600" cy="1556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here did the ethnic cleansing occu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5029200" y="3886200"/>
            <a:ext cx="2438280" cy="1371600"/>
            <a:chOff x="5029200" y="3886200"/>
            <a:chExt cx="2438280" cy="1371600"/>
          </a:xfrm>
        </p:grpSpPr>
        <p:sp>
          <p:nvSpPr>
            <p:cNvPr id="53" name=""/>
            <p:cNvSpPr/>
            <p:nvPr/>
          </p:nvSpPr>
          <p:spPr>
            <a:xfrm>
              <a:off x="5029200" y="3886200"/>
              <a:ext cx="2438280" cy="13716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86400" y="4114800"/>
              <a:ext cx="1523880" cy="642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alkan Peninsul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rcRect l="21528" t="8334" r="0" b="10185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486400" y="0"/>
            <a:ext cx="3657600" cy="2531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ere did the conflict between the Catholics and the Protestants occu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8" name="" descr=""/>
            <p:cNvPicPr/>
            <p:nvPr/>
          </p:nvPicPr>
          <p:blipFill>
            <a:blip r:embed="rId2"/>
            <a:stretch/>
          </p:blipFill>
          <p:spPr>
            <a:xfrm>
              <a:off x="0" y="1440"/>
              <a:ext cx="914400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7543800" y="0"/>
              <a:ext cx="160020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reat Brita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9000" y="685800"/>
              <a:ext cx="259092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orthern Irela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95680" y="1905120"/>
              <a:ext cx="12956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rela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91320" y="2209680"/>
              <a:ext cx="7617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19920" y="914400"/>
              <a:ext cx="838080" cy="1143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7695720" y="838080"/>
              <a:ext cx="381240" cy="106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rcRect l="16669" t="25926" r="28475" b="11113"/>
          <a:stretch/>
        </p:blipFill>
        <p:spPr>
          <a:xfrm>
            <a:off x="0" y="36360"/>
            <a:ext cx="7924680" cy="6821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791320" y="228600"/>
            <a:ext cx="3200400" cy="24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 mountain range separates Spain and Fr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172200" y="685800"/>
            <a:ext cx="2305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yrenee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8" name=""/>
          <p:cNvSpPr/>
          <p:nvPr/>
        </p:nvSpPr>
        <p:spPr>
          <a:xfrm rot="1123800">
            <a:off x="2057040" y="4343040"/>
            <a:ext cx="1676520" cy="7621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astern Europe vs. Western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12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What do you use to determine which country is the most developed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733920" y="1600200"/>
          <a:ext cx="5257800" cy="4525920"/>
        </p:xfrm>
        <a:graphic>
          <a:graphicData uri="http://schemas.openxmlformats.org/drawingml/2006/table">
            <a:tbl>
              <a:tblPr/>
              <a:tblGrid>
                <a:gridCol w="1455480"/>
                <a:gridCol w="1592280"/>
                <a:gridCol w="221004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DP per Capi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fe Expecta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3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ban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,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 txBox="1"/>
          <p:nvPr/>
        </p:nvSpPr>
        <p:spPr>
          <a:xfrm>
            <a:off x="304920" y="4952880"/>
            <a:ext cx="3124080" cy="120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GDP is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he Captain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12:34:51Z</dcterms:created>
  <dc:creator>CFISD</dc:creator>
  <dc:description/>
  <dc:language>en-US</dc:language>
  <cp:lastModifiedBy>CFISD</cp:lastModifiedBy>
  <dcterms:modified xsi:type="dcterms:W3CDTF">2008-12-04T18:45:43Z</dcterms:modified>
  <cp:revision>17</cp:revision>
  <dc:subject/>
  <dc:title>Europe Review</dc:title>
</cp:coreProperties>
</file>