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ECF2-25E7-4B55-AC37-B4C49C89C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3650-A50D-4D26-B367-9482F0784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A710-CF30-42D2-BF41-36CC86DCE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6684-8206-4A7F-A40D-995409491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3B2A-113C-462A-9DD1-B57CF4D53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CCF2-EA3C-43E9-A3C2-80B0256A1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4D43-E79C-4EDE-BD2C-A9831A477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D599-52FB-458D-A4E1-C7778F2EA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DC8A-83D4-4F48-8DE6-772F920BE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3FB2-5D2E-46F4-9F6F-B1ABA7701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6BD7-4159-4995-8B48-60AD80C46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7414-8234-4144-841F-7EA83E81B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271EB-F679-40FF-908F-07A25ABC73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uro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ble of Contents – Europ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457200" y="1295280"/>
          <a:ext cx="8229600" cy="5121360"/>
        </p:xfrm>
        <a:graphic>
          <a:graphicData uri="http://schemas.openxmlformats.org/drawingml/2006/table">
            <a:tbl>
              <a:tblPr/>
              <a:tblGrid>
                <a:gridCol w="1600200"/>
                <a:gridCol w="4572000"/>
                <a:gridCol w="205740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son #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/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migr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/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r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/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rbaniz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/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rastructu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/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vie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*Europe Unit*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/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ver Page/MA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" name=""/>
          <p:cNvSpPr/>
          <p:nvPr/>
        </p:nvSpPr>
        <p:spPr>
          <a:xfrm>
            <a:off x="457200" y="5105520"/>
            <a:ext cx="82296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urope - Less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dustrializ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human and physical causes/eff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ltural Diffus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results from col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flic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Ethnic differences causes confli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mographic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Comparison of Eastern Europe and Western Eur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uropean Un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Economic, Political, Social Eff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urope Un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ssential Ques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Why have different regions of Europe experienced conflict throughout history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How has the European Union changed Europe economically, politically, and socially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Why is Western Europe more developed than Eastern Europ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urope Cover Pa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76312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nd the next fresh page in your notebo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Use it to create a cover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our cover page should include the following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on Topic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ustr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ltural Diffu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mograph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li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uropean Un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sential Questions Cha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on th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ssential Questions Cha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52280" y="533520"/>
          <a:ext cx="8839440" cy="5827680"/>
        </p:xfrm>
        <a:graphic>
          <a:graphicData uri="http://schemas.openxmlformats.org/drawingml/2006/table">
            <a:tbl>
              <a:tblPr/>
              <a:tblGrid>
                <a:gridCol w="2863800"/>
                <a:gridCol w="1784520"/>
                <a:gridCol w="2133720"/>
                <a:gridCol w="2057400"/>
              </a:tblGrid>
              <a:tr h="106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sential Ques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diction (11/1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swer (Europe Test Day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ketch (Europe Test Day)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3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Why have different regions of Europe experienced conflict throughout history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Write your prediction here&gt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0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How has the European Union changed Europe economically, politically, and socially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3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Why is Western Europe more developed than Eastern Europe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untries you need to label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s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rma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re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a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ted Kingd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ugoslav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ions: Label each of these countries on Side 2, the political map of Europ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p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lasszone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name = cyri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sword = cyri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4T11:39:23Z</dcterms:created>
  <dc:creator>CFISD</dc:creator>
  <dc:description/>
  <dc:language>en-US</dc:language>
  <cp:lastModifiedBy>CFISD</cp:lastModifiedBy>
  <dcterms:modified xsi:type="dcterms:W3CDTF">2008-11-10T14:09:21Z</dcterms:modified>
  <cp:revision>7</cp:revision>
  <dc:subject/>
  <dc:title>US and Canada</dc:title>
</cp:coreProperties>
</file>