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A46-AEC8-4F22-AB20-9B13AC8E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DD0-7979-4DB4-94BF-6DC1FFB0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EE2-1076-4E35-8E0D-A5DD8DEA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8B80-6E72-4C25-8427-46B01216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226-0984-4087-9229-2E5121DE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A8B5-5131-464E-BEB6-273533C1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FE54-EFC6-4AFF-BDE9-39CEADC8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7738-B5CD-4BB5-A2B4-27ED874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EF8-7798-415D-BDEB-C02506E6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B8D-7D76-4F70-88FA-8A527D7E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B8B9-AE5D-4DE5-B4D6-9341333F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245-4B12-49CD-BCE3-9E441688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B6F0-EE4F-4B99-920E-26A020F9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2136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uman and physical causes/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ults from col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thnic differences causes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parison of Eastern Europe and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conomic, Political, Soci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have different regions of Europe experienced conflict throughout histo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y is Western Europe more developed than Easter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582768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1/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Europe Test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Europe Test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y have different regions of Europe experienced conflict throughout histor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European Union changed Europe economically, politically, and sociall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is Western Europe more developed than Eastern Europ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you need to lab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Label each of these countries on Side 2, the political map of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z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name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1-10T14:09:21Z</dcterms:modified>
  <cp:revision>7</cp:revision>
  <dc:subject/>
  <dc:title>US and Canada</dc:title>
</cp:coreProperties>
</file>