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C1DD-921C-4A81-9AA8-5B6A0F62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AAF5-8F97-49BE-8873-797C261E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DE7-0AA0-4B7F-99D4-E0A0F4CB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434-018D-4FAE-9D91-5EDF7551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EDC0-C7BF-4C54-A7C0-FFE34D91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EC5-5AA5-4CA4-906A-101C629F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C78A-7BB3-4E85-9E80-44ED11E4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8F5-2FBE-41B1-953B-651B578E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E8A-8478-4AA0-8231-50353C6E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2011-DCA0-4BEE-8E20-79B6C990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1DE1-033F-49EA-88A8-101263BD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37DB-4D0F-4658-B496-5FEE71E0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9274-BA7B-42FA-B97D-4AD36C4EE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3 different sets of paper on your desk (one blue, one yellow, one small slip of pap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Finish the Blue DBQ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hoose any 2 of the documents from the yellow pap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them in your note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rite the ess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urn in your blue packet, yellow packet, essay question, and essay.  Pick up a pink review she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Why Western Europe has more $$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o Industr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Economy during Cold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to Industr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Economy during Cold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1371600"/>
            <a:ext cx="22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ester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876920" y="1371600"/>
            <a:ext cx="22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astern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1219320"/>
            <a:ext cx="7632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2590920"/>
            <a:ext cx="8458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5334120"/>
            <a:ext cx="784872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in the headings at the top of the cha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other bullet to each s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y get more $$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WWII Ends – 19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USA and Russia become super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 Europe is divided along the IRON CUR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505320"/>
            <a:ext cx="8077320" cy="1752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. Directions: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066680"/>
          <a:ext cx="8001000" cy="48322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 CURTAI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separation between democratic Western Europe and communist Eastern Europe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What are the effects of the iron curtai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1219320" y="5105520"/>
            <a:ext cx="3200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ave this portion blank and complete it as you go through the sl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rcRect l="7293" t="19447" r="68057" b="11113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762120"/>
            <a:ext cx="19047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ron Cur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46-19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the Iron Cur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ern Europe is less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fit incen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s, production, businesses controlled by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heet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A – Landforms: SKIP TH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. Use p. 282 and your Europe Map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ame as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– 6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ebook (Industrial Revolution Les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p. 2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Notebook under Conflict Lesson, look for Balkan Conflict, or p. 3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Northern Ireland Notes p. 3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kan Conflict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pru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kip till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os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-11. Ethnic Cleans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eck Balkan conflict notes or p. 3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EU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 EU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 Skip the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. EU –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. EU –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. Skip only the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x “Which EU members use it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#20, #21, and #22 on the back of the pink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 Additional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#20, #21, and #22 on the back of your pink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 What must a country have to get into the EU?  (see Copenhagen Criteria on the EU – Background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 What is a trade bloc? (EU Econom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. Why did they create a trade bloc? (EU Econom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rcRect l="10070" t="8334" r="50002" b="25003"/>
          <a:stretch/>
        </p:blipFill>
        <p:spPr>
          <a:xfrm>
            <a:off x="0" y="1133640"/>
            <a:ext cx="9144000" cy="5724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943600" y="5638680"/>
            <a:ext cx="2057400" cy="990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52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t #9 on the Review Sheet  - CYP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 Cyprus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small island country in the Mediterranean S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eek Cypriots vs. Turkish Cypri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Wh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urks are trying to control their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Ethnocentris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urks are not allowing them to practice their cul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3886200"/>
            <a:ext cx="8686800" cy="2514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1828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the Cyprus of your review she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Turkish police beat protester"/>
          <p:cNvPicPr/>
          <p:nvPr/>
        </p:nvPicPr>
        <p:blipFill>
          <a:blip r:embed="rId2"/>
          <a:stretch/>
        </p:blipFill>
        <p:spPr>
          <a:xfrm>
            <a:off x="4343400" y="380880"/>
            <a:ext cx="4495680" cy="3365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343400" y="3733920"/>
            <a:ext cx="4495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kish Cops trying to beat up Greek Protesters in Cyp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52280"/>
            <a:ext cx="388620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prus is in the European Un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How does this behavior go against the Copenhagen Criteri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What should the EU do to Cyprus as a consequence for this behavi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8600" y="914400"/>
          <a:ext cx="8763120" cy="54799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Europe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 Revolution/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U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age in your notebook titled “Europe Review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questions 1 and 2 on the following slides and answer them in your notebook as we work through the sl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add more information to this page tomorr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rcRect l="21528" t="8334" r="0" b="10185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86400" y="0"/>
            <a:ext cx="3657600" cy="1556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ere did the ethnic cleansing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029200" y="3886200"/>
            <a:ext cx="2438280" cy="1371600"/>
            <a:chOff x="5029200" y="3886200"/>
            <a:chExt cx="2438280" cy="1371600"/>
          </a:xfrm>
        </p:grpSpPr>
        <p:sp>
          <p:nvSpPr>
            <p:cNvPr id="53" name=""/>
            <p:cNvSpPr/>
            <p:nvPr/>
          </p:nvSpPr>
          <p:spPr>
            <a:xfrm>
              <a:off x="5029200" y="3886200"/>
              <a:ext cx="2438280" cy="13716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6400" y="4114800"/>
              <a:ext cx="1523880" cy="642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lkan Peninsu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rcRect l="21528" t="8334" r="0" b="10185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486400" y="0"/>
            <a:ext cx="3657600" cy="253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ere did the conflict between the Catholics and the Protestants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0" y="1440"/>
              <a:ext cx="914400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543800" y="0"/>
              <a:ext cx="16002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eat Brita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9000" y="685800"/>
              <a:ext cx="259092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rthern Ire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95680" y="1905120"/>
              <a:ext cx="1295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re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91320" y="220968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19920" y="914400"/>
              <a:ext cx="83808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695720" y="838080"/>
              <a:ext cx="38124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rcRect l="16669" t="25926" r="28475" b="11113"/>
          <a:stretch/>
        </p:blipFill>
        <p:spPr>
          <a:xfrm>
            <a:off x="0" y="36360"/>
            <a:ext cx="7924680" cy="6821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91320" y="228600"/>
            <a:ext cx="3200400" cy="24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 mountain range separates Spain and Fr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72200" y="68580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yrene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 rot="1123800">
            <a:off x="2057040" y="4343040"/>
            <a:ext cx="167652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stern Europe vs. Wester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hat do you use to determine which country is the most develop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733920" y="1600200"/>
          <a:ext cx="5257800" cy="4525920"/>
        </p:xfrm>
        <a:graphic>
          <a:graphicData uri="http://schemas.openxmlformats.org/drawingml/2006/table">
            <a:tbl>
              <a:tblPr/>
              <a:tblGrid>
                <a:gridCol w="1455480"/>
                <a:gridCol w="1592280"/>
                <a:gridCol w="22100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 per Cap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 Expecta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3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 txBox="1"/>
          <p:nvPr/>
        </p:nvSpPr>
        <p:spPr>
          <a:xfrm>
            <a:off x="304920" y="4952880"/>
            <a:ext cx="3124080" cy="120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DP is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Captai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2:34:51Z</dcterms:created>
  <dc:creator>CFISD</dc:creator>
  <dc:description/>
  <dc:language>en-US</dc:language>
  <cp:lastModifiedBy>CFISD</cp:lastModifiedBy>
  <dcterms:modified xsi:type="dcterms:W3CDTF">2008-12-04T18:45:43Z</dcterms:modified>
  <cp:revision>17</cp:revision>
  <dc:subject/>
  <dc:title>Europe Review</dc:title>
</cp:coreProperties>
</file>