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30FE-6309-4877-891B-7B19786C4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D6B0-C898-4472-A44D-0D9231E9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115C-8357-4E66-9A80-7DD83DC2B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11A9-4424-436F-82FB-756F9B18D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2FE2-ED44-47AA-9AB4-D7EBEC74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7D24-608A-48B1-86F3-49ACF8BB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98A6-3545-449E-8215-B33F06A1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343F-05FE-4BC5-BA01-04B254E5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770C-AF56-4EF9-9811-B9368D0C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F62D-4420-4CC7-AB68-B7CCECA5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F4FE-B481-46E1-923A-6ABCA63C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783A-32B7-49BB-B819-968693E0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A4BA-9A99-4AE5-9640-0B14CB24D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-away box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4. Pold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 – Many parts of the Netherlands should be completely under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there create polders to reclaim the land from the s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rcRect l="17013" t="8334" r="50696" b="11113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24080" y="2438280"/>
            <a:ext cx="1219320" cy="10670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 Tour/Multi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watch the GE Tour and multimedia answer the follow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are polders cre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2133720"/>
          <a:ext cx="8229600" cy="4405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der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d that should be underwater that is reclaimed and used by peopl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How is this Human-Environment Interactio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In which European country are they located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1523880" y="0"/>
            <a:ext cx="64771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aye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 Complete the task described in each box for the word Persecu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0880" y="1371600"/>
            <a:ext cx="8305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.E.I. = people changing the environmen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ders – Civil Engineering Bluepr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he chart to the rig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ach box sketch the four steps for creating pold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. 282 to help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48320" y="1600200"/>
          <a:ext cx="4038480" cy="45255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. Penins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ontinent of Europe is referred to as a “peninsula of peninsulas.” Explain what that means and how this type of landform has influenced Europe’s ec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26388" t="11113" r="0" b="175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8720" y="1484280"/>
            <a:ext cx="7740720" cy="5200560"/>
          </a:xfrm>
          <a:custGeom>
            <a:avLst/>
            <a:gdLst/>
            <a:ahLst/>
            <a:rect l="l" t="t" r="r" b="b"/>
            <a:pathLst>
              <a:path w="4876" h="3276">
                <a:moveTo>
                  <a:pt x="3807" y="606"/>
                </a:moveTo>
                <a:cubicBezTo>
                  <a:pt x="3792" y="596"/>
                  <a:pt x="3777" y="586"/>
                  <a:pt x="3762" y="576"/>
                </a:cubicBezTo>
                <a:cubicBezTo>
                  <a:pt x="3755" y="571"/>
                  <a:pt x="3740" y="561"/>
                  <a:pt x="3740" y="561"/>
                </a:cubicBezTo>
                <a:cubicBezTo>
                  <a:pt x="3705" y="491"/>
                  <a:pt x="3748" y="568"/>
                  <a:pt x="3702" y="509"/>
                </a:cubicBezTo>
                <a:cubicBezTo>
                  <a:pt x="3667" y="464"/>
                  <a:pt x="3683" y="470"/>
                  <a:pt x="3650" y="434"/>
                </a:cubicBezTo>
                <a:cubicBezTo>
                  <a:pt x="3636" y="418"/>
                  <a:pt x="3617" y="407"/>
                  <a:pt x="3605" y="389"/>
                </a:cubicBezTo>
                <a:cubicBezTo>
                  <a:pt x="3593" y="371"/>
                  <a:pt x="3586" y="358"/>
                  <a:pt x="3568" y="344"/>
                </a:cubicBezTo>
                <a:cubicBezTo>
                  <a:pt x="3554" y="333"/>
                  <a:pt x="3523" y="314"/>
                  <a:pt x="3523" y="314"/>
                </a:cubicBezTo>
                <a:cubicBezTo>
                  <a:pt x="3494" y="272"/>
                  <a:pt x="3455" y="250"/>
                  <a:pt x="3418" y="217"/>
                </a:cubicBezTo>
                <a:cubicBezTo>
                  <a:pt x="3387" y="190"/>
                  <a:pt x="3346" y="126"/>
                  <a:pt x="3306" y="112"/>
                </a:cubicBezTo>
                <a:cubicBezTo>
                  <a:pt x="3273" y="79"/>
                  <a:pt x="3294" y="93"/>
                  <a:pt x="3239" y="75"/>
                </a:cubicBezTo>
                <a:cubicBezTo>
                  <a:pt x="3178" y="55"/>
                  <a:pt x="3237" y="67"/>
                  <a:pt x="3186" y="45"/>
                </a:cubicBezTo>
                <a:cubicBezTo>
                  <a:pt x="3155" y="31"/>
                  <a:pt x="3087" y="9"/>
                  <a:pt x="3052" y="0"/>
                </a:cubicBezTo>
                <a:cubicBezTo>
                  <a:pt x="2980" y="3"/>
                  <a:pt x="2907" y="3"/>
                  <a:pt x="2835" y="8"/>
                </a:cubicBezTo>
                <a:cubicBezTo>
                  <a:pt x="2804" y="10"/>
                  <a:pt x="2773" y="44"/>
                  <a:pt x="2745" y="45"/>
                </a:cubicBezTo>
                <a:cubicBezTo>
                  <a:pt x="2481" y="54"/>
                  <a:pt x="2216" y="50"/>
                  <a:pt x="1952" y="52"/>
                </a:cubicBezTo>
                <a:cubicBezTo>
                  <a:pt x="1937" y="57"/>
                  <a:pt x="1921" y="60"/>
                  <a:pt x="1907" y="67"/>
                </a:cubicBezTo>
                <a:cubicBezTo>
                  <a:pt x="1881" y="81"/>
                  <a:pt x="1832" y="112"/>
                  <a:pt x="1832" y="112"/>
                </a:cubicBezTo>
                <a:cubicBezTo>
                  <a:pt x="1810" y="146"/>
                  <a:pt x="1778" y="162"/>
                  <a:pt x="1743" y="180"/>
                </a:cubicBezTo>
                <a:cubicBezTo>
                  <a:pt x="1714" y="217"/>
                  <a:pt x="1674" y="232"/>
                  <a:pt x="1645" y="269"/>
                </a:cubicBezTo>
                <a:cubicBezTo>
                  <a:pt x="1610" y="312"/>
                  <a:pt x="1587" y="358"/>
                  <a:pt x="1548" y="397"/>
                </a:cubicBezTo>
                <a:cubicBezTo>
                  <a:pt x="1535" y="436"/>
                  <a:pt x="1497" y="466"/>
                  <a:pt x="1473" y="501"/>
                </a:cubicBezTo>
                <a:cubicBezTo>
                  <a:pt x="1461" y="540"/>
                  <a:pt x="1431" y="563"/>
                  <a:pt x="1398" y="584"/>
                </a:cubicBezTo>
                <a:cubicBezTo>
                  <a:pt x="1332" y="680"/>
                  <a:pt x="1426" y="539"/>
                  <a:pt x="1376" y="628"/>
                </a:cubicBezTo>
                <a:cubicBezTo>
                  <a:pt x="1349" y="677"/>
                  <a:pt x="1362" y="640"/>
                  <a:pt x="1331" y="681"/>
                </a:cubicBezTo>
                <a:cubicBezTo>
                  <a:pt x="1315" y="702"/>
                  <a:pt x="1303" y="727"/>
                  <a:pt x="1286" y="748"/>
                </a:cubicBezTo>
                <a:cubicBezTo>
                  <a:pt x="1274" y="763"/>
                  <a:pt x="1261" y="778"/>
                  <a:pt x="1249" y="793"/>
                </a:cubicBezTo>
                <a:cubicBezTo>
                  <a:pt x="1233" y="836"/>
                  <a:pt x="1193" y="861"/>
                  <a:pt x="1167" y="898"/>
                </a:cubicBezTo>
                <a:cubicBezTo>
                  <a:pt x="1157" y="912"/>
                  <a:pt x="1154" y="929"/>
                  <a:pt x="1144" y="943"/>
                </a:cubicBezTo>
                <a:cubicBezTo>
                  <a:pt x="1136" y="955"/>
                  <a:pt x="1123" y="962"/>
                  <a:pt x="1114" y="973"/>
                </a:cubicBezTo>
                <a:cubicBezTo>
                  <a:pt x="1106" y="982"/>
                  <a:pt x="1099" y="992"/>
                  <a:pt x="1092" y="1002"/>
                </a:cubicBezTo>
                <a:cubicBezTo>
                  <a:pt x="1077" y="1024"/>
                  <a:pt x="1066" y="1051"/>
                  <a:pt x="1047" y="1070"/>
                </a:cubicBezTo>
                <a:cubicBezTo>
                  <a:pt x="1025" y="1092"/>
                  <a:pt x="997" y="1119"/>
                  <a:pt x="980" y="1145"/>
                </a:cubicBezTo>
                <a:cubicBezTo>
                  <a:pt x="971" y="1159"/>
                  <a:pt x="967" y="1176"/>
                  <a:pt x="957" y="1189"/>
                </a:cubicBezTo>
                <a:cubicBezTo>
                  <a:pt x="943" y="1207"/>
                  <a:pt x="920" y="1217"/>
                  <a:pt x="905" y="1234"/>
                </a:cubicBezTo>
                <a:cubicBezTo>
                  <a:pt x="846" y="1302"/>
                  <a:pt x="920" y="1222"/>
                  <a:pt x="860" y="1302"/>
                </a:cubicBezTo>
                <a:cubicBezTo>
                  <a:pt x="842" y="1325"/>
                  <a:pt x="817" y="1345"/>
                  <a:pt x="800" y="1369"/>
                </a:cubicBezTo>
                <a:cubicBezTo>
                  <a:pt x="759" y="1427"/>
                  <a:pt x="744" y="1560"/>
                  <a:pt x="673" y="1586"/>
                </a:cubicBezTo>
                <a:cubicBezTo>
                  <a:pt x="655" y="1612"/>
                  <a:pt x="643" y="1628"/>
                  <a:pt x="613" y="1638"/>
                </a:cubicBezTo>
                <a:cubicBezTo>
                  <a:pt x="571" y="1682"/>
                  <a:pt x="542" y="1738"/>
                  <a:pt x="523" y="1795"/>
                </a:cubicBezTo>
                <a:cubicBezTo>
                  <a:pt x="515" y="1819"/>
                  <a:pt x="486" y="1863"/>
                  <a:pt x="486" y="1863"/>
                </a:cubicBezTo>
                <a:cubicBezTo>
                  <a:pt x="479" y="1889"/>
                  <a:pt x="476" y="1921"/>
                  <a:pt x="463" y="1945"/>
                </a:cubicBezTo>
                <a:cubicBezTo>
                  <a:pt x="438" y="1993"/>
                  <a:pt x="378" y="2015"/>
                  <a:pt x="329" y="2027"/>
                </a:cubicBezTo>
                <a:cubicBezTo>
                  <a:pt x="284" y="2061"/>
                  <a:pt x="229" y="2088"/>
                  <a:pt x="187" y="2125"/>
                </a:cubicBezTo>
                <a:cubicBezTo>
                  <a:pt x="114" y="2190"/>
                  <a:pt x="169" y="2151"/>
                  <a:pt x="119" y="2184"/>
                </a:cubicBezTo>
                <a:cubicBezTo>
                  <a:pt x="143" y="2298"/>
                  <a:pt x="78" y="2359"/>
                  <a:pt x="52" y="2461"/>
                </a:cubicBezTo>
                <a:cubicBezTo>
                  <a:pt x="44" y="2494"/>
                  <a:pt x="48" y="2487"/>
                  <a:pt x="30" y="2514"/>
                </a:cubicBezTo>
                <a:cubicBezTo>
                  <a:pt x="20" y="2529"/>
                  <a:pt x="0" y="2558"/>
                  <a:pt x="0" y="2558"/>
                </a:cubicBezTo>
                <a:cubicBezTo>
                  <a:pt x="11" y="2654"/>
                  <a:pt x="28" y="2661"/>
                  <a:pt x="67" y="2738"/>
                </a:cubicBezTo>
                <a:cubicBezTo>
                  <a:pt x="68" y="2741"/>
                  <a:pt x="80" y="2795"/>
                  <a:pt x="82" y="2798"/>
                </a:cubicBezTo>
                <a:cubicBezTo>
                  <a:pt x="96" y="2818"/>
                  <a:pt x="117" y="2833"/>
                  <a:pt x="134" y="2850"/>
                </a:cubicBezTo>
                <a:cubicBezTo>
                  <a:pt x="144" y="2860"/>
                  <a:pt x="156" y="2869"/>
                  <a:pt x="164" y="2880"/>
                </a:cubicBezTo>
                <a:cubicBezTo>
                  <a:pt x="179" y="2900"/>
                  <a:pt x="191" y="2922"/>
                  <a:pt x="209" y="2940"/>
                </a:cubicBezTo>
                <a:cubicBezTo>
                  <a:pt x="216" y="2947"/>
                  <a:pt x="224" y="2954"/>
                  <a:pt x="231" y="2962"/>
                </a:cubicBezTo>
                <a:cubicBezTo>
                  <a:pt x="254" y="2988"/>
                  <a:pt x="258" y="3011"/>
                  <a:pt x="291" y="3022"/>
                </a:cubicBezTo>
                <a:cubicBezTo>
                  <a:pt x="365" y="3079"/>
                  <a:pt x="471" y="3097"/>
                  <a:pt x="561" y="3104"/>
                </a:cubicBezTo>
                <a:cubicBezTo>
                  <a:pt x="850" y="3166"/>
                  <a:pt x="1141" y="3194"/>
                  <a:pt x="1436" y="3202"/>
                </a:cubicBezTo>
                <a:cubicBezTo>
                  <a:pt x="1593" y="3232"/>
                  <a:pt x="1761" y="3180"/>
                  <a:pt x="1915" y="3149"/>
                </a:cubicBezTo>
                <a:cubicBezTo>
                  <a:pt x="1963" y="3139"/>
                  <a:pt x="2008" y="3127"/>
                  <a:pt x="2057" y="3119"/>
                </a:cubicBezTo>
                <a:cubicBezTo>
                  <a:pt x="2084" y="3115"/>
                  <a:pt x="2139" y="3104"/>
                  <a:pt x="2139" y="3104"/>
                </a:cubicBezTo>
                <a:cubicBezTo>
                  <a:pt x="2302" y="3109"/>
                  <a:pt x="2350" y="3114"/>
                  <a:pt x="2483" y="3127"/>
                </a:cubicBezTo>
                <a:cubicBezTo>
                  <a:pt x="2588" y="3151"/>
                  <a:pt x="2698" y="3153"/>
                  <a:pt x="2805" y="3164"/>
                </a:cubicBezTo>
                <a:cubicBezTo>
                  <a:pt x="2964" y="3222"/>
                  <a:pt x="3313" y="3187"/>
                  <a:pt x="3313" y="3187"/>
                </a:cubicBezTo>
                <a:cubicBezTo>
                  <a:pt x="3354" y="3197"/>
                  <a:pt x="3390" y="3204"/>
                  <a:pt x="3433" y="3209"/>
                </a:cubicBezTo>
                <a:cubicBezTo>
                  <a:pt x="3519" y="3232"/>
                  <a:pt x="3621" y="3239"/>
                  <a:pt x="3710" y="3247"/>
                </a:cubicBezTo>
                <a:cubicBezTo>
                  <a:pt x="3833" y="3276"/>
                  <a:pt x="3767" y="3262"/>
                  <a:pt x="4009" y="3254"/>
                </a:cubicBezTo>
                <a:cubicBezTo>
                  <a:pt x="4108" y="3236"/>
                  <a:pt x="4205" y="3216"/>
                  <a:pt x="4301" y="3187"/>
                </a:cubicBezTo>
                <a:cubicBezTo>
                  <a:pt x="4333" y="3154"/>
                  <a:pt x="4369" y="3150"/>
                  <a:pt x="4413" y="3142"/>
                </a:cubicBezTo>
                <a:cubicBezTo>
                  <a:pt x="4429" y="3132"/>
                  <a:pt x="4450" y="3131"/>
                  <a:pt x="4465" y="3119"/>
                </a:cubicBezTo>
                <a:cubicBezTo>
                  <a:pt x="4485" y="3102"/>
                  <a:pt x="4489" y="3074"/>
                  <a:pt x="4503" y="3052"/>
                </a:cubicBezTo>
                <a:cubicBezTo>
                  <a:pt x="4528" y="3012"/>
                  <a:pt x="4562" y="2977"/>
                  <a:pt x="4578" y="2932"/>
                </a:cubicBezTo>
                <a:cubicBezTo>
                  <a:pt x="4589" y="2861"/>
                  <a:pt x="4605" y="2783"/>
                  <a:pt x="4630" y="2715"/>
                </a:cubicBezTo>
                <a:cubicBezTo>
                  <a:pt x="4648" y="2667"/>
                  <a:pt x="4674" y="2622"/>
                  <a:pt x="4690" y="2573"/>
                </a:cubicBezTo>
                <a:cubicBezTo>
                  <a:pt x="4706" y="2524"/>
                  <a:pt x="4719" y="2477"/>
                  <a:pt x="4742" y="2431"/>
                </a:cubicBezTo>
                <a:cubicBezTo>
                  <a:pt x="4765" y="2327"/>
                  <a:pt x="4820" y="2240"/>
                  <a:pt x="4847" y="2139"/>
                </a:cubicBezTo>
                <a:cubicBezTo>
                  <a:pt x="4842" y="1912"/>
                  <a:pt x="4876" y="1718"/>
                  <a:pt x="4750" y="1534"/>
                </a:cubicBezTo>
                <a:cubicBezTo>
                  <a:pt x="4736" y="1482"/>
                  <a:pt x="4747" y="1513"/>
                  <a:pt x="4712" y="1444"/>
                </a:cubicBezTo>
                <a:cubicBezTo>
                  <a:pt x="4701" y="1423"/>
                  <a:pt x="4702" y="1397"/>
                  <a:pt x="4690" y="1376"/>
                </a:cubicBezTo>
                <a:cubicBezTo>
                  <a:pt x="4680" y="1359"/>
                  <a:pt x="4662" y="1348"/>
                  <a:pt x="4652" y="1332"/>
                </a:cubicBezTo>
                <a:cubicBezTo>
                  <a:pt x="4630" y="1299"/>
                  <a:pt x="4611" y="1264"/>
                  <a:pt x="4578" y="1242"/>
                </a:cubicBezTo>
                <a:cubicBezTo>
                  <a:pt x="4566" y="1209"/>
                  <a:pt x="4546" y="1193"/>
                  <a:pt x="4525" y="1167"/>
                </a:cubicBezTo>
                <a:cubicBezTo>
                  <a:pt x="4470" y="1099"/>
                  <a:pt x="4511" y="1130"/>
                  <a:pt x="4465" y="1100"/>
                </a:cubicBezTo>
                <a:cubicBezTo>
                  <a:pt x="4431" y="1053"/>
                  <a:pt x="4384" y="1028"/>
                  <a:pt x="4338" y="995"/>
                </a:cubicBezTo>
                <a:cubicBezTo>
                  <a:pt x="4262" y="941"/>
                  <a:pt x="4198" y="881"/>
                  <a:pt x="4106" y="853"/>
                </a:cubicBezTo>
                <a:cubicBezTo>
                  <a:pt x="4061" y="819"/>
                  <a:pt x="4010" y="795"/>
                  <a:pt x="3964" y="763"/>
                </a:cubicBezTo>
                <a:cubicBezTo>
                  <a:pt x="3921" y="732"/>
                  <a:pt x="3940" y="706"/>
                  <a:pt x="3889" y="681"/>
                </a:cubicBezTo>
                <a:cubicBezTo>
                  <a:pt x="3871" y="653"/>
                  <a:pt x="3843" y="625"/>
                  <a:pt x="3815" y="606"/>
                </a:cubicBezTo>
                <a:cubicBezTo>
                  <a:pt x="3796" y="579"/>
                  <a:pt x="3770" y="569"/>
                  <a:pt x="3747" y="54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743200" y="1295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600" y="56386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267080" y="59436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28600"/>
            <a:ext cx="60195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urope is one big Peninsul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rcRect l="27277" t="8418" r="10864" b="208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76720" y="1981080"/>
            <a:ext cx="1143000" cy="1143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0848200">
            <a:off x="5407200" y="4410000"/>
            <a:ext cx="1982520" cy="2133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4648320"/>
            <a:ext cx="2286000" cy="19047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665800">
            <a:off x="3511080" y="20520"/>
            <a:ext cx="1800360" cy="25909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8864600">
            <a:off x="4046400" y="4566600"/>
            <a:ext cx="1120680" cy="1981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2133720"/>
          <a:ext cx="8229600" cy="4343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1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insul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land surrounded by water on 3 sides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Examples (provide 2 in addition to mi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ri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1523880" y="0"/>
            <a:ext cx="64771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aye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 Complete the task described in each box for the word Persecu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peninsulas influence Europe’s econom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natural harbors that allowed people to build p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are used for global tra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743200" y="4343400"/>
            <a:ext cx="259092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. Penins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ontinent of Europe is referred to as a “peninsula of peninsulas.” Explain what that means and how this type of landform has influenced Europe’s ec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487692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- Create a cut-away box answering this question n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t-Away Box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in the very back of your notebook, resources section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must be in a complete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not cover another physical feature that is grad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ust have an arrow that points directly to the physical feature in the ques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rcRect l="27277" t="8418" r="10864" b="208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629400" y="0"/>
            <a:ext cx="251460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 is one large peninsula and has many smaller peninsulas branching off it.  They help global trade by creating natural harbors and por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647960" y="762120"/>
            <a:ext cx="198108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2:50:15Z</dcterms:created>
  <dc:creator>CFISD</dc:creator>
  <dc:description/>
  <dc:language>en-US</dc:language>
  <cp:lastModifiedBy>CFISD</cp:lastModifiedBy>
  <dcterms:modified xsi:type="dcterms:W3CDTF">2008-11-11T15:03:58Z</dcterms:modified>
  <cp:revision>8</cp:revision>
  <dc:subject/>
  <dc:title>Europe Map</dc:title>
</cp:coreProperties>
</file>