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BFF-2A29-4A76-B7F6-BD6ADC81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19D-ED4B-4EDD-A863-0F7EDC18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D9E-7555-43FD-8E47-517B0E61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17D-7C0D-4EDE-A9A7-49F5A2BC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352-6204-443A-AC64-C227E739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1AD-515B-4CF6-A4BB-4E037084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47A-F72D-41DC-96FF-1BC4587A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F46C-8708-40F0-A9A3-E1670A3E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F9BA-425F-47E4-AEDE-42B2F7D2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6B2-AB35-41E5-90EA-BA90A94F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AC4-C447-429C-9A43-C5E30165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CDC-F84E-47F1-AD09-C427FE99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431B-ADF5-488D-82C7-689D5836E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4784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5029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entality, Distance Dec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Environment Inte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ow humans have negatively impacted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ll of Commun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w Russ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Russia after the shift to capit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omparison of life before and after the fall of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does Russia’s geography effect Russia economically and cultur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ve the policies of the Soviet Union impacted the environ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are the effects of Russia’s shift to a market econom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icture of Human-Environment Interaction damaging the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icture of a person owning his/her own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533520"/>
          <a:ext cx="8839440" cy="6087960"/>
        </p:xfrm>
        <a:graphic>
          <a:graphicData uri="http://schemas.openxmlformats.org/drawingml/2006/table">
            <a:tbl>
              <a:tblPr/>
              <a:tblGrid>
                <a:gridCol w="2863800"/>
                <a:gridCol w="1784520"/>
                <a:gridCol w="2133720"/>
                <a:gridCol w="2057400"/>
              </a:tblGrid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2/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Russia Review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Russia Review Day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How does Russia’s geography effect Russia economically and culturally?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ve the policies of the Soviet Union impacted the environment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are the effects of Russia’s shift to a market economy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5257800" y="4705200"/>
            <a:ext cx="373392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ictur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icture of Human-Environment Interaction damaging the environ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One picture of a person owning his/her own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dies of water you need to label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tic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l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p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ga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ross out Bering Strait, Bering Sea, Lake Baik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2-09T20:54:16Z</dcterms:modified>
  <cp:revision>15</cp:revision>
  <dc:subject/>
  <dc:title>US and Canada</dc:title>
</cp:coreProperties>
</file>