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E8E-92AD-457C-962D-9FF5AFA71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8994-2656-496E-80F3-F5BAE201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D04A-DCA2-4241-9645-C6475DAA9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B651-0773-4E44-AF6C-C8F2F91A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D038-15C7-4160-851A-3BAF0840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050-05C1-4068-97E3-17D5D3D1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4A42-1E8A-4CC5-9B0C-7B7AD2EA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6E49-A300-43A5-9E5F-7A508A63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AE3A-9F12-4A7E-833A-C03467FF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F38-FFB5-4F37-B394-2BEB125F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390-50C2-46C4-9064-CB572105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71E5-58BF-447D-A598-7B9CF55D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C636-5D68-45BF-B57B-ED09EE2DD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4784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p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entality, Distance Dec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Environment Inter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ow humans have negatively impacted th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ew Russi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Russia after the shift to capit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omparison of life before and after the fall of commu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Russia’s geography effect Russia economically and cultur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ve the policies of the Soviet Union impacted the environmen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are the effects of Russia’s shift to a market econom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ctu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icture of a person owning his/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608796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2/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Russia Review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Russia Review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6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ow does Russia’s geography effect Russia economically and culturally?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ve the policies of the Soviet Union impacted the environment?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are the effects of Russia’s shift to a market economy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5257800" y="4705200"/>
            <a:ext cx="3733920" cy="256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ictur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picture of Human-Environment Interaction damaging the environ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ne picture of a person owning his/her own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 you need to label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t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tic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ga R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ross out Bering Strait, Bering Sea, Lake Baik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54:16Z</dcterms:modified>
  <cp:revision>15</cp:revision>
  <dc:subject/>
  <dc:title>US and Canada</dc:title>
</cp:coreProperties>
</file>