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D2E-48F9-4904-A8AF-F3718B4B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B16-B34A-4581-829A-62FC790F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21A-6B06-4D1E-A1AD-9C6C938C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173-CD23-49A8-87A9-050EFBF7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7DE-F7B6-4945-A5C9-42C3F98C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F62-6D8A-4C88-8B65-8CAEC00B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E34-537A-436E-B354-1108A71A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DBA-28BB-4C64-81DB-3FE31406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467-3774-432C-99EB-8CD389DB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719-91C6-4F56-AD35-553B5F4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D10-F00E-4254-A9F7-BC6290F2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A31-1117-4F45-902F-2D12B60F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BCC3-69DA-4593-B75D-CDDCE41BF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4784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ity, Distance Dec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ow humans have negatively impacted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w Russ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ussia after the shift to capit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omparison of life before and after the fall of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does Russia’s geography effect Russia economically and cultur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ve the policies of the Soviet Union impacted the environ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are the effects of Russia’s shift to a market econom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a person owning his/her ow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608796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2/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Russia Review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Russia Review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How does Russia’s geography effect Russia economically and culturally?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ve the policies of the Soviet Union impacted the environment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are the effects of Russia’s shift to a market econom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257800" y="4705200"/>
            <a:ext cx="373392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ctur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ne picture of a person owning his/her own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 you need to label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t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g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ross out Bering Strait, Bering Sea, Lake Baik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54:16Z</dcterms:modified>
  <cp:revision>15</cp:revision>
  <dc:subject/>
  <dc:title>US and Canada</dc:title>
</cp:coreProperties>
</file>