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F92E-27EB-489D-AFE4-C384DE0D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6D01-B320-4A4D-8877-063E317C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BAD4-5CEE-451E-98A9-2861A210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4835-CDC8-4EF4-85C5-9CB9DA5D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D77-1476-41D7-9F9A-BBE7980A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B05-D3AD-4E7E-A3E3-806C3AB5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F1B-6173-4A6D-AE8C-FE33A24A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4A0A-D7E3-4064-9B14-EE7B5362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F3D-B8D4-4DB6-A4D6-BF48870C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8810-EEC3-4576-B0C4-11222249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AFD-3906-46F0-B76B-40159C3C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272-396B-4157-B211-DE9E5576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295F-EFCC-4FBA-AF79-FEE693B60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4784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5029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entality, Distance Dec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Environment Inte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ow humans have negatively impacted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ll of Commun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w Russ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Russia after the shift to capit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omparison of life before and after the fall of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does Russia’s geography effect Russia economically and cultur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ve the policies of the Soviet Union impacted the environ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are the effects of Russia’s shift to a market econom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icture of Human-Environment Interaction damaging the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icture of a person owning his/her own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533520"/>
          <a:ext cx="8839440" cy="6087960"/>
        </p:xfrm>
        <a:graphic>
          <a:graphicData uri="http://schemas.openxmlformats.org/drawingml/2006/table">
            <a:tbl>
              <a:tblPr/>
              <a:tblGrid>
                <a:gridCol w="2863800"/>
                <a:gridCol w="1784520"/>
                <a:gridCol w="2133720"/>
                <a:gridCol w="2057400"/>
              </a:tblGrid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2/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Russia Review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Russia Review Day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How does Russia’s geography effect Russia economically and culturally?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ve the policies of the Soviet Union impacted the environment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are the effects of Russia’s shift to a market economy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5257800" y="4705200"/>
            <a:ext cx="373392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ictur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icture of Human-Environment Interaction damaging the environ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One picture of a person owning his/her own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dies of water you need to label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tic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l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p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ga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ross out Bering Strait, Bering Sea, Lake Baik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2-09T20:54:16Z</dcterms:modified>
  <cp:revision>15</cp:revision>
  <dc:subject/>
  <dc:title>US and Canada</dc:title>
</cp:coreProperties>
</file>