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D00-0768-4F1A-9E88-5D94AFD3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795-3C94-465C-AE02-EDD6DF8F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9AE-1DA2-4F85-ABE0-95D1DB3A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36F-E452-4CBC-9F5D-9582351C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298-9939-46A5-9724-256E85A8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EC2-E799-4C97-8CEE-F00E9513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6B5-E29D-405D-877A-A095FC1A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E70-EA98-450B-B407-771C9D96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0E2-17E2-4DEC-9334-E87A6061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96B-E610-47F5-854D-0830A5D2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2C1-33CF-49C6-B5B7-F451599E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147-B4E8-48EB-9726-23BAA957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2A1F-473E-4678-A08C-F9DA56549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4784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5029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ity, Distance Dec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ow humans have negatively impacted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ll of Commun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w Russ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ussia after the shift to capit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omparison of life before and after the fall of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does Russia’s geography effect Russia economically and cultur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ve the policies of the Soviet Union impacted the environ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are the effects of Russia’s shift to a market econom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icture of Human-Environment Interaction damaging the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icture of a person owning his/her ow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33520"/>
          <a:ext cx="8839440" cy="6087960"/>
        </p:xfrm>
        <a:graphic>
          <a:graphicData uri="http://schemas.openxmlformats.org/drawingml/2006/table">
            <a:tbl>
              <a:tblPr/>
              <a:tblGrid>
                <a:gridCol w="2863800"/>
                <a:gridCol w="1784520"/>
                <a:gridCol w="2133720"/>
                <a:gridCol w="2057400"/>
              </a:tblGrid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2/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Russia Review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Russia Review Day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How does Russia’s geography effect Russia economically and culturally?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ve the policies of the Soviet Union impacted the environment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are the effects of Russia’s shift to a market econom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257800" y="4705200"/>
            <a:ext cx="373392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ctur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icture of Human-Environment Interaction damaging the environ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One picture of a person owning his/her own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ies of water you need to label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t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l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ga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ross out Bering Strait, Bering Sea, Lake Baik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2-09T20:54:16Z</dcterms:modified>
  <cp:revision>15</cp:revision>
  <dc:subject/>
  <dc:title>US and Canada</dc:title>
</cp:coreProperties>
</file>