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EB3-8611-415C-BF58-34E9D3E8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CFE-8AF9-4349-AB12-E1ADB943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932-7A6F-4D7E-BC90-1DCC6A7B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F6E-28FF-40F9-94CC-DA0C59C7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108E-1275-489F-91F8-1DF58CC8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D2D5-14AA-4B30-AA50-A56A2CE4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732-DA9D-45BC-A33D-5EF58494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ACE-7113-4174-B1BF-A055ABC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1C2-A970-4CF1-99DA-8E642D3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8A48-94F6-4FDE-85F8-D0EFD709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9211-12B5-47DA-B9D4-265DEAED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889-0D48-49E1-AA35-186CDD49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9E72-1CDB-4A42-87B5-CD12ABE9D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4784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ity,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humans have negatively impacte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Russ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ussia after the shift to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mparison of life before and after the fall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Russia’s geography effect Russia economically and cultur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ve the policies of the Soviet Union impacted the environ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are the effects of Russia’s shift to a market econom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a person owning his/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608796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2/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Russia Review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Russia Review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ow does Russia’s geography effect Russia economically and culturally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ve the policies of the Soviet Union impacted the environmen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are the effects of Russia’s shift to a market econom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257800" y="4705200"/>
            <a:ext cx="373392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ctu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picture of a person owning his/her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 you need to lab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oss out Bering Strait, Bering Sea, Lake Bai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54:16Z</dcterms:modified>
  <cp:revision>15</cp:revision>
  <dc:subject/>
  <dc:title>US and Canada</dc:title>
</cp:coreProperties>
</file>