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301F-65BB-4C53-8F63-28D488443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01DA-B7FC-4430-AC39-F9B96194A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B956-5E3C-4DAA-A975-B26B07C78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D572-9D90-499E-936A-1330CF524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61C7F-ABE1-42D7-99E3-1EDB7277A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FBE9E-CA8D-4AB5-BA53-69D2A08E7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C19D9-AA65-4617-83A2-3F36A6092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47E02-7656-4BEE-AC6B-930086044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1AD7C-F7D1-4BCD-A75B-BE2801CFA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990DC-F488-44C9-93B7-8AE72746D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1FA7E-7817-413B-AFE9-E3639D88F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4B45-AF18-4C9E-A40B-B160F77AE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5839A-B0C0-4BA2-901D-86BF52347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EF753-6CAE-496C-A78E-BAD508B8F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10C24-3510-42D4-B337-A151BEE6F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1A855-5BEC-4AB9-88E0-1EAEE42D5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A0E83-89A9-4D0A-ABD1-3858F3944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2B37-716C-4542-8BC4-79D11E73D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4FF2-E03A-4C65-8539-9189DAB5A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23C8-D09C-47DE-9CB3-0BEBBB3FD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DAC7-EA54-4FA3-BDA7-BCBCDADD4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6DD5-AAAD-441E-A873-678B203E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E97A-187F-46F0-8561-CB4127F1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AB10-4857-44DD-B972-380921E9D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319C2-9D8F-4DA6-A3E1-F993C355D1AA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D4896-16A0-431F-83C0-E5B20F273A3F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thecornerreport.com/media/casa%2520landscape.JPG&amp;imgrefurl=http://www.thecornerreport.com/index.php%3Fcat%3D41&amp;h=140&amp;w=250&amp;sz=14&amp;hl=en&amp;start=2&amp;tbnid=SeVVAjIpnpazWM:&amp;tbnh=62&amp;tbnw=111&amp;prev=/images%3Fq%3Dmexican%2Bmaquiladoras%26svnum%3D10%26hl%3Den%26lr%3D%26sa%3DG" TargetMode="External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Economics of Latin America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6" name="" descr="Acapulco Beach, Mexico. Foto: L. Bobke"/>
          <p:cNvPicPr/>
          <p:nvPr/>
        </p:nvPicPr>
        <p:blipFill>
          <a:blip r:embed="rId1"/>
          <a:stretch/>
        </p:blipFill>
        <p:spPr>
          <a:xfrm>
            <a:off x="1447920" y="2438280"/>
            <a:ext cx="624816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Economic Growth after Colonialism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Caribbean island resorts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Generates income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Provides jobs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3" name="" descr="GUATS03I028&#13;&#10;© David Dudenhoefer"/>
          <p:cNvPicPr/>
          <p:nvPr/>
        </p:nvPicPr>
        <p:blipFill>
          <a:blip r:embed="rId1"/>
          <a:stretch/>
        </p:blipFill>
        <p:spPr>
          <a:xfrm>
            <a:off x="6095880" y="4724280"/>
            <a:ext cx="2819520" cy="18226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PANAS01I023&#13;&#10;© David Dudenhoefer"/>
          <p:cNvPicPr/>
          <p:nvPr/>
        </p:nvPicPr>
        <p:blipFill>
          <a:blip r:embed="rId2"/>
          <a:stretch/>
        </p:blipFill>
        <p:spPr>
          <a:xfrm>
            <a:off x="609480" y="3886200"/>
            <a:ext cx="2895840" cy="19112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PANAS01M053&#13;&#10;© David Dudenhoefer"/>
          <p:cNvPicPr/>
          <p:nvPr/>
        </p:nvPicPr>
        <p:blipFill>
          <a:blip r:embed="rId3"/>
          <a:stretch/>
        </p:blipFill>
        <p:spPr>
          <a:xfrm>
            <a:off x="6477120" y="914400"/>
            <a:ext cx="2361960" cy="15588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USPRS02O005&#13;&#10;© Robert Frerck"/>
          <p:cNvPicPr/>
          <p:nvPr/>
        </p:nvPicPr>
        <p:blipFill>
          <a:blip r:embed="rId4"/>
          <a:stretch/>
        </p:blipFill>
        <p:spPr>
          <a:xfrm>
            <a:off x="3657600" y="4952880"/>
            <a:ext cx="2057400" cy="1386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USPRS02B054&#13;&#10;© Robert Frerck"/>
          <p:cNvPicPr/>
          <p:nvPr/>
        </p:nvPicPr>
        <p:blipFill>
          <a:blip r:embed="rId5"/>
          <a:stretch/>
        </p:blipFill>
        <p:spPr>
          <a:xfrm>
            <a:off x="5257800" y="2819520"/>
            <a:ext cx="266688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NAFTA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North American Free Trade Agreement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Important trade agreement creating a huge zone of cooperation on trade and economic issues in North America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Mexico trying to reduce poverty and increase industrialization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Maquiladoras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Factories in Mexico used to assemble imported materials into finished products and export them mostly back to the US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Located mainly along northern border of Mexico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Examples of goods-electronic equipment, clothing, furniture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Maquiladoras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57800" y="2057400"/>
            <a:ext cx="3124080" cy="17445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5334120" y="4191120"/>
            <a:ext cx="3124080" cy="16970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Maquila workers- the key element of the maquila industry "/>
          <p:cNvPicPr/>
          <p:nvPr/>
        </p:nvPicPr>
        <p:blipFill>
          <a:blip r:embed="rId4"/>
          <a:stretch/>
        </p:blipFill>
        <p:spPr>
          <a:xfrm>
            <a:off x="380880" y="2286000"/>
            <a:ext cx="4724640" cy="34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Where people live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Central America-agriculture still important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Caribbean islands-tourism important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Would these jobs be found in urban or rural areas?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Informal Economy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jobs found in the tourism industry that do not include benefits or protection of workers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0" name="" descr="MEXCS16J111&#13;&#10;© Galen Rowell"/>
          <p:cNvPicPr/>
          <p:nvPr/>
        </p:nvPicPr>
        <p:blipFill>
          <a:blip r:embed="rId1"/>
          <a:stretch/>
        </p:blipFill>
        <p:spPr>
          <a:xfrm>
            <a:off x="228600" y="4038480"/>
            <a:ext cx="2895480" cy="19306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MEXCS16K052&#13;&#10;© Robert Frerck"/>
          <p:cNvPicPr/>
          <p:nvPr/>
        </p:nvPicPr>
        <p:blipFill>
          <a:blip r:embed="rId2"/>
          <a:stretch/>
        </p:blipFill>
        <p:spPr>
          <a:xfrm>
            <a:off x="5943600" y="4114800"/>
            <a:ext cx="2971800" cy="20001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MEXCS18H013&#13;&#10;© Robert Frerck"/>
          <p:cNvPicPr/>
          <p:nvPr/>
        </p:nvPicPr>
        <p:blipFill>
          <a:blip r:embed="rId3"/>
          <a:stretch/>
        </p:blipFill>
        <p:spPr>
          <a:xfrm>
            <a:off x="3200400" y="5029200"/>
            <a:ext cx="266688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FTAA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Free Trade Area of the Americas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Offers greater trading opportunities, world markets and economic growth for member countries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To include all countries of North and South America except Cuba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esigned to expand NAFTA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ercosu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Economic common market that began operating in the southern cone of South America in 1995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Goals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—to make members’ economies more stable,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ncrease trade in the region,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o use some money to improve the most need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Greatest South American success Story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country of Chile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articipation in global trad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bundant Natural Resourc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Corrup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Verdana"/>
              </a:rPr>
              <a:t>Corruption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- Acting dishonestly or immorally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 history of corruption is one reason most Latin American countries are still developing economically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ffcc"/>
                </a:solidFill>
                <a:latin typeface="Arial"/>
              </a:rPr>
              <a:t>Panama Canal</a:t>
            </a:r>
            <a:endParaRPr b="0" lang="en-US" sz="5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9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anama Canal is a system of locks that shortens the travel time and distance from the Pacific Ocean to the Atlantic Ocea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anama Canal is an economic chokepoint in Latin America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876920" y="2286000"/>
            <a:ext cx="403848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Panama Canal Video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33520" y="1276200"/>
            <a:ext cx="784836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8526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OPEC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Organization of Petroleum Exporting Countri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Venezuela is a membe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oney from high oil prices has allowed them to purchase warship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Venezuela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heck out this article and watch the clip: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http://news.bbc.co.uk/2/hi/americas/7628899.stm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Questions: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1. What are the ships going to do?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2. What implications does this have for the US?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Natural Resourc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aeaea"/>
                </a:solidFill>
                <a:uFillTx/>
                <a:latin typeface="Arial Narrow"/>
              </a:rPr>
              <a:t>Minerals:</a:t>
            </a: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gold </a:t>
            </a: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iron</a:t>
            </a: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copper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silver</a:t>
            </a: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nickel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438280" y="1295280"/>
            <a:ext cx="3743280" cy="28958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270480" y="2362320"/>
            <a:ext cx="2873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Natural Resourc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4000" spc="-1" strike="noStrike" u="sng">
                <a:solidFill>
                  <a:srgbClr val="eaeaea"/>
                </a:solidFill>
                <a:uFillTx/>
                <a:latin typeface="Arial Narrow"/>
              </a:rPr>
              <a:t>Agriculture: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good climate</a:t>
            </a: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fertile soil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2" name="" descr="MEXCS11J008&#13;&#10;© Robert Frerck"/>
          <p:cNvPicPr/>
          <p:nvPr/>
        </p:nvPicPr>
        <p:blipFill>
          <a:blip r:embed="rId1"/>
          <a:stretch/>
        </p:blipFill>
        <p:spPr>
          <a:xfrm>
            <a:off x="4191120" y="1143000"/>
            <a:ext cx="4219560" cy="28702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MEXCS11F005&#13;&#10;© Russell Gordon"/>
          <p:cNvPicPr/>
          <p:nvPr/>
        </p:nvPicPr>
        <p:blipFill>
          <a:blip r:embed="rId2"/>
          <a:stretch/>
        </p:blipFill>
        <p:spPr>
          <a:xfrm>
            <a:off x="1676520" y="3429000"/>
            <a:ext cx="2340000" cy="32004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MEXCS11B018&#13;&#10;© Russell Gordon"/>
          <p:cNvPicPr/>
          <p:nvPr/>
        </p:nvPicPr>
        <p:blipFill>
          <a:blip r:embed="rId3"/>
          <a:stretch/>
        </p:blipFill>
        <p:spPr>
          <a:xfrm>
            <a:off x="5257800" y="4114800"/>
            <a:ext cx="25909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5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lonial Influences in the Caribbea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aeaea"/>
                </a:solidFill>
                <a:uFillTx/>
                <a:latin typeface="Arial Narrow"/>
              </a:rPr>
              <a:t>Spanish: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Established sugar plantations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aeaea"/>
                </a:solidFill>
                <a:uFillTx/>
                <a:latin typeface="Arial Narrow"/>
              </a:rPr>
              <a:t>Indians and Africans: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Used as forced labor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7" name="" descr="MEXCS11A059&#13;&#10;© Robert Frerck"/>
          <p:cNvPicPr/>
          <p:nvPr/>
        </p:nvPicPr>
        <p:blipFill>
          <a:blip r:embed="rId1"/>
          <a:stretch/>
        </p:blipFill>
        <p:spPr>
          <a:xfrm>
            <a:off x="5334120" y="3809880"/>
            <a:ext cx="3124080" cy="21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ash Crop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Crops grown for direct sale, not for use in the region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Examples: sugar, bananas, citrus fruits, coffee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Benefit land owners, not workers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0" name="" descr="MEXCL13C001&#13;&#10;© Robert Frerck"/>
          <p:cNvPicPr/>
          <p:nvPr/>
        </p:nvPicPr>
        <p:blipFill>
          <a:blip r:embed="rId1"/>
          <a:stretch/>
        </p:blipFill>
        <p:spPr>
          <a:xfrm>
            <a:off x="5715000" y="4529160"/>
            <a:ext cx="304812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2T02:43:20Z</dcterms:created>
  <dc:creator>Admin</dc:creator>
  <dc:description/>
  <dc:language>en-US</dc:language>
  <cp:lastModifiedBy>CFISD</cp:lastModifiedBy>
  <dcterms:modified xsi:type="dcterms:W3CDTF">2009-02-03T13:29:24Z</dcterms:modified>
  <cp:revision>13</cp:revision>
  <dc:subject/>
  <dc:title>Economics of Latin America</dc:title>
</cp:coreProperties>
</file>