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F34-83E0-4955-8741-433F8DF8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645-F595-4F06-BF24-3BFFBA6C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774D-8F1B-4A04-8CCB-7DE12F7C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86E-CA26-42EA-9335-74FB91B10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0AC1-1FE4-4563-9D67-32071B73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8906-00B2-4F05-B4FA-C71CCBCE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51E1-8803-4B0F-BFCA-C2807030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D7E7-D03A-4F7A-98F3-49AC49A5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AB68-A3F5-4284-BBF5-DFBA3FB1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65ED-32A7-4804-908D-9913E191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964B-0840-4420-AA18-D552B611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FCC-8332-4669-94C4-D22FBD0D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3D4E-6C43-4FAC-94DC-2BA43425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A60F-09B7-44C4-B1E2-A6915332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CED2-B656-4C87-BDB5-39374FC3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D415-22DB-4B21-88C5-5501F9F6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16D0-FCA9-47CD-A9A7-8ACDC8E3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B144-FD1C-4E25-9FFF-EA88C3EF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52E5-C330-4FB3-A0A0-7AAF8EAD9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E37-6AE2-42F2-A7C9-51F4BE55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D3D-3796-49A3-9CEB-997CDC6B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4B8-7DA9-4C31-ACCC-6558D713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0122-6E71-4609-8BB7-41F80C12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D22A-3045-47C4-BF87-D7D25A4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09B2-9572-4114-BF30-EE1B0324442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E86F-7188-479D-8F53-8A1090136DC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thecornerreport.com/media/casa%2520landscape.JPG&amp;imgrefurl=http://www.thecornerreport.com/index.php%3Fcat%3D41&amp;h=140&amp;w=250&amp;sz=14&amp;hl=en&amp;start=2&amp;tbnid=SeVVAjIpnpazWM:&amp;tbnh=62&amp;tbnw=111&amp;prev=/images%3Fq%3Dmexican%2Bmaquiladoras%26svnum%3D10%26hl%3Den%26lr%3D%26sa%3DG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Economics of Latin America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" descr="Acapulco Beach, Mexico. Foto: L. Bobke"/>
          <p:cNvPicPr/>
          <p:nvPr/>
        </p:nvPicPr>
        <p:blipFill>
          <a:blip r:embed="rId1"/>
          <a:stretch/>
        </p:blipFill>
        <p:spPr>
          <a:xfrm>
            <a:off x="1447920" y="2438280"/>
            <a:ext cx="624816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Economic Growth after Colonialism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 resort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Generates inco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Provides job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GUATS03I028&#13;&#10;© David Dudenhoefer"/>
          <p:cNvPicPr/>
          <p:nvPr/>
        </p:nvPicPr>
        <p:blipFill>
          <a:blip r:embed="rId1"/>
          <a:stretch/>
        </p:blipFill>
        <p:spPr>
          <a:xfrm>
            <a:off x="6095880" y="4724280"/>
            <a:ext cx="2819520" cy="18226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PANAS01I023&#13;&#10;© David Dudenhoefer"/>
          <p:cNvPicPr/>
          <p:nvPr/>
        </p:nvPicPr>
        <p:blipFill>
          <a:blip r:embed="rId2"/>
          <a:stretch/>
        </p:blipFill>
        <p:spPr>
          <a:xfrm>
            <a:off x="609480" y="3886200"/>
            <a:ext cx="2895840" cy="19112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PANAS01M053&#13;&#10;© David Dudenhoefer"/>
          <p:cNvPicPr/>
          <p:nvPr/>
        </p:nvPicPr>
        <p:blipFill>
          <a:blip r:embed="rId3"/>
          <a:stretch/>
        </p:blipFill>
        <p:spPr>
          <a:xfrm>
            <a:off x="6477120" y="914400"/>
            <a:ext cx="2361960" cy="1558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USPRS02O005&#13;&#10;© Robert Frerck"/>
          <p:cNvPicPr/>
          <p:nvPr/>
        </p:nvPicPr>
        <p:blipFill>
          <a:blip r:embed="rId4"/>
          <a:stretch/>
        </p:blipFill>
        <p:spPr>
          <a:xfrm>
            <a:off x="3657600" y="4952880"/>
            <a:ext cx="2057400" cy="1386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USPRS02B054&#13;&#10;© Robert Frerck"/>
          <p:cNvPicPr/>
          <p:nvPr/>
        </p:nvPicPr>
        <p:blipFill>
          <a:blip r:embed="rId5"/>
          <a:stretch/>
        </p:blipFill>
        <p:spPr>
          <a:xfrm>
            <a:off x="5257800" y="281952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NAFT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North American Free Trade Agreeme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Important trade agreement creating a huge zone of cooperation on trade and economic issues in North Americ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exico trying to reduce poverty and increase industrializat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actories in Mexico used to assemble imported materials into finished products and export them mostly back to the U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Located mainly along northern border of Mexico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Examples of goods-electronic equipment, clothing, furnitur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quiladora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2057400"/>
            <a:ext cx="3124080" cy="17445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334120" y="4191120"/>
            <a:ext cx="3124080" cy="1697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Maquila workers- the key element of the maquila industry "/>
          <p:cNvPicPr/>
          <p:nvPr/>
        </p:nvPicPr>
        <p:blipFill>
          <a:blip r:embed="rId4"/>
          <a:stretch/>
        </p:blipFill>
        <p:spPr>
          <a:xfrm>
            <a:off x="380880" y="2286000"/>
            <a:ext cx="472464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Where people live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entral America-agriculture still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Caribbean islands-tourism importan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ould these jobs be found in urban or rural areas?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Informal Economy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jobs found in the tourism industry that do not include benefits or protection of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MEXCS16J111&#13;&#10;© Galen Rowell"/>
          <p:cNvPicPr/>
          <p:nvPr/>
        </p:nvPicPr>
        <p:blipFill>
          <a:blip r:embed="rId1"/>
          <a:stretch/>
        </p:blipFill>
        <p:spPr>
          <a:xfrm>
            <a:off x="228600" y="4038480"/>
            <a:ext cx="2895480" cy="1930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MEXCS16K052&#13;&#10;© Robert Frerck"/>
          <p:cNvPicPr/>
          <p:nvPr/>
        </p:nvPicPr>
        <p:blipFill>
          <a:blip r:embed="rId2"/>
          <a:stretch/>
        </p:blipFill>
        <p:spPr>
          <a:xfrm>
            <a:off x="5943600" y="4114800"/>
            <a:ext cx="2971800" cy="20001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MEXCS18H013&#13;&#10;© Robert Frerck"/>
          <p:cNvPicPr/>
          <p:nvPr/>
        </p:nvPicPr>
        <p:blipFill>
          <a:blip r:embed="rId3"/>
          <a:stretch/>
        </p:blipFill>
        <p:spPr>
          <a:xfrm>
            <a:off x="3200400" y="5029200"/>
            <a:ext cx="266688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FTAA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Free Trade Area of the America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Offers greater trading opportunities, world markets and economic growth for member countri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To include all countries of North and South America except Cub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Designed to expand NAFTA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rcosu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conomic common market that began operating in the southern cone of South America in 1995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Goal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—to make members’ economies more stable,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crease trade in the region,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use some money to improve the most need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Greatest South American success Stor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country of Chile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ticipation in global tra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bundant Natural Resour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Corru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Corruption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- Acting dishonestly or immor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 history of corruption is one reason most Latin American countries are still developing economicall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cc"/>
                </a:solidFill>
                <a:latin typeface="Arial"/>
              </a:rPr>
              <a:t>Panama Canal</a:t>
            </a:r>
            <a:endParaRPr b="0" lang="en-US" sz="55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 system of locks that shortens the travel time and distance from the Pacific Ocean to the Atlantic Oce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anama Canal is an economic chokepoint in Latin Americ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anama Canal Vide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1276200"/>
            <a:ext cx="784836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8526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ganization of Petroleum Exporting Countr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enezuela is a memb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ney from high oil prices has allowed them to purchase warship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Venezuela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eck out this article and watch the clip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ttp://news.bbc.co.uk/2/hi/americas/7628899.st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Questions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1. What are the ships going to do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2. What implications does this have for the US?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Minerals: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ld 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iron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coppe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silver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nick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3743280" cy="28958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270480" y="2362320"/>
            <a:ext cx="2873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Agriculture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good climate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fertile soi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2" name="" descr="MEXCS11J008&#13;&#10;© Robert Frerck"/>
          <p:cNvPicPr/>
          <p:nvPr/>
        </p:nvPicPr>
        <p:blipFill>
          <a:blip r:embed="rId1"/>
          <a:stretch/>
        </p:blipFill>
        <p:spPr>
          <a:xfrm>
            <a:off x="4191120" y="1143000"/>
            <a:ext cx="4219560" cy="287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MEXCS11F005&#13;&#10;© Russell Gordon"/>
          <p:cNvPicPr/>
          <p:nvPr/>
        </p:nvPicPr>
        <p:blipFill>
          <a:blip r:embed="rId2"/>
          <a:stretch/>
        </p:blipFill>
        <p:spPr>
          <a:xfrm>
            <a:off x="1676520" y="3429000"/>
            <a:ext cx="2340000" cy="3200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MEXCS11B018&#13;&#10;© Russell Gordon"/>
          <p:cNvPicPr/>
          <p:nvPr/>
        </p:nvPicPr>
        <p:blipFill>
          <a:blip r:embed="rId3"/>
          <a:stretch/>
        </p:blipFill>
        <p:spPr>
          <a:xfrm>
            <a:off x="5257800" y="4114800"/>
            <a:ext cx="259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5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nial Influences in the Caribbea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Spanish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Established sugar plantations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aeaea"/>
                </a:solidFill>
                <a:uFillTx/>
                <a:latin typeface="Arial Narrow"/>
              </a:rPr>
              <a:t>Indians and Africans: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 Narrow"/>
              </a:rPr>
              <a:t>Used as forced labor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MEXCS11A059&#13;&#10;© Robert Frerck"/>
          <p:cNvPicPr/>
          <p:nvPr/>
        </p:nvPicPr>
        <p:blipFill>
          <a:blip r:embed="rId1"/>
          <a:stretch/>
        </p:blipFill>
        <p:spPr>
          <a:xfrm>
            <a:off x="5334120" y="3809880"/>
            <a:ext cx="31240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sh Cro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rops grown for direct sale, not for use in the region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Examples: sugar, bananas, citrus fruits, coffe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nefit land owners, not worker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MEXCL13C001&#13;&#10;© Robert Frerck"/>
          <p:cNvPicPr/>
          <p:nvPr/>
        </p:nvPicPr>
        <p:blipFill>
          <a:blip r:embed="rId1"/>
          <a:stretch/>
        </p:blipFill>
        <p:spPr>
          <a:xfrm>
            <a:off x="5715000" y="4529160"/>
            <a:ext cx="30481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2T02:43:20Z</dcterms:created>
  <dc:creator>Admin</dc:creator>
  <dc:description/>
  <dc:language>en-US</dc:language>
  <cp:lastModifiedBy>CFISD</cp:lastModifiedBy>
  <dcterms:modified xsi:type="dcterms:W3CDTF">2009-02-03T13:29:24Z</dcterms:modified>
  <cp:revision>13</cp:revision>
  <dc:subject/>
  <dc:title>Economics of Latin America</dc:title>
</cp:coreProperties>
</file>