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18C-A3D2-4E89-97AA-E7B9DDEE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09A-2FF9-4F69-AF37-29533AA3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406-3DBB-4B91-BCC1-05C5F9D0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B35-BDF4-4559-AC3F-ABCA67B6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0F0F-9FE9-4E1A-8942-5EA37875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E2B3-4A41-4F05-988E-F31E279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964B-431F-42A8-9367-2E51C2EF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F0DE-CDDB-4419-8C68-8CFC56BE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1ABC-5D8D-435A-816B-4D45E5DF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8EE0-CCFF-436D-97E7-B8AB4DB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1ACF-0D97-4706-B9C0-60AE3D8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F5A-F555-4567-9889-AE40951F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A48C-56B5-43F2-9E82-B71FDADE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8FFA-DF14-44FA-A748-9E28494F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8D2B-D81D-4256-9563-E9D90605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DB52-1E4B-48E6-A9B4-CCD88FC3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DD11-FB3D-41E3-91BA-AF4F850B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52D-09F3-4582-830C-8EBBC7DB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DD4-CE2D-4F34-BFE5-37AFAAA5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364-5218-41F4-8405-D8BC6090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EAD-9EC1-48AC-BFA7-B198149B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6C0-2DF0-4601-879E-A4C77538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06E-D447-42D8-9D90-4850E67A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F74-6C44-4E75-BA9E-2D4B1B17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4ACF-7426-4329-AF36-946B60EAEC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D32-0CAB-4AD6-9DD7-74910C2F458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ornerreport.com/media/casa%2520landscape.JPG&amp;imgrefurl=http://www.thecornerreport.com/index.php%3Fcat%3D41&amp;h=140&amp;w=250&amp;sz=14&amp;hl=en&amp;start=2&amp;tbnid=SeVVAjIpnpazWM:&amp;tbnh=62&amp;tbnw=111&amp;prev=/images%3Fq%3Dmexican%2Bmaquiladoras%26svnum%3D10%26hl%3Den%26lr%3D%26sa%3D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conomics of Latin Americ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Acapulco Beach, Mexico. Foto: L. Bobke"/>
          <p:cNvPicPr/>
          <p:nvPr/>
        </p:nvPicPr>
        <p:blipFill>
          <a:blip r:embed="rId1"/>
          <a:stretch/>
        </p:blipFill>
        <p:spPr>
          <a:xfrm>
            <a:off x="1447920" y="2438280"/>
            <a:ext cx="6248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conomic Growth after Colonialis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 resort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enerates inco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Provides job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GUATS03I028&#13;&#10;© David Dudenhoefer"/>
          <p:cNvPicPr/>
          <p:nvPr/>
        </p:nvPicPr>
        <p:blipFill>
          <a:blip r:embed="rId1"/>
          <a:stretch/>
        </p:blipFill>
        <p:spPr>
          <a:xfrm>
            <a:off x="6095880" y="4724280"/>
            <a:ext cx="2819520" cy="182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ANAS01I023&#13;&#10;© David Dudenhoefer"/>
          <p:cNvPicPr/>
          <p:nvPr/>
        </p:nvPicPr>
        <p:blipFill>
          <a:blip r:embed="rId2"/>
          <a:stretch/>
        </p:blipFill>
        <p:spPr>
          <a:xfrm>
            <a:off x="609480" y="3886200"/>
            <a:ext cx="2895840" cy="1911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PANAS01M053&#13;&#10;© David Dudenhoefer"/>
          <p:cNvPicPr/>
          <p:nvPr/>
        </p:nvPicPr>
        <p:blipFill>
          <a:blip r:embed="rId3"/>
          <a:stretch/>
        </p:blipFill>
        <p:spPr>
          <a:xfrm>
            <a:off x="6477120" y="914400"/>
            <a:ext cx="2361960" cy="155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USPRS02O005&#13;&#10;© Robert Frerck"/>
          <p:cNvPicPr/>
          <p:nvPr/>
        </p:nvPicPr>
        <p:blipFill>
          <a:blip r:embed="rId4"/>
          <a:stretch/>
        </p:blipFill>
        <p:spPr>
          <a:xfrm>
            <a:off x="3657600" y="4952880"/>
            <a:ext cx="2057400" cy="1386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USPRS02B054&#13;&#10;© Robert Frerck"/>
          <p:cNvPicPr/>
          <p:nvPr/>
        </p:nvPicPr>
        <p:blipFill>
          <a:blip r:embed="rId5"/>
          <a:stretch/>
        </p:blipFill>
        <p:spPr>
          <a:xfrm>
            <a:off x="5257800" y="281952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NAFT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orth American Free Trade Agreeme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mportant trade agreement creating a huge zone of cooperation on trade and economic issues in North Americ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exico trying to reduce poverty and increase industrializat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actories in Mexico used to assemble imported materials into finished products and export them mostly back to the U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Located mainly along northern border of Mexic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amples of goods-electronic equipment, clothing, furnitur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057400"/>
            <a:ext cx="3124080" cy="1744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34120" y="4191120"/>
            <a:ext cx="3124080" cy="1697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Maquila workers- the key element of the maquila industry "/>
          <p:cNvPicPr/>
          <p:nvPr/>
        </p:nvPicPr>
        <p:blipFill>
          <a:blip r:embed="rId4"/>
          <a:stretch/>
        </p:blipFill>
        <p:spPr>
          <a:xfrm>
            <a:off x="380880" y="2286000"/>
            <a:ext cx="47246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Where people liv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entral America-agriculture still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s-tourism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ould these jobs be found in urban or rural areas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Informal Economy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jobs found in the tourism industry that do not include benefits or protection of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MEXCS16J111&#13;&#10;© Galen Rowell"/>
          <p:cNvPicPr/>
          <p:nvPr/>
        </p:nvPicPr>
        <p:blipFill>
          <a:blip r:embed="rId1"/>
          <a:stretch/>
        </p:blipFill>
        <p:spPr>
          <a:xfrm>
            <a:off x="228600" y="40384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MEXCS16K052&#13;&#10;© Robert Frerck"/>
          <p:cNvPicPr/>
          <p:nvPr/>
        </p:nvPicPr>
        <p:blipFill>
          <a:blip r:embed="rId2"/>
          <a:stretch/>
        </p:blipFill>
        <p:spPr>
          <a:xfrm>
            <a:off x="5943600" y="4114800"/>
            <a:ext cx="2971800" cy="2000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MEXCS18H013&#13;&#10;© Robert Frerck"/>
          <p:cNvPicPr/>
          <p:nvPr/>
        </p:nvPicPr>
        <p:blipFill>
          <a:blip r:embed="rId3"/>
          <a:stretch/>
        </p:blipFill>
        <p:spPr>
          <a:xfrm>
            <a:off x="3200400" y="502920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FTA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ree Trade Area of the America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Offers greater trading opportunities, world markets and economic growth for member countri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o include all countries of North and South America except Cub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esigned to expand NAFT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rcos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conomic common market that began operating in the southern cone of South America in 199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Goal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—to make members’ economies more stable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rease trade in the region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use some money to improve the most need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reatest South American success Sto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country of Chil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icipation in global tr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undant Natural Resou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rru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orrup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- Acting dishonestly or immor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history of corruption is one reason most Latin American countries are still developing economic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Arial"/>
              </a:rPr>
              <a:t>Panama Canal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 system of locks that shortens the travel time and distance from the Pacific Ocean to the Atlantic Oce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n economic chokepoint in Latin Americ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nama Canal Vide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276200"/>
            <a:ext cx="78483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52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ganization of Petroleum Exporting Countr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nezuela is a memb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ney from high oil prices has allowed them to purchase warshi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nezuela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eck out this article and watch the clip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ttp://news.bbc.co.uk/2/hi/americas/7628899.s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Questions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What are the ships going to do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What implications does this have for the US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Minerals: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ld 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iron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coppe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silver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nick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374328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70480" y="2362320"/>
            <a:ext cx="2873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Agriculture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od climate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fertile soi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MEXCS11J008&#13;&#10;© Robert Frerck"/>
          <p:cNvPicPr/>
          <p:nvPr/>
        </p:nvPicPr>
        <p:blipFill>
          <a:blip r:embed="rId1"/>
          <a:stretch/>
        </p:blipFill>
        <p:spPr>
          <a:xfrm>
            <a:off x="4191120" y="1143000"/>
            <a:ext cx="4219560" cy="287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MEXCS11F005&#13;&#10;© Russell Gordon"/>
          <p:cNvPicPr/>
          <p:nvPr/>
        </p:nvPicPr>
        <p:blipFill>
          <a:blip r:embed="rId2"/>
          <a:stretch/>
        </p:blipFill>
        <p:spPr>
          <a:xfrm>
            <a:off x="1676520" y="3429000"/>
            <a:ext cx="234000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MEXCS11B018&#13;&#10;© Russell Gordon"/>
          <p:cNvPicPr/>
          <p:nvPr/>
        </p:nvPicPr>
        <p:blipFill>
          <a:blip r:embed="rId3"/>
          <a:stretch/>
        </p:blipFill>
        <p:spPr>
          <a:xfrm>
            <a:off x="5257800" y="411480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lonial Influences in the Caribbe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Spanish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Established sugar plantation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Indians and Africans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Used as forced labo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EXCS11A059&#13;&#10;© Robert Frerck"/>
          <p:cNvPicPr/>
          <p:nvPr/>
        </p:nvPicPr>
        <p:blipFill>
          <a:blip r:embed="rId1"/>
          <a:stretch/>
        </p:blipFill>
        <p:spPr>
          <a:xfrm>
            <a:off x="5334120" y="3809880"/>
            <a:ext cx="31240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sh Cro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rops grown for direct sale, not for use in the reg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xamples: sugar, bananas, citrus fruits, coffe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nefit land owners, not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MEXCL13C001&#13;&#10;© Robert Frerck"/>
          <p:cNvPicPr/>
          <p:nvPr/>
        </p:nvPicPr>
        <p:blipFill>
          <a:blip r:embed="rId1"/>
          <a:stretch/>
        </p:blipFill>
        <p:spPr>
          <a:xfrm>
            <a:off x="5715000" y="4529160"/>
            <a:ext cx="3048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2:43:20Z</dcterms:created>
  <dc:creator>Admin</dc:creator>
  <dc:description/>
  <dc:language>en-US</dc:language>
  <cp:lastModifiedBy>CFISD</cp:lastModifiedBy>
  <dcterms:modified xsi:type="dcterms:W3CDTF">2009-02-03T13:29:24Z</dcterms:modified>
  <cp:revision>13</cp:revision>
  <dc:subject/>
  <dc:title>Economics of Latin America</dc:title>
</cp:coreProperties>
</file>