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1AB-B0D2-40FF-9833-202BD1A1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557D-A22B-479C-B60B-67B6BFD70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28F8-F33C-4D95-AFFD-AE8ADB932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FA8-5122-4E71-A2FA-58C08C71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F7EC-3081-489D-A586-F5BC7AE3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B49A-EE25-4136-8198-EE6FA27F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F64B-92A6-4F6E-88E9-663F6C4C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9E18-A69F-40DE-B1AB-9FDF1950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DE80-95D5-4718-8D2F-360A1CDA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F3F4-D008-4685-89B1-9A245CCF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63C1-83A9-41A4-9E51-53D25526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4F07-CB60-43E8-B0A5-3E5950439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6AAE-903C-4C85-894D-FA44DFCB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1D05-8C54-4060-809E-0165843D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C841-A5B1-4B76-89B6-3CD4E204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1A90-44BA-4EEA-AEB1-946967CB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390F0-D148-43CB-A878-C5BA0FA8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B715-9084-4A82-A4B7-B178FD8F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84F-29F5-4952-B29A-11D3B1F4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430-B85A-4E38-9353-83C94791D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F2E-AA9E-4520-8C64-262BBA803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9E1A-0F26-44BB-8C03-1DB50BE6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6CD-CC20-4C6D-967E-1BC44B2E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A0C-0150-4BA3-BB91-05207C92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BBB9-916D-489B-A910-0E4680A1E50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81B7-52B0-478E-B4FA-73089D80C43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ornerreport.com/media/casa%2520landscape.JPG&amp;imgrefurl=http://www.thecornerreport.com/index.php%3Fcat%3D41&amp;h=140&amp;w=250&amp;sz=14&amp;hl=en&amp;start=2&amp;tbnid=SeVVAjIpnpazWM:&amp;tbnh=62&amp;tbnw=111&amp;prev=/images%3Fq%3Dmexican%2Bmaquiladoras%26svnum%3D10%26hl%3Den%26lr%3D%26sa%3D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conomics of Latin Americ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Acapulco Beach, Mexico. Foto: L. Bobke"/>
          <p:cNvPicPr/>
          <p:nvPr/>
        </p:nvPicPr>
        <p:blipFill>
          <a:blip r:embed="rId1"/>
          <a:stretch/>
        </p:blipFill>
        <p:spPr>
          <a:xfrm>
            <a:off x="1447920" y="2438280"/>
            <a:ext cx="62481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conomic Growth after Colonialism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aribbean island resorts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Generates incom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Provides job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GUATS03I028&#13;&#10;© David Dudenhoefer"/>
          <p:cNvPicPr/>
          <p:nvPr/>
        </p:nvPicPr>
        <p:blipFill>
          <a:blip r:embed="rId1"/>
          <a:stretch/>
        </p:blipFill>
        <p:spPr>
          <a:xfrm>
            <a:off x="6095880" y="4724280"/>
            <a:ext cx="2819520" cy="1822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PANAS01I023&#13;&#10;© David Dudenhoefer"/>
          <p:cNvPicPr/>
          <p:nvPr/>
        </p:nvPicPr>
        <p:blipFill>
          <a:blip r:embed="rId2"/>
          <a:stretch/>
        </p:blipFill>
        <p:spPr>
          <a:xfrm>
            <a:off x="609480" y="3886200"/>
            <a:ext cx="2895840" cy="1911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PANAS01M053&#13;&#10;© David Dudenhoefer"/>
          <p:cNvPicPr/>
          <p:nvPr/>
        </p:nvPicPr>
        <p:blipFill>
          <a:blip r:embed="rId3"/>
          <a:stretch/>
        </p:blipFill>
        <p:spPr>
          <a:xfrm>
            <a:off x="6477120" y="914400"/>
            <a:ext cx="2361960" cy="1558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USPRS02O005&#13;&#10;© Robert Frerck"/>
          <p:cNvPicPr/>
          <p:nvPr/>
        </p:nvPicPr>
        <p:blipFill>
          <a:blip r:embed="rId4"/>
          <a:stretch/>
        </p:blipFill>
        <p:spPr>
          <a:xfrm>
            <a:off x="3657600" y="4952880"/>
            <a:ext cx="2057400" cy="1386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USPRS02B054&#13;&#10;© Robert Frerck"/>
          <p:cNvPicPr/>
          <p:nvPr/>
        </p:nvPicPr>
        <p:blipFill>
          <a:blip r:embed="rId5"/>
          <a:stretch/>
        </p:blipFill>
        <p:spPr>
          <a:xfrm>
            <a:off x="5257800" y="2819520"/>
            <a:ext cx="26668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NAFTA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orth American Free Trade Agreemen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Important trade agreement creating a huge zone of cooperation on trade and economic issues in North Americ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exico trying to reduce poverty and increase industrialization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quiladora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Factories in Mexico used to assemble imported materials into finished products and export them mostly back to the U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Located mainly along northern border of Mexico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amples of goods-electronic equipment, clothing, furnitur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quiladora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2057400"/>
            <a:ext cx="3124080" cy="1744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334120" y="4191120"/>
            <a:ext cx="3124080" cy="1697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Maquila workers- the key element of the maquila industry "/>
          <p:cNvPicPr/>
          <p:nvPr/>
        </p:nvPicPr>
        <p:blipFill>
          <a:blip r:embed="rId4"/>
          <a:stretch/>
        </p:blipFill>
        <p:spPr>
          <a:xfrm>
            <a:off x="380880" y="2286000"/>
            <a:ext cx="472464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Where people liv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entral America-agriculture still importan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aribbean islands-tourism importan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ould these jobs be found in urban or rural areas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Informal Economy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jobs found in the tourism industry that do not include benefits or protection of worker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" descr="MEXCS16J111&#13;&#10;© Galen Rowell"/>
          <p:cNvPicPr/>
          <p:nvPr/>
        </p:nvPicPr>
        <p:blipFill>
          <a:blip r:embed="rId1"/>
          <a:stretch/>
        </p:blipFill>
        <p:spPr>
          <a:xfrm>
            <a:off x="228600" y="4038480"/>
            <a:ext cx="2895480" cy="1930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MEXCS16K052&#13;&#10;© Robert Frerck"/>
          <p:cNvPicPr/>
          <p:nvPr/>
        </p:nvPicPr>
        <p:blipFill>
          <a:blip r:embed="rId2"/>
          <a:stretch/>
        </p:blipFill>
        <p:spPr>
          <a:xfrm>
            <a:off x="5943600" y="4114800"/>
            <a:ext cx="2971800" cy="2000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MEXCS18H013&#13;&#10;© Robert Frerck"/>
          <p:cNvPicPr/>
          <p:nvPr/>
        </p:nvPicPr>
        <p:blipFill>
          <a:blip r:embed="rId3"/>
          <a:stretch/>
        </p:blipFill>
        <p:spPr>
          <a:xfrm>
            <a:off x="3200400" y="5029200"/>
            <a:ext cx="26668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FTAA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Free Trade Area of the America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Offers greater trading opportunities, world markets and economic growth for member countrie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o include all countries of North and South America except Cub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esigned to expand NAFT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rcos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conomic common market that began operating in the southern cone of South America in 199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Goal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—to make members’ economies more stable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crease trade in the region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use some money to improve the most need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Greatest South American success Stor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country of Chil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icipation in global tra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bundant Natural Resou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rrup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Corrupti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- Acting dishonestly or immorall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history of corruption is one reason most Latin American countries are still developing economicall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cc"/>
                </a:solidFill>
                <a:latin typeface="Arial"/>
              </a:rPr>
              <a:t>Panama Canal</a:t>
            </a:r>
            <a:endParaRPr b="0" lang="en-US" sz="5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nama Canal is a system of locks that shortens the travel time and distance from the Pacific Ocean to the Atlantic Oce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nama Canal is an economic chokepoint in Latin Americ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anama Canal Vide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1276200"/>
            <a:ext cx="78483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526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E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ganization of Petroleum Exporting Countr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nezuela is a memb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ney from high oil prices has allowed them to purchase warship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nezuela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eck out this article and watch the clip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ttp://news.bbc.co.uk/2/hi/americas/7628899.st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Questions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What are the ships going to do?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What implications does this have for the US?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tural Re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Minerals: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gold 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iron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copper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silver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nick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3743280" cy="2895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270480" y="2362320"/>
            <a:ext cx="2873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tural Re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Agriculture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good climate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fertile soi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MEXCS11J008&#13;&#10;© Robert Frerck"/>
          <p:cNvPicPr/>
          <p:nvPr/>
        </p:nvPicPr>
        <p:blipFill>
          <a:blip r:embed="rId1"/>
          <a:stretch/>
        </p:blipFill>
        <p:spPr>
          <a:xfrm>
            <a:off x="4191120" y="1143000"/>
            <a:ext cx="4219560" cy="2870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MEXCS11F005&#13;&#10;© Russell Gordon"/>
          <p:cNvPicPr/>
          <p:nvPr/>
        </p:nvPicPr>
        <p:blipFill>
          <a:blip r:embed="rId2"/>
          <a:stretch/>
        </p:blipFill>
        <p:spPr>
          <a:xfrm>
            <a:off x="1676520" y="3429000"/>
            <a:ext cx="2340000" cy="3200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MEXCS11B018&#13;&#10;© Russell Gordon"/>
          <p:cNvPicPr/>
          <p:nvPr/>
        </p:nvPicPr>
        <p:blipFill>
          <a:blip r:embed="rId3"/>
          <a:stretch/>
        </p:blipFill>
        <p:spPr>
          <a:xfrm>
            <a:off x="5257800" y="4114800"/>
            <a:ext cx="259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lonial Influences in the Caribbe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Spanish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Established sugar plantations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Indians and Africans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Used as forced labor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MEXCS11A059&#13;&#10;© Robert Frerck"/>
          <p:cNvPicPr/>
          <p:nvPr/>
        </p:nvPicPr>
        <p:blipFill>
          <a:blip r:embed="rId1"/>
          <a:stretch/>
        </p:blipFill>
        <p:spPr>
          <a:xfrm>
            <a:off x="5334120" y="3809880"/>
            <a:ext cx="312408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sh Crop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rops grown for direct sale, not for use in the region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Examples: sugar, bananas, citrus fruits, coffe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enefit land owners, not worker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MEXCL13C001&#13;&#10;© Robert Frerck"/>
          <p:cNvPicPr/>
          <p:nvPr/>
        </p:nvPicPr>
        <p:blipFill>
          <a:blip r:embed="rId1"/>
          <a:stretch/>
        </p:blipFill>
        <p:spPr>
          <a:xfrm>
            <a:off x="5715000" y="4529160"/>
            <a:ext cx="3048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02:43:20Z</dcterms:created>
  <dc:creator>Admin</dc:creator>
  <dc:description/>
  <dc:language>en-US</dc:language>
  <cp:lastModifiedBy>CFISD</cp:lastModifiedBy>
  <dcterms:modified xsi:type="dcterms:W3CDTF">2009-02-03T13:29:24Z</dcterms:modified>
  <cp:revision>13</cp:revision>
  <dc:subject/>
  <dc:title>Economics of Latin America</dc:title>
</cp:coreProperties>
</file>