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DC5-883D-492C-9583-46359BF4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E79-C211-499D-BF39-4983996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97B-B10F-4E00-8D12-72427EB5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676-0D6C-45C8-A05D-C3B37C35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5B9-44D6-4421-BC43-4CC526E8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DB0-2EA7-4C2A-B5A0-1DFA2E5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DB4-A78C-454A-904E-BE77EBF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457-9EAF-4EFB-B45B-AF2C14E0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746-9A12-4729-A47C-4EB9D52F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902-2433-4814-9C88-36C495F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94E-4465-4A30-B3CC-263E0C2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EBC-6C09-4192-A8CC-A2DCCA56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0D4F-5F9D-41A9-9CB3-CB20E38F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81916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=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 =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=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ade alliance between Japan, South Korea, and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l members’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e standard of living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rade with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17:33Z</dcterms:created>
  <dc:creator>CFISD</dc:creator>
  <dc:description/>
  <dc:language>en-US</dc:language>
  <cp:lastModifiedBy>CFISD</cp:lastModifiedBy>
  <dcterms:modified xsi:type="dcterms:W3CDTF">2009-04-21T12:20:43Z</dcterms:modified>
  <cp:revision>2</cp:revision>
  <dc:subject/>
  <dc:title>Economics</dc:title>
</cp:coreProperties>
</file>