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340C-2DEC-49B6-B42A-AFF9C15E2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C08C-2021-46A1-AFDC-2DBA7C90C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26AA-D4FD-4333-9B4D-B048B9EA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ABD-7AD8-48DD-B9A5-116FE040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6EDC-45F7-49AF-8DC4-246CE09DF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9638-F29A-4A8C-918A-300A5511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84F8-5F81-4183-8520-E5CF3395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1AC-004C-48B0-84D2-F48329F7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5FC3-0CC6-4787-85B2-EB64C298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C337-5D22-457F-9328-8C881F1B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B343-3A99-44C1-BA89-6A27D368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73E4-D62F-4E5D-926D-0B9F5384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42D3-CD0B-423A-AC5F-0CB244974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572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kota Tri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2133720"/>
            <a:ext cx="2819160" cy="206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 =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 =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 =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kota Trian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t?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trade alliance between Japan, South Korea, and Taiw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all members’ econom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he standard of living of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trade with the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2:17:33Z</dcterms:created>
  <dc:creator>CFISD</dc:creator>
  <dc:description/>
  <dc:language>en-US</dc:language>
  <cp:lastModifiedBy>CFISD</cp:lastModifiedBy>
  <dcterms:modified xsi:type="dcterms:W3CDTF">2009-04-21T12:20:43Z</dcterms:modified>
  <cp:revision>2</cp:revision>
  <dc:subject/>
  <dc:title>Economics</dc:title>
</cp:coreProperties>
</file>