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C37-E940-42E9-BB0F-1FCB1EFB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3E05-A909-4D84-85AE-7B304711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41F-109C-44B6-ADC3-F606B3A3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8B3-7F07-49D3-9189-ABD24E2F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267E-4102-4A3C-B092-F113F38E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DD6D-D9C7-4D1B-9866-573052A4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5D06-66F2-4D2E-B2CE-30FD1F92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FB09-0D4C-495F-8FCE-6970EF7E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4A8C-0A28-4633-BD6E-B457DC88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61E1-922A-4BF1-9009-3DE9A9E5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434D-3B51-4575-9286-917D54C9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2CF-FF95-4188-9C06-F822D5C0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22B0-CBF3-4B99-96F7-80AE88C9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C8F1-CC33-4E21-B5F1-9E2C8C94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3CC6-D110-4FC0-AE3C-CA3471CF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C929-C481-4F65-9398-07CAE6DC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1F75-9ADD-4417-BAC0-89E862A9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BFF-A52A-4E88-93B8-284744F5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D18-54AD-449F-86D3-1643BEB9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282-E670-4B54-A8A4-BCBFB0C1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B2D-297D-499C-9821-960748F3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8AB-9FA5-4349-809D-784AC306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110-F514-4645-B7C4-B9253432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EFE-F83E-42BE-90A5-FA8695F1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A4B2-2367-44AD-8362-2496FA206F3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6FBD-18B1-4555-B17A-58C75402F33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ornerreport.com/media/casa%2520landscape.JPG&amp;imgrefurl=http://www.thecornerreport.com/index.php%3Fcat%3D41&amp;h=140&amp;w=250&amp;sz=14&amp;hl=en&amp;start=2&amp;tbnid=SeVVAjIpnpazWM:&amp;tbnh=62&amp;tbnw=111&amp;prev=/images%3Fq%3Dmexican%2Bmaquiladoras%26svnum%3D10%26hl%3Den%26lr%3D%26sa%3D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conomics of Latin Americ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Acapulco Beach, Mexico. Foto: L. Bobke"/>
          <p:cNvPicPr/>
          <p:nvPr/>
        </p:nvPicPr>
        <p:blipFill>
          <a:blip r:embed="rId1"/>
          <a:stretch/>
        </p:blipFill>
        <p:spPr>
          <a:xfrm>
            <a:off x="1447920" y="2438280"/>
            <a:ext cx="62481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conomic Growth after Colonialis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aribbean island resorts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Generates incom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Provides job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GUATS03I028&#13;&#10;© David Dudenhoefer"/>
          <p:cNvPicPr/>
          <p:nvPr/>
        </p:nvPicPr>
        <p:blipFill>
          <a:blip r:embed="rId1"/>
          <a:stretch/>
        </p:blipFill>
        <p:spPr>
          <a:xfrm>
            <a:off x="6095880" y="4724280"/>
            <a:ext cx="2819520" cy="182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PANAS01I023&#13;&#10;© David Dudenhoefer"/>
          <p:cNvPicPr/>
          <p:nvPr/>
        </p:nvPicPr>
        <p:blipFill>
          <a:blip r:embed="rId2"/>
          <a:stretch/>
        </p:blipFill>
        <p:spPr>
          <a:xfrm>
            <a:off x="609480" y="3886200"/>
            <a:ext cx="2895840" cy="1911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PANAS01M053&#13;&#10;© David Dudenhoefer"/>
          <p:cNvPicPr/>
          <p:nvPr/>
        </p:nvPicPr>
        <p:blipFill>
          <a:blip r:embed="rId3"/>
          <a:stretch/>
        </p:blipFill>
        <p:spPr>
          <a:xfrm>
            <a:off x="6477120" y="914400"/>
            <a:ext cx="2361960" cy="155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USPRS02O005&#13;&#10;© Robert Frerck"/>
          <p:cNvPicPr/>
          <p:nvPr/>
        </p:nvPicPr>
        <p:blipFill>
          <a:blip r:embed="rId4"/>
          <a:stretch/>
        </p:blipFill>
        <p:spPr>
          <a:xfrm>
            <a:off x="3657600" y="4952880"/>
            <a:ext cx="2057400" cy="1386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USPRS02B054&#13;&#10;© Robert Frerck"/>
          <p:cNvPicPr/>
          <p:nvPr/>
        </p:nvPicPr>
        <p:blipFill>
          <a:blip r:embed="rId5"/>
          <a:stretch/>
        </p:blipFill>
        <p:spPr>
          <a:xfrm>
            <a:off x="5257800" y="281952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NAFT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orth American Free Trade Agreeme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mportant trade agreement creating a huge zone of cooperation on trade and economic issues in North Americ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exico trying to reduce poverty and increase industrializatio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quiladora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Factories in Mexico used to assemble imported materials into finished products and export them mostly back to the U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Located mainly along northern border of Mexico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amples of goods-electronic equipment, clothing, furnitur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quiladora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057400"/>
            <a:ext cx="3124080" cy="1744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34120" y="4191120"/>
            <a:ext cx="3124080" cy="1697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Maquila workers- the key element of the maquila industry "/>
          <p:cNvPicPr/>
          <p:nvPr/>
        </p:nvPicPr>
        <p:blipFill>
          <a:blip r:embed="rId4"/>
          <a:stretch/>
        </p:blipFill>
        <p:spPr>
          <a:xfrm>
            <a:off x="380880" y="2286000"/>
            <a:ext cx="47246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Where people liv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entral America-agriculture still importa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aribbean islands-tourism importa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ould these jobs be found in urban or rural areas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Informal Economy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jobs found in the tourism industry that do not include benefits or protection of worker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MEXCS16J111&#13;&#10;© Galen Rowell"/>
          <p:cNvPicPr/>
          <p:nvPr/>
        </p:nvPicPr>
        <p:blipFill>
          <a:blip r:embed="rId1"/>
          <a:stretch/>
        </p:blipFill>
        <p:spPr>
          <a:xfrm>
            <a:off x="228600" y="40384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MEXCS16K052&#13;&#10;© Robert Frerck"/>
          <p:cNvPicPr/>
          <p:nvPr/>
        </p:nvPicPr>
        <p:blipFill>
          <a:blip r:embed="rId2"/>
          <a:stretch/>
        </p:blipFill>
        <p:spPr>
          <a:xfrm>
            <a:off x="5943600" y="4114800"/>
            <a:ext cx="2971800" cy="2000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MEXCS18H013&#13;&#10;© Robert Frerck"/>
          <p:cNvPicPr/>
          <p:nvPr/>
        </p:nvPicPr>
        <p:blipFill>
          <a:blip r:embed="rId3"/>
          <a:stretch/>
        </p:blipFill>
        <p:spPr>
          <a:xfrm>
            <a:off x="3200400" y="502920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FTA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Free Trade Area of the America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Offers greater trading opportunities, world markets and economic growth for member countri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o include all countries of North and South America except Cub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esigned to expand NAFT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rcos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conomic common market that began operating in the southern cone of South America in 199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Goal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—to make members’ economies more stable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rease trade in the region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use some money to improve the most need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reatest South American success Sto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country of Chil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icipation in global tra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bundant Natural Resou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rrup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Corrup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- Acting dishonestly or immoral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history of corruption is one reason most Latin American countries are still developing economical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cc"/>
                </a:solidFill>
                <a:latin typeface="Arial"/>
              </a:rPr>
              <a:t>Panama Canal</a:t>
            </a:r>
            <a:endParaRPr b="0" lang="en-US" sz="5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nama Canal is a system of locks that shortens the travel time and distance from the Pacific Ocean to the Atlantic Oce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nama Canal is an economic chokepoint in Latin Americ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nama Canal Vide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276200"/>
            <a:ext cx="78483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52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E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ganization of Petroleum Exporting Countr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nezuela is a memb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ney from high oil prices has allowed them to purchase warshi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nezuela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eck out this article and watch the clip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ttp://news.bbc.co.uk/2/hi/americas/7628899.st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Questions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What are the ships going to do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What implications does this have for the US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Minerals: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gold 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iron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coppe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silver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nick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3743280" cy="2895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70480" y="2362320"/>
            <a:ext cx="2873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Agriculture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good climate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fertile soi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MEXCS11J008&#13;&#10;© Robert Frerck"/>
          <p:cNvPicPr/>
          <p:nvPr/>
        </p:nvPicPr>
        <p:blipFill>
          <a:blip r:embed="rId1"/>
          <a:stretch/>
        </p:blipFill>
        <p:spPr>
          <a:xfrm>
            <a:off x="4191120" y="1143000"/>
            <a:ext cx="4219560" cy="287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MEXCS11F005&#13;&#10;© Russell Gordon"/>
          <p:cNvPicPr/>
          <p:nvPr/>
        </p:nvPicPr>
        <p:blipFill>
          <a:blip r:embed="rId2"/>
          <a:stretch/>
        </p:blipFill>
        <p:spPr>
          <a:xfrm>
            <a:off x="1676520" y="3429000"/>
            <a:ext cx="234000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MEXCS11B018&#13;&#10;© Russell Gordon"/>
          <p:cNvPicPr/>
          <p:nvPr/>
        </p:nvPicPr>
        <p:blipFill>
          <a:blip r:embed="rId3"/>
          <a:stretch/>
        </p:blipFill>
        <p:spPr>
          <a:xfrm>
            <a:off x="5257800" y="411480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lonial Influences in the Caribbe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Spanish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Established sugar plantations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Indians and Africans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Used as forced labo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EXCS11A059&#13;&#10;© Robert Frerck"/>
          <p:cNvPicPr/>
          <p:nvPr/>
        </p:nvPicPr>
        <p:blipFill>
          <a:blip r:embed="rId1"/>
          <a:stretch/>
        </p:blipFill>
        <p:spPr>
          <a:xfrm>
            <a:off x="5334120" y="3809880"/>
            <a:ext cx="312408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sh Cro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rops grown for direct sale, not for use in the regio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Examples: sugar, bananas, citrus fruits, coffe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nefit land owners, not worker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MEXCL13C001&#13;&#10;© Robert Frerck"/>
          <p:cNvPicPr/>
          <p:nvPr/>
        </p:nvPicPr>
        <p:blipFill>
          <a:blip r:embed="rId1"/>
          <a:stretch/>
        </p:blipFill>
        <p:spPr>
          <a:xfrm>
            <a:off x="5715000" y="4529160"/>
            <a:ext cx="3048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2:43:20Z</dcterms:created>
  <dc:creator>Admin</dc:creator>
  <dc:description/>
  <dc:language>en-US</dc:language>
  <cp:lastModifiedBy>CFISD</cp:lastModifiedBy>
  <dcterms:modified xsi:type="dcterms:W3CDTF">2009-02-03T13:29:24Z</dcterms:modified>
  <cp:revision>13</cp:revision>
  <dc:subject/>
  <dc:title>Economics of Latin America</dc:title>
</cp:coreProperties>
</file>