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7B3-28CA-4692-9143-A6D238FE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26D-78A8-4733-A1F6-1862F7C8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B26-AE94-4CBF-8BE8-CD90F445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04CF-A73A-42AD-AF13-C267F506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C789-032C-4BC4-99EE-3A434E47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284B-0513-47BF-8DEB-EE875B7B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748A-4B59-4671-8BE8-A50CF4B5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E967-426F-496C-8171-A30AF2EA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749E-C2F6-4E80-AE71-D6A70D22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575A-322E-4D76-8461-09B69F93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230F-E938-4087-BE3D-48C89B80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002-7753-4329-948E-F9331DE2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A644-752C-4A61-9906-1475B2D7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E796-2109-4226-A767-CF0AFD61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E6FA-B822-41C1-9663-F9872356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3957-857B-4571-BFF9-4C5EDC22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13A3-27D9-476C-9F70-781F845C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723-5FA3-43BC-9615-3081AEDD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30A-06CE-4872-B47E-2CE0B48C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F53-0D62-4E11-A0DB-52CBF179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BEB-5A62-41AE-8195-33E05464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611-74DD-4CFE-98C9-830CD057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814-2005-495E-91AD-58C6E9D0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AE7-82C4-4940-A2B4-22CDE73F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E682-A5EE-495A-903C-5C064BD2731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3B73-8FC4-4C2B-9F5F-CA5CFBEE6E2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ornerreport.com/media/casa%2520landscape.JPG&amp;imgrefurl=http://www.thecornerreport.com/index.php%3Fcat%3D41&amp;h=140&amp;w=250&amp;sz=14&amp;hl=en&amp;start=2&amp;tbnid=SeVVAjIpnpazWM:&amp;tbnh=62&amp;tbnw=111&amp;prev=/images%3Fq%3Dmexican%2Bmaquiladoras%26svnum%3D10%26hl%3Den%26lr%3D%26sa%3D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conomics of Latin Americ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Acapulco Beach, Mexico. Foto: L. Bobke"/>
          <p:cNvPicPr/>
          <p:nvPr/>
        </p:nvPicPr>
        <p:blipFill>
          <a:blip r:embed="rId1"/>
          <a:stretch/>
        </p:blipFill>
        <p:spPr>
          <a:xfrm>
            <a:off x="1447920" y="2438280"/>
            <a:ext cx="62481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conomic Growth after Colonialism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aribbean island resorts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Generates incom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Provides job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GUATS03I028&#13;&#10;© David Dudenhoefer"/>
          <p:cNvPicPr/>
          <p:nvPr/>
        </p:nvPicPr>
        <p:blipFill>
          <a:blip r:embed="rId1"/>
          <a:stretch/>
        </p:blipFill>
        <p:spPr>
          <a:xfrm>
            <a:off x="6095880" y="4724280"/>
            <a:ext cx="2819520" cy="1822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PANAS01I023&#13;&#10;© David Dudenhoefer"/>
          <p:cNvPicPr/>
          <p:nvPr/>
        </p:nvPicPr>
        <p:blipFill>
          <a:blip r:embed="rId2"/>
          <a:stretch/>
        </p:blipFill>
        <p:spPr>
          <a:xfrm>
            <a:off x="609480" y="3886200"/>
            <a:ext cx="2895840" cy="1911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PANAS01M053&#13;&#10;© David Dudenhoefer"/>
          <p:cNvPicPr/>
          <p:nvPr/>
        </p:nvPicPr>
        <p:blipFill>
          <a:blip r:embed="rId3"/>
          <a:stretch/>
        </p:blipFill>
        <p:spPr>
          <a:xfrm>
            <a:off x="6477120" y="914400"/>
            <a:ext cx="2361960" cy="1558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USPRS02O005&#13;&#10;© Robert Frerck"/>
          <p:cNvPicPr/>
          <p:nvPr/>
        </p:nvPicPr>
        <p:blipFill>
          <a:blip r:embed="rId4"/>
          <a:stretch/>
        </p:blipFill>
        <p:spPr>
          <a:xfrm>
            <a:off x="3657600" y="4952880"/>
            <a:ext cx="2057400" cy="1386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USPRS02B054&#13;&#10;© Robert Frerck"/>
          <p:cNvPicPr/>
          <p:nvPr/>
        </p:nvPicPr>
        <p:blipFill>
          <a:blip r:embed="rId5"/>
          <a:stretch/>
        </p:blipFill>
        <p:spPr>
          <a:xfrm>
            <a:off x="5257800" y="281952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NAFTA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orth American Free Trade Agreeme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Important trade agreement creating a huge zone of cooperation on trade and economic issues in North Americ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exico trying to reduce poverty and increase industrialization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quiladora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Factories in Mexico used to assemble imported materials into finished products and export them mostly back to the U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Located mainly along northern border of Mexico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amples of goods-electronic equipment, clothing, furnitur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quiladora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057400"/>
            <a:ext cx="3124080" cy="1744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34120" y="4191120"/>
            <a:ext cx="3124080" cy="1697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Maquila workers- the key element of the maquila industry "/>
          <p:cNvPicPr/>
          <p:nvPr/>
        </p:nvPicPr>
        <p:blipFill>
          <a:blip r:embed="rId4"/>
          <a:stretch/>
        </p:blipFill>
        <p:spPr>
          <a:xfrm>
            <a:off x="380880" y="2286000"/>
            <a:ext cx="472464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Where people liv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entral America-agriculture still importa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aribbean islands-tourism importa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ould these jobs be found in urban or rural areas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Informal Economy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jobs found in the tourism industry that do not include benefits or protection of worker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MEXCS16J111&#13;&#10;© Galen Rowell"/>
          <p:cNvPicPr/>
          <p:nvPr/>
        </p:nvPicPr>
        <p:blipFill>
          <a:blip r:embed="rId1"/>
          <a:stretch/>
        </p:blipFill>
        <p:spPr>
          <a:xfrm>
            <a:off x="228600" y="4038480"/>
            <a:ext cx="2895480" cy="1930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MEXCS16K052&#13;&#10;© Robert Frerck"/>
          <p:cNvPicPr/>
          <p:nvPr/>
        </p:nvPicPr>
        <p:blipFill>
          <a:blip r:embed="rId2"/>
          <a:stretch/>
        </p:blipFill>
        <p:spPr>
          <a:xfrm>
            <a:off x="5943600" y="4114800"/>
            <a:ext cx="2971800" cy="2000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MEXCS18H013&#13;&#10;© Robert Frerck"/>
          <p:cNvPicPr/>
          <p:nvPr/>
        </p:nvPicPr>
        <p:blipFill>
          <a:blip r:embed="rId3"/>
          <a:stretch/>
        </p:blipFill>
        <p:spPr>
          <a:xfrm>
            <a:off x="3200400" y="502920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FTAA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Free Trade Area of the America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Offers greater trading opportunities, world markets and economic growth for member countrie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o include all countries of North and South America except Cub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esigned to expand NAFT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rcos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conomic common market that began operating in the southern cone of South America in 199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Goal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—to make members’ economies more stable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crease trade in the region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use some money to improve the most need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Greatest South American success Stor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country of Chil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icipation in global tra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bundant Natural Resou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rrup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Corrup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- Acting dishonestly or immorall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history of corruption is one reason most Latin American countries are still developing economicall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cc"/>
                </a:solidFill>
                <a:latin typeface="Arial"/>
              </a:rPr>
              <a:t>Panama Canal</a:t>
            </a:r>
            <a:endParaRPr b="0" lang="en-US" sz="5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nama Canal is a system of locks that shortens the travel time and distance from the Pacific Ocean to the Atlantic Oce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nama Canal is an economic chokepoint in Latin Americ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nama Canal Vide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1276200"/>
            <a:ext cx="78483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526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E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ganization of Petroleum Exporting Countr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nezuela is a memb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ney from high oil prices has allowed them to purchase warship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nezuela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eck out this article and watch the clip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ttp://news.bbc.co.uk/2/hi/americas/7628899.st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Questions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What are the ships going to do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What implications does this have for the US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tural 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Minerals: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gold 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iron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copper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silver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nick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3743280" cy="2895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270480" y="2362320"/>
            <a:ext cx="2873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tural 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Agriculture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good climate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fertile soi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MEXCS11J008&#13;&#10;© Robert Frerck"/>
          <p:cNvPicPr/>
          <p:nvPr/>
        </p:nvPicPr>
        <p:blipFill>
          <a:blip r:embed="rId1"/>
          <a:stretch/>
        </p:blipFill>
        <p:spPr>
          <a:xfrm>
            <a:off x="4191120" y="1143000"/>
            <a:ext cx="4219560" cy="2870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MEXCS11F005&#13;&#10;© Russell Gordon"/>
          <p:cNvPicPr/>
          <p:nvPr/>
        </p:nvPicPr>
        <p:blipFill>
          <a:blip r:embed="rId2"/>
          <a:stretch/>
        </p:blipFill>
        <p:spPr>
          <a:xfrm>
            <a:off x="1676520" y="3429000"/>
            <a:ext cx="2340000" cy="3200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MEXCS11B018&#13;&#10;© Russell Gordon"/>
          <p:cNvPicPr/>
          <p:nvPr/>
        </p:nvPicPr>
        <p:blipFill>
          <a:blip r:embed="rId3"/>
          <a:stretch/>
        </p:blipFill>
        <p:spPr>
          <a:xfrm>
            <a:off x="5257800" y="4114800"/>
            <a:ext cx="259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lonial Influences in the Caribbe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Spanish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Established sugar plantations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Indians and Africans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Used as forced labor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EXCS11A059&#13;&#10;© Robert Frerck"/>
          <p:cNvPicPr/>
          <p:nvPr/>
        </p:nvPicPr>
        <p:blipFill>
          <a:blip r:embed="rId1"/>
          <a:stretch/>
        </p:blipFill>
        <p:spPr>
          <a:xfrm>
            <a:off x="5334120" y="3809880"/>
            <a:ext cx="312408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sh Crop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rops grown for direct sale, not for use in the region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Examples: sugar, bananas, citrus fruits, coffe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enefit land owners, not worker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MEXCL13C001&#13;&#10;© Robert Frerck"/>
          <p:cNvPicPr/>
          <p:nvPr/>
        </p:nvPicPr>
        <p:blipFill>
          <a:blip r:embed="rId1"/>
          <a:stretch/>
        </p:blipFill>
        <p:spPr>
          <a:xfrm>
            <a:off x="5715000" y="4529160"/>
            <a:ext cx="3048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02:43:20Z</dcterms:created>
  <dc:creator>Admin</dc:creator>
  <dc:description/>
  <dc:language>en-US</dc:language>
  <cp:lastModifiedBy>CFISD</cp:lastModifiedBy>
  <dcterms:modified xsi:type="dcterms:W3CDTF">2009-02-03T13:29:24Z</dcterms:modified>
  <cp:revision>13</cp:revision>
  <dc:subject/>
  <dc:title>Economics of Latin America</dc:title>
</cp:coreProperties>
</file>