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12A-A873-41DD-B297-EA73E3FA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237-A6B5-41D4-B9F3-F08D23B1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E28-1BB7-49E6-838B-301302C1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827-03CC-4B64-9312-3F90D260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A81-B055-4131-A6A8-F016008B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04D-AB7F-40C1-A758-B21AFFEF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0B3-D7BC-4F69-B2B7-9C5D5B56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8D7-733A-41C6-9F58-A3E3AC99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777-0544-499B-AFBB-0005FA64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8E7-4118-40C5-B793-D831067A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34D2-4566-4713-8BFD-A7255A4B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407-0725-4AC3-9062-9CF030C5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658E-A16C-4278-A8F8-A2613ACC9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ot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133720"/>
            <a:ext cx="2819160" cy="206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 =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 =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 =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kota Tri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trade alliance between Japan, South Korea, and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ll members’ econo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he standard of living of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rade with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2:17:33Z</dcterms:created>
  <dc:creator>CFISD</dc:creator>
  <dc:description/>
  <dc:language>en-US</dc:language>
  <cp:lastModifiedBy>CFISD</cp:lastModifiedBy>
  <dcterms:modified xsi:type="dcterms:W3CDTF">2009-04-21T12:20:43Z</dcterms:modified>
  <cp:revision>2</cp:revision>
  <dc:subject/>
  <dc:title>Economics</dc:title>
</cp:coreProperties>
</file>