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A1841-AB52-4BB2-8D50-D7F06BD76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AC21C-E6D4-4524-AC2E-5C5184097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95F31-DEB0-4D33-BEE0-59A008F32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5A0D3-CBEB-4618-B122-F0C5EA3E2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20C88-3707-4521-930C-E77DBC222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17858-0030-4B0F-B0FB-5355E2E5B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0BE12-9516-440B-AF15-8F15390DE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31B05-6891-4620-BB48-8D32C977E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234E1-4C8C-4EDA-9918-9893D0457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9E766-2EAF-4CE7-B595-86BB83F7F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65DB-9234-4CB0-8C52-C4B5A54F1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5A7A-DBFD-43D0-B826-573AA6A9B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5D30-13D3-42DA-97FE-CC167C6C18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xploringafrica.matrix.msu.edu/students/curriculum/m9/activity8.ph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orso2ndperiod.wikispaces.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of Afri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you will be attending Michigan State University for fre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 page in your notebook “MSU Module 9 – Economic After-math of Coloni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 – Module 9</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t>
            </a:r>
            <a:r>
              <a:rPr b="0" lang="en-US" sz="3200" spc="-1" strike="noStrike" u="sng">
                <a:solidFill>
                  <a:srgbClr val="009999"/>
                </a:solidFill>
                <a:uFillTx/>
                <a:latin typeface="Arial"/>
                <a:hlinkClick r:id="rId1"/>
              </a:rPr>
              <a:t>http://exploringafrica.matrix.msu.edu/students/curriculum/m9/activity8.ph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odule to complete the activities on the following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 – Module 9</a:t>
            </a:r>
            <a:endParaRPr b="0" lang="en-US" sz="4000" spc="-1" strike="noStrike">
              <a:solidFill>
                <a:srgbClr val="000000"/>
              </a:solidFill>
              <a:latin typeface="Arial"/>
            </a:endParaRPr>
          </a:p>
        </p:txBody>
      </p:sp>
      <p:sp>
        <p:nvSpPr>
          <p:cNvPr id="48" name="PlaceHolder 2"/>
          <p:cNvSpPr>
            <a:spLocks noGrp="1"/>
          </p:cNvSpPr>
          <p:nvPr>
            <p:ph/>
          </p:nvPr>
        </p:nvSpPr>
        <p:spPr>
          <a:xfrm>
            <a:off x="457200" y="762120"/>
            <a:ext cx="8686800" cy="5943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efine underdeveloped (click on the term for the defini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y were most African countries underdeveloped? (summarize the paragraphs numbered 1, 2, and 3 underneath the first into se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ow many countries are considered one-commodity countries? (click on the table of Basic Economic D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must African countries do to over being a one-commodity count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omplete the Problem One activity and answer the follow-up questions below: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1: African governments were not faced with easy choices. What policy do you think you would have followed if you were an African leader at independence?  Justify your decision, explain why your strategy is the best and the other is not as goo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problem 2.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Complete the questions at the bottom of the Mali/Soudan Case Study. (See the directions on the following sli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 – Module 9</a:t>
            </a:r>
            <a:endParaRPr b="0" lang="en-US" sz="4000" spc="-1" strike="noStrike">
              <a:solidFill>
                <a:srgbClr val="000000"/>
              </a:solidFill>
              <a:latin typeface="Arial"/>
            </a:endParaRPr>
          </a:p>
        </p:txBody>
      </p:sp>
      <p:sp>
        <p:nvSpPr>
          <p:cNvPr id="51" name="PlaceHolder 2"/>
          <p:cNvSpPr>
            <a:spLocks noGrp="1"/>
          </p:cNvSpPr>
          <p:nvPr>
            <p:ph/>
          </p:nvPr>
        </p:nvSpPr>
        <p:spPr>
          <a:xfrm>
            <a:off x="5866920" y="1371240"/>
            <a:ext cx="2667240" cy="426708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Complete the questions at the bottom of the Mali/Soudan Case Stud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here to access the caste study and the ques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flipH="1">
            <a:off x="4038480" y="4419720"/>
            <a:ext cx="1828800" cy="60948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a:t>
            </a:r>
            <a:endParaRPr b="0" lang="en-US" sz="4000" spc="-1" strike="noStrike">
              <a:solidFill>
                <a:srgbClr val="000000"/>
              </a:solidFill>
              <a:latin typeface="Arial"/>
            </a:endParaRPr>
          </a:p>
        </p:txBody>
      </p:sp>
      <p:sp>
        <p:nvSpPr>
          <p:cNvPr id="5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Go to </a:t>
            </a:r>
            <a:r>
              <a:rPr b="0" lang="en-US" sz="3200" spc="-1" strike="noStrike" u="sng">
                <a:solidFill>
                  <a:srgbClr val="009999"/>
                </a:solidFill>
                <a:uFillTx/>
                <a:latin typeface="Arial"/>
                <a:hlinkClick r:id="rId1"/>
              </a:rPr>
              <a:t>www.orso2ndperiod.wikispaces.co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pen the power point called “Aftermath of colonization – MSU.”  These are the 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mplete the questions in the directions power poi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2:04:46Z</dcterms:created>
  <dc:creator>CFISD</dc:creator>
  <dc:description/>
  <dc:language>en-US</dc:language>
  <cp:lastModifiedBy>CFISD</cp:lastModifiedBy>
  <dcterms:modified xsi:type="dcterms:W3CDTF">2009-05-07T12:35:25Z</dcterms:modified>
  <cp:revision>16</cp:revision>
  <dc:subject/>
  <dc:title>Colonization of Africa</dc:title>
</cp:coreProperties>
</file>