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F3411-A45B-4266-8046-2B4AC849C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5BD11-F3E5-47EE-B312-1859E769A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141380-3D79-4801-936A-8CB61BA737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1F805-1CA4-42E3-966F-B9FACCBCC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F4418-C3C1-432D-B45C-C2BA77DEF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FD127-42F7-407E-94AB-97D62EE20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18B94-4774-40FB-A192-A4959E07C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3BD82-CA1C-4B5E-B6CB-853AD63A3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0240C-0C2E-4257-BF66-5E550EA94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FCDB3-BB02-4D0A-B5AC-EF3D1DC72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99945-F887-4F41-B167-5DB6135AB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A41BD-7C96-43FB-B476-DBFC780B79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78C7B-6D29-46DA-9FFC-956A93A931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xploringafrica.matrix.msu.edu/students/curriculum/m9/activity8.php"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orso2ndperiod.wikispaces.co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zation of Afric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you will be attending Michigan State University for fre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tle a page in your notebook “MSU Module 9 – Economic After-math of Colonial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ions – Module 9</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a:t>
            </a:r>
            <a:r>
              <a:rPr b="0" lang="en-US" sz="3200" spc="-1" strike="noStrike" u="sng">
                <a:solidFill>
                  <a:srgbClr val="009999"/>
                </a:solidFill>
                <a:uFillTx/>
                <a:latin typeface="Arial"/>
                <a:hlinkClick r:id="rId1"/>
              </a:rPr>
              <a:t>http://exploringafrica.matrix.msu.edu/students/curriculum/m9/activity8.ph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module to complete the activities on the following sl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33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ions – Module 9</a:t>
            </a:r>
            <a:endParaRPr b="0" lang="en-US" sz="4000" spc="-1" strike="noStrike">
              <a:solidFill>
                <a:srgbClr val="000000"/>
              </a:solidFill>
              <a:latin typeface="Arial"/>
            </a:endParaRPr>
          </a:p>
        </p:txBody>
      </p:sp>
      <p:sp>
        <p:nvSpPr>
          <p:cNvPr id="48" name="PlaceHolder 2"/>
          <p:cNvSpPr>
            <a:spLocks noGrp="1"/>
          </p:cNvSpPr>
          <p:nvPr>
            <p:ph/>
          </p:nvPr>
        </p:nvSpPr>
        <p:spPr>
          <a:xfrm>
            <a:off x="457200" y="762120"/>
            <a:ext cx="8686800" cy="5943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Define underdeveloped (click on the term for the defini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y were most African countries underdeveloped? (summarize the paragraphs numbered 1, 2, and 3 underneath the first into sec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How many countries are considered one-commodity countries? (click on the table of Basic Economic Dat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What must African countries do to over being a one-commodity countr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Complete the Problem One activity and answer the follow-up questions below: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1: African governments were not faced with easy choices. What policy do you think you would have followed if you were an African leader at independence?  Justify your decision, explain why your strategy is the best and the other is not as goo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p problem 2.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Complete the questions at the bottom of the Mali/Soudan Case Study. (See the directions on the following slid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title"/>
          </p:nvPr>
        </p:nvSpPr>
        <p:spPr>
          <a:xfrm>
            <a:off x="457200" y="151920"/>
            <a:ext cx="8229600" cy="33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ions – Module 9</a:t>
            </a:r>
            <a:endParaRPr b="0" lang="en-US" sz="4000" spc="-1" strike="noStrike">
              <a:solidFill>
                <a:srgbClr val="000000"/>
              </a:solidFill>
              <a:latin typeface="Arial"/>
            </a:endParaRPr>
          </a:p>
        </p:txBody>
      </p:sp>
      <p:sp>
        <p:nvSpPr>
          <p:cNvPr id="51" name="PlaceHolder 2"/>
          <p:cNvSpPr>
            <a:spLocks noGrp="1"/>
          </p:cNvSpPr>
          <p:nvPr>
            <p:ph/>
          </p:nvPr>
        </p:nvSpPr>
        <p:spPr>
          <a:xfrm>
            <a:off x="5866920" y="1371240"/>
            <a:ext cx="2667240" cy="4267080"/>
          </a:xfrm>
          <a:prstGeom prst="rect">
            <a:avLst/>
          </a:prstGeom>
          <a:noFill/>
          <a:ln w="9360">
            <a:solidFill>
              <a:srgbClr val="000000"/>
            </a:solidFill>
            <a:miter/>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Complete the questions at the bottom of the Mali/Soudan Case Study.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here to access the caste study and the questio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flipH="1">
            <a:off x="4038480" y="4419720"/>
            <a:ext cx="1828800" cy="60948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ions</a:t>
            </a:r>
            <a:endParaRPr b="0" lang="en-US" sz="4000" spc="-1" strike="noStrike">
              <a:solidFill>
                <a:srgbClr val="000000"/>
              </a:solidFill>
              <a:latin typeface="Arial"/>
            </a:endParaRPr>
          </a:p>
        </p:txBody>
      </p:sp>
      <p:sp>
        <p:nvSpPr>
          <p:cNvPr id="54"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Go to </a:t>
            </a:r>
            <a:r>
              <a:rPr b="0" lang="en-US" sz="3200" spc="-1" strike="noStrike" u="sng">
                <a:solidFill>
                  <a:srgbClr val="009999"/>
                </a:solidFill>
                <a:uFillTx/>
                <a:latin typeface="Arial"/>
                <a:hlinkClick r:id="rId1"/>
              </a:rPr>
              <a:t>www.orso2ndperiod.wikispaces.com</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Open the power point called “Aftermath of colonization – MSU.”  These are the directio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Complete the questions in the directions power poin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12:04:46Z</dcterms:created>
  <dc:creator>CFISD</dc:creator>
  <dc:description/>
  <dc:language>en-US</dc:language>
  <cp:lastModifiedBy>CFISD</cp:lastModifiedBy>
  <dcterms:modified xsi:type="dcterms:W3CDTF">2009-05-07T12:35:25Z</dcterms:modified>
  <cp:revision>16</cp:revision>
  <dc:subject/>
  <dc:title>Colonization of Africa</dc:title>
</cp:coreProperties>
</file>