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EA07-BDD7-46F9-A283-040EAA86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46CA-9B60-4E17-8DBC-C49EA1FA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1B04-8EB2-4F93-A76D-B32E3B7A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0BF-D143-4673-A43A-EBD7B9C0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EE65-FE2D-4D60-8FAE-47F402DF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2200-6332-48F1-A07F-0917F0A7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3095-5238-4DC5-8A14-AE9FA213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6FB0-FF79-49FE-B055-ED0968EF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BBC0-D1EB-4BDB-89F0-87C68576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86E4-5C8D-4421-BA9A-E0A29DFA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A012-378F-4A0D-89AB-4951A7D7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D8B-6332-4BC7-999F-B539A524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7A33-E3C9-4C52-9CD2-23786799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BECD9-EC5A-434B-BF5B-C359416D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0DBC-0984-4709-B5CC-DFAC2AA4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9523-2BE8-4CE2-B240-16078A90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F595-5993-4F5D-A0EE-73D60FBE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3A1E8-38C4-493B-BE05-E669C033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BF8FE-5D31-4E6B-91C0-EFF3A5E0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8FA7CE-90B0-4234-AAA6-747D6D03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6020B7-E7BB-4710-B42B-00F14A46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94D480-1129-4A4D-945B-25A0C282E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DE99-4222-45E2-A570-BD6FF42C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0E79CF-9D41-402A-A781-194EA5EB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DABEE-6402-4017-BB42-0F99350F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C2417-8C04-4E85-960B-0F7F37B4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95EC8-B735-4F9D-8576-04F05015A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AD5227-2963-49D1-81A5-6AB55901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5EF1AD-1A46-4BDB-9977-F0753794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2AA1B-5916-4A76-B1C4-EFF4C322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04484-9387-4171-97D9-79BB7E53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21D0D-C055-4AFD-BA17-0694CA19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296C0-B705-40A2-85A2-09070BF2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9CD2-F64D-4D59-A5A7-7F474416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93324-4D0E-41DF-A06A-97B50E07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9F032-0C41-43BA-A073-86A36143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B4F31-C454-48F1-BB48-4572F63E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0C5C2-DE2E-43EF-8D3A-A34CA775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4AC42-1BFA-4CC0-9006-F8F8A669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C9D8B-4301-43E9-998A-D6C4121F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48BBC-4B55-456B-9EDF-51F5E27C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8EFF7-0AC9-428C-B07F-C2BF0C78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9DC4E-A81A-4FDE-87F0-7B2C2DCC9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10F-D1FB-44DD-916B-D7CA9BBE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D663-9547-4412-9433-1F71DCA4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30F8-1842-424A-A005-0A34C97E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58BD-07F6-47AC-BFFD-08F30DF0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C555-99FA-4B00-ADD9-30C70F60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895B-1091-4472-BD0A-F6A09CCCA3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BD371-F7F7-4EC2-BB0D-076AD8B860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95DC-A6DF-483A-AE36-0592FE1AB9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9607-C133-475A-8CF2-865175FC09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1905120" y="380880"/>
            <a:ext cx="5010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ast/Southeast Asi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914400" y="4952880"/>
            <a:ext cx="25336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acock, Zarosky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SO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st Period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pril 23, 2009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9" name="Picture 10" descr="http://www.opendoorsusa.org/UserFiles/Image/Maps/SoutheastAsia_ODUSA_ministry_map.jpg"/>
          <p:cNvPicPr/>
          <p:nvPr/>
        </p:nvPicPr>
        <p:blipFill>
          <a:blip r:embed="rId2"/>
          <a:stretch/>
        </p:blipFill>
        <p:spPr>
          <a:xfrm>
            <a:off x="4038480" y="2743200"/>
            <a:ext cx="4810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2438280" y="380880"/>
            <a:ext cx="3714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hysical Geograph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1" name="Picture 5" descr="File:Southeast asia.jpg"/>
          <p:cNvPicPr/>
          <p:nvPr/>
        </p:nvPicPr>
        <p:blipFill>
          <a:blip r:embed="rId1"/>
          <a:stretch/>
        </p:blipFill>
        <p:spPr>
          <a:xfrm>
            <a:off x="4876920" y="1752480"/>
            <a:ext cx="3895560" cy="44532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5"/>
          <p:cNvSpPr/>
          <p:nvPr/>
        </p:nvSpPr>
        <p:spPr>
          <a:xfrm>
            <a:off x="1066680" y="5715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ains And Deserts contribute to China's iso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066680" y="41911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eat Wall of china is significant because it isolates china and keeps foreigners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06668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 has adapted to the ring of fire by buildings on giant springs and a huge inner water free z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4"/>
          <p:cNvSpPr txBox="1"/>
          <p:nvPr/>
        </p:nvSpPr>
        <p:spPr>
          <a:xfrm>
            <a:off x="3886200" y="609480"/>
            <a:ext cx="752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E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914400" y="18288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Arable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tonic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http://anthro.palomar.edu/subsistence/images/terraced_farm_fields.jpg"/>
          <p:cNvPicPr/>
          <p:nvPr/>
        </p:nvPicPr>
        <p:blipFill>
          <a:blip r:embed="rId4"/>
          <a:stretch/>
        </p:blipFill>
        <p:spPr>
          <a:xfrm>
            <a:off x="5334120" y="4038480"/>
            <a:ext cx="3485880" cy="2438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85800" y="396252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to the lack of arable land, they are forced to use different techniques such as terraced farm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52578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the dangerous tectonic activities, they build buildings on huge spr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2971800" y="380880"/>
            <a:ext cx="2666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pul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1" name="Object 5" descr=""/>
          <p:cNvPicPr/>
          <p:nvPr/>
        </p:nvPicPr>
        <p:blipFill>
          <a:blip r:embed="rId2"/>
          <a:stretch/>
        </p:blipFill>
        <p:spPr>
          <a:xfrm>
            <a:off x="4038480" y="2133720"/>
            <a:ext cx="4772160" cy="330516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5" descr=""/>
          <p:cNvPicPr/>
          <p:nvPr/>
        </p:nvPicPr>
        <p:blipFill>
          <a:blip r:embed="rId3"/>
          <a:stretch/>
        </p:blipFill>
        <p:spPr>
          <a:xfrm>
            <a:off x="-365040" y="2066760"/>
            <a:ext cx="4357440" cy="11462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6"/>
          <p:cNvSpPr/>
          <p:nvPr/>
        </p:nvSpPr>
        <p:spPr>
          <a:xfrm>
            <a:off x="380880" y="342900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apore has under population problem. I feel the only one way you can solve this is to bribe people to have k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3505320" y="457200"/>
            <a:ext cx="1695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elig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3352680" y="4648320"/>
            <a:ext cx="556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dhism Video http://video.google.com/videosearch?imgsz=small%7Cmedium%7Clarge%7Cxlarge&amp;hl=en&amp;um=1&amp;q=buddhism&amp;ie=UTF-8&amp;sa=N&amp;tab=iv#imgsz=small%7Cmedium%7Clarge%7Cxlarge&amp;hl=en&amp;um=1&amp;q=buddhism&amp;ie=UTF-8&amp;sa=N&amp;tab=iv&amp;dur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523880"/>
            <a:ext cx="1524240" cy="90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uddhism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52680" y="1523880"/>
            <a:ext cx="216216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onfuciasm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 rot="496800">
            <a:off x="6857640" y="1447920"/>
            <a:ext cx="1066680" cy="11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002000"/>
                </a:gradFill>
                <a:latin typeface="Impact"/>
              </a:rPr>
              <a:t>Shi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002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Jap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29000" y="2590920"/>
            <a:ext cx="19051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elief in anc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2743200"/>
            <a:ext cx="198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Belief in spirits and 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3200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Four Noble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4"/>
          <p:cNvSpPr txBox="1"/>
          <p:nvPr/>
        </p:nvSpPr>
        <p:spPr>
          <a:xfrm>
            <a:off x="2971800" y="304920"/>
            <a:ext cx="237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un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WordArt 4"/>
          <p:cNvSpPr txBox="1"/>
          <p:nvPr/>
        </p:nvSpPr>
        <p:spPr>
          <a:xfrm>
            <a:off x="3200400" y="609480"/>
            <a:ext cx="1851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conomic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55" name="Object 5" descr=""/>
          <p:cNvPicPr/>
          <p:nvPr/>
        </p:nvPicPr>
        <p:blipFill>
          <a:blip r:embed="rId1"/>
          <a:stretch/>
        </p:blipFill>
        <p:spPr>
          <a:xfrm>
            <a:off x="4800600" y="1600200"/>
            <a:ext cx="4075200" cy="4114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762120" y="1523880"/>
            <a:ext cx="2371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wo Barrier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590920"/>
            <a:ext cx="32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WordArt 4"/>
          <p:cNvSpPr txBox="1"/>
          <p:nvPr/>
        </p:nvSpPr>
        <p:spPr>
          <a:xfrm>
            <a:off x="3429000" y="533520"/>
            <a:ext cx="2019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clusi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1828800"/>
            <a:ext cx="6172200" cy="43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Communist Government- the government controls all of the citizens r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overopulation- The people have no room to live and have limited amounts of kids because of this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Graying Population- A under population has a huge affect on the economy because there are not many people purchasing go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Barriers for trade- The barriers are a huge economic problem because it is hard to get around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Command Economy- the economy is hard to make a living because the government controls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Isolation- isolation of southeast Asia makes it hard to tr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629400" y="990720"/>
            <a:ext cx="180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blems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WordArt 4"/>
          <p:cNvSpPr txBox="1"/>
          <p:nvPr/>
        </p:nvSpPr>
        <p:spPr>
          <a:xfrm rot="358200">
            <a:off x="6248160" y="837720"/>
            <a:ext cx="214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nclu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262" name=""/>
          <p:cNvSpPr txBox="1"/>
          <p:nvPr/>
        </p:nvSpPr>
        <p:spPr>
          <a:xfrm rot="20205600">
            <a:off x="685800" y="761760"/>
            <a:ext cx="18003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oluti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2666880"/>
            <a:ext cx="746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1951200"/>
            <a:ext cx="77724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There needs to be a democratic govern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40:23Z</dcterms:created>
  <dc:creator>cfisd</dc:creator>
  <dc:description/>
  <dc:language>en-US</dc:language>
  <cp:lastModifiedBy>cfisd</cp:lastModifiedBy>
  <dcterms:modified xsi:type="dcterms:W3CDTF">2009-04-24T13:10:30Z</dcterms:modified>
  <cp:revision>8</cp:revision>
  <dc:subject/>
  <dc:title>Slide 1</dc:title>
</cp:coreProperties>
</file>