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27E-BFB6-4C6A-8A70-64D0C381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EF4-3055-4309-8733-B04444CA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B4D-FB16-41EE-985D-97FE20C3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E7F-A91E-4F7B-862F-B6234CDF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7594-396C-45DE-AD29-75B41FE0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E2FD-F66D-4B6B-96AC-A98B7F77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6CA8-CD6D-4EA4-9915-776CFB42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8EC6-4D7B-4639-A3AF-319EF2BB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865F-9585-4648-A60B-0556D6E9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1064-9CEE-41FD-B3DE-04311D1D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1039-7E65-4FA0-A2E5-B6DECD83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651-0F7F-4667-9455-1353378C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A154-5421-4EF6-B90B-9F311006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4F6B-CA6B-4582-A769-909D45BB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D319-03DE-4772-9545-81F94496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03CF-504F-406D-99ED-687E1757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C643-7558-48C7-874B-C06C24CF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2D92B-ADC6-4864-875C-8245E907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BBB25-0F91-4EC4-994B-F6008BF4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9E5AB-09EB-4687-94E4-09F36DD7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D0F15-A294-4FF8-8C22-5DE4B23D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7A0FA-B65B-4CEB-AD10-097D3108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4E4-C820-48C9-AD61-ED6465D0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3547E-B9ED-42B8-AF80-52D51479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45278-C751-4D2E-94F5-CCD02DDD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0B852-214A-4FA4-8BD4-0FB61EA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FC91C-A86A-4CCC-A38E-61CE9C95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0B3F4-227A-4FF4-98B0-DFC3158F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51271-33CA-43D9-9DC2-5232CA82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6736E-F0A7-4D99-B5AD-6AA4161C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F76A5-787D-46E2-8453-FF411A50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7C88D-8FFA-4F7B-A512-FA7F96F3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17734-12E3-4489-A7DD-870867A6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A96-7A01-4615-872E-1509EBAA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17CC1-FCCF-47CC-AE79-8D44A1F2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066C7-20F5-4C32-9754-96408E15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5347E-C280-4E17-A9D3-D63F2F25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2002B-7498-483A-82BA-1815BCD3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A2392-8F3F-4413-88DA-7DFD1358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93C52-0446-42D0-9A6D-14F3E63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20AF0-A35B-4530-AC73-53B15468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67D4-A4B1-42C1-8C6B-E6F1CF0C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4EDB4-3726-4334-8586-DA872861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0F2-291B-4DA5-82DF-00385CFA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3C6-63FA-4D4C-BEC8-8D910285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467-E7CE-4551-A69F-B2F0A384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592-6093-4CFB-9E14-33301ADC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319-63D6-42F3-8F5A-B606BAAA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972A-925A-45F4-AFD9-2658C27B22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2435-4534-4313-A475-5E8B7F4CF7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FAB1-FCDF-46BB-9BA1-14FB8A5ED7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4246-DD91-41AB-93AD-EE6BE2352F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905120" y="3808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ast/Southeast As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914400" y="4952880"/>
            <a:ext cx="25336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acock, Zarosky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SO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st Period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ril 23, 2009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Picture 10" descr="http://www.opendoorsusa.org/UserFiles/Image/Maps/SoutheastAsia_ODUSA_ministry_map.jpg"/>
          <p:cNvPicPr/>
          <p:nvPr/>
        </p:nvPicPr>
        <p:blipFill>
          <a:blip r:embed="rId2"/>
          <a:stretch/>
        </p:blipFill>
        <p:spPr>
          <a:xfrm>
            <a:off x="4038480" y="2743200"/>
            <a:ext cx="4810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2438280" y="380880"/>
            <a:ext cx="3714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ysical Geograph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File:Southeast asia.jpg"/>
          <p:cNvPicPr/>
          <p:nvPr/>
        </p:nvPicPr>
        <p:blipFill>
          <a:blip r:embed="rId1"/>
          <a:stretch/>
        </p:blipFill>
        <p:spPr>
          <a:xfrm>
            <a:off x="4876920" y="1752480"/>
            <a:ext cx="3895560" cy="445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066680" y="571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Deserts contribute to China'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066680" y="4191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is significant because it isolates china and keeps foreigners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6668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the ring of fire by buildings on giant springs and a huge inner water free 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3886200" y="609480"/>
            <a:ext cx="752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91440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Arabl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on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anthro.palomar.edu/subsistence/images/terraced_farm_fields.jpg"/>
          <p:cNvPicPr/>
          <p:nvPr/>
        </p:nvPicPr>
        <p:blipFill>
          <a:blip r:embed="rId4"/>
          <a:stretch/>
        </p:blipFill>
        <p:spPr>
          <a:xfrm>
            <a:off x="5334120" y="4038480"/>
            <a:ext cx="3485880" cy="2438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39625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the lack of arable land, they are forced to use different techniques such as terraced far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2578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the dangerous tectonic activities, they build buildings on huge sp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297180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1" name="Object 5" descr=""/>
          <p:cNvPicPr/>
          <p:nvPr/>
        </p:nvPicPr>
        <p:blipFill>
          <a:blip r:embed="rId2"/>
          <a:stretch/>
        </p:blipFill>
        <p:spPr>
          <a:xfrm>
            <a:off x="4038480" y="2133720"/>
            <a:ext cx="4772160" cy="33051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5" descr=""/>
          <p:cNvPicPr/>
          <p:nvPr/>
        </p:nvPicPr>
        <p:blipFill>
          <a:blip r:embed="rId3"/>
          <a:stretch/>
        </p:blipFill>
        <p:spPr>
          <a:xfrm>
            <a:off x="-365040" y="2066760"/>
            <a:ext cx="4357440" cy="11462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380880" y="3429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apore has under population problem. I feel the only one way you can solve this is to bribe people to have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3505320" y="457200"/>
            <a:ext cx="169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lig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352680" y="4648320"/>
            <a:ext cx="556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dhism Video http://video.google.com/videosearch?imgsz=small%7Cmedium%7Clarge%7Cxlarge&amp;hl=en&amp;um=1&amp;q=buddhism&amp;ie=UTF-8&amp;sa=N&amp;tab=iv#imgsz=small%7Cmedium%7Clarge%7Cxlarge&amp;hl=en&amp;um=1&amp;q=buddhism&amp;ie=UTF-8&amp;sa=N&amp;tab=iv&amp;du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523880"/>
            <a:ext cx="152424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uddhis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52680" y="1523880"/>
            <a:ext cx="2162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onfucias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 rot="496800">
            <a:off x="6857640" y="1447920"/>
            <a:ext cx="106668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002000"/>
                </a:gradFill>
                <a:latin typeface="Impact"/>
              </a:rPr>
              <a:t>Shi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002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2590920"/>
            <a:ext cx="1905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elief in anc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2743200"/>
            <a:ext cx="198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elief in spirits and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Four Nobl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4"/>
          <p:cNvSpPr txBox="1"/>
          <p:nvPr/>
        </p:nvSpPr>
        <p:spPr>
          <a:xfrm>
            <a:off x="2971800" y="304920"/>
            <a:ext cx="23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4"/>
          <p:cNvSpPr txBox="1"/>
          <p:nvPr/>
        </p:nvSpPr>
        <p:spPr>
          <a:xfrm>
            <a:off x="3200400" y="609480"/>
            <a:ext cx="1851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con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5" name="Object 5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075200" cy="4114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62120" y="1523880"/>
            <a:ext cx="237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wo Barrier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590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4"/>
          <p:cNvSpPr txBox="1"/>
          <p:nvPr/>
        </p:nvSpPr>
        <p:spPr>
          <a:xfrm>
            <a:off x="3429000" y="533520"/>
            <a:ext cx="2019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clus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1828800"/>
            <a:ext cx="61722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Communist Government- the government controls all of the citizens r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overopulation- The people have no room to live and have limited amounts of kids because of this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Graying Population- A under population has a huge affect on the economy because there are not many people purchasing g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Barriers for trade- The barriers are a huge economic problem because it is hard to get around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Command Economy- the economy is hard to make a living because the government controls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Isolation- isolation of southeast Asia makes it hard to t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629400" y="990720"/>
            <a:ext cx="18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ble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 rot="358200">
            <a:off x="6248160" y="837720"/>
            <a:ext cx="214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 rot="20205600">
            <a:off x="685800" y="761760"/>
            <a:ext cx="1800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lu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266688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951200"/>
            <a:ext cx="77724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There needs to be a democratic gover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40:23Z</dcterms:created>
  <dc:creator>cfisd</dc:creator>
  <dc:description/>
  <dc:language>en-US</dc:language>
  <cp:lastModifiedBy>cfisd</cp:lastModifiedBy>
  <dcterms:modified xsi:type="dcterms:W3CDTF">2009-04-24T13:10:30Z</dcterms:modified>
  <cp:revision>8</cp:revision>
  <dc:subject/>
  <dc:title>Slide 1</dc:title>
</cp:coreProperties>
</file>