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562A-26DE-4F69-A509-D295B363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334B-7E82-4F54-A1E2-C037A003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DAB2-4602-470F-8E45-91A23BEB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9735-741A-4359-93E1-043DE97C6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DF9D-A763-4426-97A8-A96F960D3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13AE-ECF0-4F46-9B5D-5F156105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C967-BC63-4FB6-A1FC-55F9D7FC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3277-E8F4-4318-89C8-E51445D9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CB64-BFFE-4260-99EC-DC0E66B7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D6F5-A644-4CEF-B1F9-871DEBAA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0FA6-42B0-4342-80DD-4F9BEDDE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B7A0-6292-4205-B3CE-CD75F09E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CDD2-484F-4D54-8E0F-9E71DB05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C17B-7EC8-4412-ACA0-5B756C34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C085-70C1-433C-8D18-E86DEA80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0DFE-648E-42BC-AFEC-EC0AADB14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7782-7B66-4E63-971A-F1CA14848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83C86F-0EFC-40E5-8770-D324E19B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3959C8-8FC4-4C68-8D3D-F2CA51D3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8AB328-E960-44D2-B104-85D254D5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79C7C7-21C9-4464-9F2C-3BB1D393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DE17B8-8EAC-4BB4-8A74-76F33B6A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3A80-9BAD-4890-B386-EE8EE528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78FCA5-87D6-4020-9FC2-8C6A3BB0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902968-181B-4323-8D4F-E3744743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D4B244-1952-4DED-911C-45D8EC43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CEB41E-0DEF-43EE-B4CA-BE06501C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900071-9673-42F0-AC0B-D8815E08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7BAFDE-5373-456C-9B1A-FDBB2A23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68A527-1328-4D55-8FAB-71278E632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3EDAA-C6F3-4BA6-A654-BE951684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09132-6DA9-4E3C-97E2-B1A5A2BA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923E8-3565-4847-835D-7BC01A6C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A97E-9190-4A40-B3BF-CF421E7C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FE28A-D230-47B0-AB03-025107EA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8257B-4E09-4E3E-98A0-8DFF82EF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F3D15-A4AE-4CE9-88AA-7CD24503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1E308-396E-4ACD-8D27-DF383206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BA90E-60D8-4D1D-B179-33349CC4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11A5C-DB60-4A0B-B158-FF8DE049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BC885-BD27-439C-9365-5434E94C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8515E-07A8-4EE1-AF57-369EB5A15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2A745-1CEC-4071-AE97-6C9397DF8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A1F3-2ED1-46D8-AE95-C65F8ED2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D2A0-CC5E-4FD1-ADD8-51DC0231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F912-D4A7-4B16-B993-314013CE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214F-8C09-4A23-A3F8-3DC62B72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C94B-440A-4128-A279-09C4E745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6FE3-B15B-45FC-8BD5-A9147CB8A0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C5BE-2DF6-466E-9D76-836C17AB6A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40D5-1D1A-45FC-B078-3DE3A813F0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CC7E-6776-471B-B701-6B964118CC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4"/>
          <p:cNvSpPr txBox="1"/>
          <p:nvPr/>
        </p:nvSpPr>
        <p:spPr>
          <a:xfrm>
            <a:off x="1905120" y="380880"/>
            <a:ext cx="5010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ast/Southeast Asi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8" name="WordArt 5"/>
          <p:cNvSpPr txBox="1"/>
          <p:nvPr/>
        </p:nvSpPr>
        <p:spPr>
          <a:xfrm>
            <a:off x="914400" y="4952880"/>
            <a:ext cx="253368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eacock, Zarosky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RSO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st Period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pril 23, 2009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29" name="Picture 10" descr="http://www.opendoorsusa.org/UserFiles/Image/Maps/SoutheastAsia_ODUSA_ministry_map.jpg"/>
          <p:cNvPicPr/>
          <p:nvPr/>
        </p:nvPicPr>
        <p:blipFill>
          <a:blip r:embed="rId2"/>
          <a:stretch/>
        </p:blipFill>
        <p:spPr>
          <a:xfrm>
            <a:off x="4038480" y="2743200"/>
            <a:ext cx="4810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4"/>
          <p:cNvSpPr txBox="1"/>
          <p:nvPr/>
        </p:nvSpPr>
        <p:spPr>
          <a:xfrm>
            <a:off x="2438280" y="380880"/>
            <a:ext cx="3714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hysical Geography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1" name="Picture 5" descr="File:Southeast asia.jpg"/>
          <p:cNvPicPr/>
          <p:nvPr/>
        </p:nvPicPr>
        <p:blipFill>
          <a:blip r:embed="rId1"/>
          <a:stretch/>
        </p:blipFill>
        <p:spPr>
          <a:xfrm>
            <a:off x="4876920" y="1752480"/>
            <a:ext cx="3895560" cy="44532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5"/>
          <p:cNvSpPr/>
          <p:nvPr/>
        </p:nvSpPr>
        <p:spPr>
          <a:xfrm>
            <a:off x="1066680" y="57150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ains And Deserts contribute to China's iso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1066680" y="419112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eat Wall of china is significant because it isolates china and keeps foreigners 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1066680" y="23623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 has adapted to the ring of fire by buildings on giant springs and a huge inner water free z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4"/>
          <p:cNvSpPr txBox="1"/>
          <p:nvPr/>
        </p:nvSpPr>
        <p:spPr>
          <a:xfrm>
            <a:off x="3886200" y="609480"/>
            <a:ext cx="752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HEI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914400" y="182880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s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 of Arable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tonic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http://anthro.palomar.edu/subsistence/images/terraced_farm_fields.jpg"/>
          <p:cNvPicPr/>
          <p:nvPr/>
        </p:nvPicPr>
        <p:blipFill>
          <a:blip r:embed="rId4"/>
          <a:stretch/>
        </p:blipFill>
        <p:spPr>
          <a:xfrm>
            <a:off x="5334120" y="4038480"/>
            <a:ext cx="3485880" cy="24386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85800" y="396252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e to the lack of arable land, they are forced to use different techniques such as terraced farm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525780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of the dangerous tectonic activities, they build buildings on huge spr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4"/>
          <p:cNvSpPr txBox="1"/>
          <p:nvPr/>
        </p:nvSpPr>
        <p:spPr>
          <a:xfrm>
            <a:off x="2971800" y="380880"/>
            <a:ext cx="2666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opul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1" name="Object 5" descr=""/>
          <p:cNvPicPr/>
          <p:nvPr/>
        </p:nvPicPr>
        <p:blipFill>
          <a:blip r:embed="rId2"/>
          <a:stretch/>
        </p:blipFill>
        <p:spPr>
          <a:xfrm>
            <a:off x="4038480" y="2133720"/>
            <a:ext cx="4772160" cy="3305160"/>
          </a:xfrm>
          <a:prstGeom prst="rect">
            <a:avLst/>
          </a:prstGeom>
          <a:ln w="0">
            <a:noFill/>
          </a:ln>
        </p:spPr>
      </p:pic>
      <p:pic>
        <p:nvPicPr>
          <p:cNvPr id="242" name="Rectangle 5" descr=""/>
          <p:cNvPicPr/>
          <p:nvPr/>
        </p:nvPicPr>
        <p:blipFill>
          <a:blip r:embed="rId3"/>
          <a:stretch/>
        </p:blipFill>
        <p:spPr>
          <a:xfrm>
            <a:off x="-365040" y="2066760"/>
            <a:ext cx="4357440" cy="1146240"/>
          </a:xfrm>
          <a:prstGeom prst="rect">
            <a:avLst/>
          </a:prstGeom>
          <a:ln w="0">
            <a:noFill/>
          </a:ln>
        </p:spPr>
      </p:pic>
      <p:sp>
        <p:nvSpPr>
          <p:cNvPr id="243" name="TextBox 6"/>
          <p:cNvSpPr/>
          <p:nvPr/>
        </p:nvSpPr>
        <p:spPr>
          <a:xfrm>
            <a:off x="380880" y="3429000"/>
            <a:ext cx="304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apore has under population problem. I feel the only one way you can solve this is to bribe people to have k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4"/>
          <p:cNvSpPr txBox="1"/>
          <p:nvPr/>
        </p:nvSpPr>
        <p:spPr>
          <a:xfrm>
            <a:off x="3505320" y="457200"/>
            <a:ext cx="16952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Religion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3352680" y="4648320"/>
            <a:ext cx="556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dhism Video http://video.google.com/videosearch?imgsz=small%7Cmedium%7Clarge%7Cxlarge&amp;hl=en&amp;um=1&amp;q=buddhism&amp;ie=UTF-8&amp;sa=N&amp;tab=iv#imgsz=small%7Cmedium%7Clarge%7Cxlarge&amp;hl=en&amp;um=1&amp;q=buddhism&amp;ie=UTF-8&amp;sa=N&amp;tab=iv&amp;dur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523880"/>
            <a:ext cx="152424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uddhism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352680" y="1523880"/>
            <a:ext cx="216216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onfuciasm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 rot="496800">
            <a:off x="6857640" y="1447920"/>
            <a:ext cx="1066680" cy="11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002000"/>
                </a:gradFill>
                <a:latin typeface="Impact"/>
              </a:rPr>
              <a:t>Shin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002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27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429000" y="2590920"/>
            <a:ext cx="19051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Belief in ance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2743200"/>
            <a:ext cx="1981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Belief in spirits and an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32004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Four Noble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WordArt 4"/>
          <p:cNvSpPr txBox="1"/>
          <p:nvPr/>
        </p:nvSpPr>
        <p:spPr>
          <a:xfrm>
            <a:off x="2971800" y="304920"/>
            <a:ext cx="2371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mun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4"/>
          <p:cNvSpPr txBox="1"/>
          <p:nvPr/>
        </p:nvSpPr>
        <p:spPr>
          <a:xfrm>
            <a:off x="3200400" y="609480"/>
            <a:ext cx="1851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Economic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55" name="Object 5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4075200" cy="4114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762120" y="1523880"/>
            <a:ext cx="2371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wo Barrier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590920"/>
            <a:ext cx="32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WordArt 4"/>
          <p:cNvSpPr txBox="1"/>
          <p:nvPr/>
        </p:nvSpPr>
        <p:spPr>
          <a:xfrm>
            <a:off x="3429000" y="533520"/>
            <a:ext cx="20192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clusion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66680" y="1828800"/>
            <a:ext cx="617220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Communist Government- the government controls all of the citizens r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overopulation- The people have no room to live and have limited amounts of kids because of this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Graying Population- A under population has a huge affect on the economy because there are not many people purchasing go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Barriers for trade- The barriers are a huge economic problem because it is hard to get around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Command Economy- the economy is hard to make a living because the government controls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Isolation- isolation of southeast Asia makes it hard to tr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629400" y="990720"/>
            <a:ext cx="180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oblem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4"/>
          <p:cNvSpPr txBox="1"/>
          <p:nvPr/>
        </p:nvSpPr>
        <p:spPr>
          <a:xfrm rot="358200">
            <a:off x="6248160" y="837720"/>
            <a:ext cx="2143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Conclus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62" name=""/>
          <p:cNvSpPr txBox="1"/>
          <p:nvPr/>
        </p:nvSpPr>
        <p:spPr>
          <a:xfrm rot="20205600">
            <a:off x="685800" y="761760"/>
            <a:ext cx="18003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olution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"/>
          <p:cNvSpPr/>
          <p:nvPr/>
        </p:nvSpPr>
        <p:spPr>
          <a:xfrm>
            <a:off x="838080" y="2666880"/>
            <a:ext cx="746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1951200"/>
            <a:ext cx="77724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There needs to be a democratic gover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2:40:23Z</dcterms:created>
  <dc:creator>cfisd</dc:creator>
  <dc:description/>
  <dc:language>en-US</dc:language>
  <cp:lastModifiedBy>cfisd</cp:lastModifiedBy>
  <dcterms:modified xsi:type="dcterms:W3CDTF">2009-04-24T13:10:30Z</dcterms:modified>
  <cp:revision>8</cp:revision>
  <dc:subject/>
  <dc:title>Slide 1</dc:title>
</cp:coreProperties>
</file>