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9198-FDF5-4392-A95E-C820C644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BE6-2F3A-46ED-B85E-4E2F4219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A48-EFD1-46EC-8140-89114974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8BE1-7B00-4035-BD74-7D3254ABC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EE08C-633B-458A-BF98-716D6E2F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FEE6-77E7-4212-ADD0-B09FF6E5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444E-5AD3-4700-8516-A9963337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AACF-5007-489F-8593-BB58A27C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26471-0F4E-40B4-A55C-9BE11098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8D63-4B58-4E16-9D33-1369571D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0BD6-A6F6-4780-A537-EA2D9BB6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4E12-E584-4693-AA69-87B7EDA6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0F8D-5AF5-430A-A64F-13C3D737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1B2F-3308-4BF1-B743-D2AED51B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00B4-1578-410B-B3DE-B55CC84A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B658-152C-4B18-8499-AF3F41B2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2E021-69FA-46D6-806B-158CF499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B48C6-E5F4-4550-93FD-D62703272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B7949-C8F2-4042-88BD-1BA9B8A8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2193CD-A6E2-4BD4-AB50-898AFA7E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25AA1-45F9-4888-8A01-003B32CA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25022B-1A82-4DBD-8E13-8DE579B67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AA39-2DFE-4C00-9BC4-B6E4D0C9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903B8-8462-4A6F-922F-58BF4ABF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BC631-B307-465A-8B53-6202B730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61E692-68E9-43F1-AC32-306C788D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27C0D-2A1B-44B8-BAD2-4B16CC79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8F44E-450D-4DBF-B8D0-76F96C1D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BAFCAB-D1A2-471D-83C4-D8B81C81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A9950-681A-4AB1-A685-23C0227B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1C463-6012-4C33-8E74-48AEEB945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ACDAF-40C7-4041-B907-2219296C2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73714-4186-4060-9A43-63C60EE2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F939-F1AC-4AB6-A673-F07BB2E5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F8F96-B4C6-4428-A04B-CB375E79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FF90B-D581-460D-980F-504EE610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96637-B6AC-4B54-8517-73B1370A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F9F4F-C6AE-40D4-B745-63EC6312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FCF6A-BA62-4450-921C-642D02F1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41182-4D6C-442D-85DB-89E46DA6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0992B-0660-494F-892E-E696328D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C758A-42BB-47A3-A65A-4F76DA8E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D925A-5F09-47BE-85A4-30D7365CB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3E28-0DFA-4E65-92A1-197AA635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7909-6BEB-4E17-89AB-31706EEA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5959-E292-4151-8B3E-05AF8FB5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ACD-D49F-4428-8D7E-8E06B01C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33DE-7573-43D2-B810-A0E910EA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B4CC-B644-49A9-9082-219F32507F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8296-0680-4E61-BF33-47C92FFD8F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3E45-907D-4A3C-91C3-B4748BAE16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FF6F-7B22-4736-B6B4-ACADBE0F47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1905120" y="380880"/>
            <a:ext cx="5010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ast/Southeast As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914400" y="4952880"/>
            <a:ext cx="25336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acock, Zarosky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SO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st Period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ril 23, 2009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Picture 10" descr="http://www.opendoorsusa.org/UserFiles/Image/Maps/SoutheastAsia_ODUSA_ministry_map.jpg"/>
          <p:cNvPicPr/>
          <p:nvPr/>
        </p:nvPicPr>
        <p:blipFill>
          <a:blip r:embed="rId2"/>
          <a:stretch/>
        </p:blipFill>
        <p:spPr>
          <a:xfrm>
            <a:off x="4038480" y="2743200"/>
            <a:ext cx="4810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2438280" y="380880"/>
            <a:ext cx="3714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hysical Geograph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1" name="Picture 5" descr="File:Southeast asia.jpg"/>
          <p:cNvPicPr/>
          <p:nvPr/>
        </p:nvPicPr>
        <p:blipFill>
          <a:blip r:embed="rId1"/>
          <a:stretch/>
        </p:blipFill>
        <p:spPr>
          <a:xfrm>
            <a:off x="4876920" y="1752480"/>
            <a:ext cx="3895560" cy="4453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1066680" y="571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Deserts contribute to China's iso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066680" y="41911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 Wall of china is significant because it isolates china and keeps foreigners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06668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has adapted to the ring of fire by buildings on giant springs and a huge inner water free z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3886200" y="609480"/>
            <a:ext cx="752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E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914400" y="18288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Arabl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tonic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http://anthro.palomar.edu/subsistence/images/terraced_farm_fields.jpg"/>
          <p:cNvPicPr/>
          <p:nvPr/>
        </p:nvPicPr>
        <p:blipFill>
          <a:blip r:embed="rId4"/>
          <a:stretch/>
        </p:blipFill>
        <p:spPr>
          <a:xfrm>
            <a:off x="5334120" y="4038480"/>
            <a:ext cx="3485880" cy="2438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39625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the lack of arable land, they are forced to use different techniques such as terraced far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2578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the dangerous tectonic activities, they build buildings on huge sp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2971800" y="380880"/>
            <a:ext cx="2666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1" name="Object 5" descr=""/>
          <p:cNvPicPr/>
          <p:nvPr/>
        </p:nvPicPr>
        <p:blipFill>
          <a:blip r:embed="rId2"/>
          <a:stretch/>
        </p:blipFill>
        <p:spPr>
          <a:xfrm>
            <a:off x="4038480" y="2133720"/>
            <a:ext cx="4772160" cy="330516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5" descr=""/>
          <p:cNvPicPr/>
          <p:nvPr/>
        </p:nvPicPr>
        <p:blipFill>
          <a:blip r:embed="rId3"/>
          <a:stretch/>
        </p:blipFill>
        <p:spPr>
          <a:xfrm>
            <a:off x="-365040" y="2066760"/>
            <a:ext cx="4357440" cy="11462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6"/>
          <p:cNvSpPr/>
          <p:nvPr/>
        </p:nvSpPr>
        <p:spPr>
          <a:xfrm>
            <a:off x="380880" y="3429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apore has under population problem. I feel the only one way you can solve this is to bribe people to have k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3505320" y="457200"/>
            <a:ext cx="1695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lig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3352680" y="4648320"/>
            <a:ext cx="556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dhism Video http://video.google.com/videosearch?imgsz=small%7Cmedium%7Clarge%7Cxlarge&amp;hl=en&amp;um=1&amp;q=buddhism&amp;ie=UTF-8&amp;sa=N&amp;tab=iv#imgsz=small%7Cmedium%7Clarge%7Cxlarge&amp;hl=en&amp;um=1&amp;q=buddhism&amp;ie=UTF-8&amp;sa=N&amp;tab=iv&amp;du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523880"/>
            <a:ext cx="152424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uddhis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52680" y="1523880"/>
            <a:ext cx="21621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onfucias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 rot="496800">
            <a:off x="6857640" y="1447920"/>
            <a:ext cx="1066680" cy="11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002000"/>
                </a:gradFill>
                <a:latin typeface="Impact"/>
              </a:rPr>
              <a:t>Shi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002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2590920"/>
            <a:ext cx="1905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elief in anc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2743200"/>
            <a:ext cx="198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elief in spirits and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3200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Four Nobl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4"/>
          <p:cNvSpPr txBox="1"/>
          <p:nvPr/>
        </p:nvSpPr>
        <p:spPr>
          <a:xfrm>
            <a:off x="2971800" y="304920"/>
            <a:ext cx="23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un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4"/>
          <p:cNvSpPr txBox="1"/>
          <p:nvPr/>
        </p:nvSpPr>
        <p:spPr>
          <a:xfrm>
            <a:off x="3200400" y="609480"/>
            <a:ext cx="1851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conomic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5" name="Object 5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075200" cy="4114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762120" y="1523880"/>
            <a:ext cx="2371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wo Barrier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5909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4"/>
          <p:cNvSpPr txBox="1"/>
          <p:nvPr/>
        </p:nvSpPr>
        <p:spPr>
          <a:xfrm>
            <a:off x="3429000" y="533520"/>
            <a:ext cx="2019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clus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1828800"/>
            <a:ext cx="61722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Communist Government- the government controls all of the citizens r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overopulation- The people have no room to live and have limited amounts of kids because of this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Graying Population- A under population has a huge affect on the economy because there are not many people purchasing g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Barriers for trade- The barriers are a huge economic problem because it is hard to get around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Command Economy- the economy is hard to make a living because the government controls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Isolation- isolation of southeast Asia makes it hard to t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629400" y="990720"/>
            <a:ext cx="18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blem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4"/>
          <p:cNvSpPr txBox="1"/>
          <p:nvPr/>
        </p:nvSpPr>
        <p:spPr>
          <a:xfrm rot="358200">
            <a:off x="6248160" y="837720"/>
            <a:ext cx="214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ncl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62" name=""/>
          <p:cNvSpPr txBox="1"/>
          <p:nvPr/>
        </p:nvSpPr>
        <p:spPr>
          <a:xfrm rot="20205600">
            <a:off x="685800" y="761760"/>
            <a:ext cx="18003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lu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266688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1951200"/>
            <a:ext cx="77724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There needs to be a democratic gover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40:23Z</dcterms:created>
  <dc:creator>cfisd</dc:creator>
  <dc:description/>
  <dc:language>en-US</dc:language>
  <cp:lastModifiedBy>cfisd</cp:lastModifiedBy>
  <dcterms:modified xsi:type="dcterms:W3CDTF">2009-04-24T13:10:30Z</dcterms:modified>
  <cp:revision>8</cp:revision>
  <dc:subject/>
  <dc:title>Slide 1</dc:title>
</cp:coreProperties>
</file>