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E41-5829-44A7-B6B5-AE4CA97EB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848F-2514-4D64-B45D-6DC63A8E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9CAE-98CD-43DE-8D36-769BC6B8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15B-D1AE-43E7-A449-23CA0CD8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81EB-ABB9-476C-92D5-E6AB5DA50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288-9F7A-447B-96B3-A1FAAC67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7A01-8CD5-4BCF-B3B3-A7AF589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0663-AA08-479C-938E-9E3163AF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E931-C417-43D0-897C-F04AAF52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1B4F-B233-42F5-B34A-AA68C27B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7A7-1410-4A11-A614-C29C59AB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442-AD55-4FD8-BEA7-83E56F09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9142-E216-46C9-ACE7-ABC5724CC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ws.bbc.co.uk/player/nol/newsid_5380000/newsid_5383200/5383258.stm?bw=nb&amp;mp=wm&amp;news=1&amp;bbcws=1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EU – Soci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BEFORE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untries were at war, people exhibited nation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tionalism – extreme pride in one’s ow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6840" indent="-456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y is the United Kingdom trying to limit immig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  Is this an example of nationalism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Social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AFTER THE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  A European Identity is cre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  European Ident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a sense of pride toward Europe as a whole, rather than one’s own count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ading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.  How is the EU trying to promote unity among EU member nations?  (Create a L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838080" y="3505320"/>
            <a:ext cx="7696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 Created a European Slog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United in Diversity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BQ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BQ = Document Based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You will use the DBQ and your notes as the pre-write for the Essay you will write tomorr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say Question </a:t>
            </a:r>
            <a:r>
              <a:rPr b="1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4120"/>
            <a:ext cx="883944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has the creation of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43000" y="533520"/>
            <a:ext cx="7010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irections: On your European Union – Economics page, please record the definitions bel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Wage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 in Eastern Europe are paid less for doing the same work as people in Western Europ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this effect migration in the E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6800" indent="-31680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owned a business, where would you locate your secondary activities? 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14:03:10Z</dcterms:created>
  <dc:creator>CFISD</dc:creator>
  <dc:description/>
  <dc:language>en-US</dc:language>
  <cp:lastModifiedBy>CFISD</cp:lastModifiedBy>
  <dcterms:modified xsi:type="dcterms:W3CDTF">2008-12-01T20:34:09Z</dcterms:modified>
  <cp:revision>3</cp:revision>
  <dc:subject/>
  <dc:title>EU – Social </dc:title>
</cp:coreProperties>
</file>