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BA9-4519-49A3-9EE8-89B7C0AB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822-E7B0-4342-BD95-87EDC31D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F86-79DB-42AA-8FAF-464D4402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2FC-A939-48BF-85E4-F532CA18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487-9875-466B-848C-A45ECA8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392-4F6F-41EE-82E5-CA27217C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AFE-8CC2-403D-AA21-64E3F7B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446-36DE-4BAF-849E-6A1FD11B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014-7B1D-4854-AD2A-C5D4669C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97F-C105-449D-A80A-DB1172D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218-595F-43E1-A76F-36C7079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F21-2C7E-442B-B1E1-FD423D5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08F-F031-4B88-8287-31B8FC1D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player/nol/newsid_5380000/newsid_5383200/5383258.stm?bw=nb&amp;mp=wm&amp;news=1&amp;bbcws=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Soc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BEFOR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ries were at war, people exhibite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e United Kingdom trying to limi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Is this an example of nationalism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AFTER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A European Identity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  European Id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 How is the EU trying to promote unity among EU member nations?  (Create a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3505320"/>
            <a:ext cx="7696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reated a European Slog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United in Diversity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BQ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Q = Document Base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use the DBQ and your notes as the pre-write for the Essay you will write tomorr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ay Questio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88394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reation of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4:03:10Z</dcterms:created>
  <dc:creator>CFISD</dc:creator>
  <dc:description/>
  <dc:language>en-US</dc:language>
  <cp:lastModifiedBy>CFISD</cp:lastModifiedBy>
  <dcterms:modified xsi:type="dcterms:W3CDTF">2008-12-01T20:34:09Z</dcterms:modified>
  <cp:revision>3</cp:revision>
  <dc:subject/>
  <dc:title>EU – Social </dc:title>
</cp:coreProperties>
</file>