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273A-C570-40CA-8590-8452DF065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F003-24BB-4E71-9C2A-5BA1E1B52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C29B-C0F9-48D7-93FD-3A3DD3D96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74B0-A416-4543-975A-6AAA4673A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5586-566F-4665-805A-A8B15DADE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CBAA-291D-44B4-9708-12D972390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A225-E135-4A0A-8B54-8BBC16065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E001-D979-4BB7-9233-350D54C16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1758-854D-4C67-B28B-47686B58D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9420-D833-4FA3-81B2-06E9360A2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57FD-F6AF-449F-B5CE-A539A9273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DA91-FAAA-4FD0-B22F-916F47400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4AD04-9F8C-4A1D-9BA4-6F3D9D41F3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news.bbc.co.uk/player/nol/newsid_5380000/newsid_5383200/5383258.stm?bw=nb&amp;mp=wm&amp;news=1&amp;bbcws=1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U – Socia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143000" y="533520"/>
            <a:ext cx="7010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228600"/>
            <a:ext cx="86868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456840" indent="-456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Directions: On your European Union – Social page, please record the definitions below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6840" indent="-456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6840" indent="-456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. BEFORE THE E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6840" indent="-4568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untries were at war, people exhibited nationa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6840" indent="-4568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6840" indent="-4568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tionalism – extreme pride in one’s own 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6840" indent="-456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lip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y is the United Kingdom trying to limit immigr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 Is this an example of nationalism? Explain why or why no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143000" y="533520"/>
            <a:ext cx="7010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228600"/>
            <a:ext cx="86868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402120" indent="-4021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Directions: On your European Union – Social page, please record the definitions below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2120" indent="-4021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2120" indent="-40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. AFTER THE E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2120" indent="-40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 A European Identity is cre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2120" indent="-4021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2120" indent="-40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  European Ident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– a sense of pride toward Europe as a whole, rather than one’s own count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2120" indent="-4021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2120" indent="-40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eading Questio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.  How is the EU trying to promote unity among EU member nations?  (Create a Li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838080" y="3505320"/>
            <a:ext cx="76964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- Created a European Sloga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"United in Diversity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BQ Dire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BQ = Document Based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ou will use the DBQ and your notes as the pre-write for the Essay you will write tomorrow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say Question </a:t>
            </a:r>
            <a:r>
              <a:rPr b="1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5334120"/>
            <a:ext cx="8839440" cy="1066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has the creation of the European Union changed Europe economically, politically, and sociall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143000" y="533520"/>
            <a:ext cx="7010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228600"/>
            <a:ext cx="86868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316800" indent="-316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Directions: On your European Union – Economics page, please record the definitions below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6800" indent="-316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6800" indent="-316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Wage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6800" indent="-316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ople in Eastern Europe are paid less for doing the same work as people in Western Europ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6800" indent="-316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6800" indent="-31680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w does this effect migration in the E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6800" indent="-31680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6800" indent="-31680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f you owned a business, where would you locate your secondary activities? Explain wh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14:03:10Z</dcterms:created>
  <dc:creator>CFISD</dc:creator>
  <dc:description/>
  <dc:language>en-US</dc:language>
  <cp:lastModifiedBy>CFISD</cp:lastModifiedBy>
  <dcterms:modified xsi:type="dcterms:W3CDTF">2008-12-01T20:34:09Z</dcterms:modified>
  <cp:revision>3</cp:revision>
  <dc:subject/>
  <dc:title>EU – Social </dc:title>
</cp:coreProperties>
</file>