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20B-62B8-40DA-84CA-8129EBE4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B66-4300-4023-9246-74BD40AD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33A-EF6C-499D-B0D9-B307052E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120-3F49-43AC-898C-3030C07E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DD1-C9D7-49A5-A606-80C22451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681-C7F8-4323-974E-50F1E535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7A6-8F12-476F-A056-8E589860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7AB-E152-4FA2-A2EA-E494F517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433-37F7-4775-A920-9F2DDFC2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5B8-9825-44EA-B557-438607C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89A-8948-4C8B-810E-619B9A4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B55-68DA-4D72-88B4-FEDC213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D040-6011-42BD-B5DB-5C21D3868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Econom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and creating a trade bl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09480" y="56386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countries make the largest contribution to the GDP of the 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ill this affect immigration to those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2 – Economic Effects of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to the page right after your EU – Backgroun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t EU –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cord the Economic Key Questio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914400" y="480060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80880" y="4343400"/>
            <a:ext cx="396252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57200" y="51814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69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28600"/>
            <a:ext cx="693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4479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graph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question #1 from the previou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52680"/>
            <a:ext cx="754380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36576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E BLO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3:49:47Z</dcterms:created>
  <dc:creator>CFISD</dc:creator>
  <dc:description/>
  <dc:language>en-US</dc:language>
  <cp:lastModifiedBy>CFISD</cp:lastModifiedBy>
  <dcterms:modified xsi:type="dcterms:W3CDTF">2008-12-01T13:52:01Z</dcterms:modified>
  <cp:revision>2</cp:revision>
  <dc:subject/>
  <dc:title>EU – Economic Policies</dc:title>
</cp:coreProperties>
</file>