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B50A-A67C-411F-B78B-E5FB9FBC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B1D-5845-4ADC-902F-71CB8C67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3E3B-87ED-419D-9878-CB80AA36C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D8C-DAD7-4E6C-99EF-9E9102CD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EEE4-5863-4C6A-9426-E65B1D2C5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B39F-51A8-43A4-B060-E94DDEF6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D3F-CADC-44D4-B365-FAED7B434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2D9B-BCD2-4A10-9A75-FD47FA47C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D59C-9B61-4B11-A081-3E636CE1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5749-3D3A-46EA-9E2E-9D6A05F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5DF9-32CB-4EC9-A6B6-C0BFD19D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1D4-A85B-473D-AA63-9479496D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5228-83B5-401D-A6E6-5252F79ED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Economic Poli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and creating a trade bl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609480" y="56386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and questions below.  Use the graph on the next slide to answer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ich countries make the largest contribution to the GDP of the E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will this affect immigration to those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y 2 – Economic Effects of the 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urn to the page right after your EU – Background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tle it EU – Econom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. Record the Economic Key Question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Key Question: Why is the EU considered a cooperative trade z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reate and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600200"/>
          <a:ext cx="8001000" cy="434340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914400" y="480060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0"/>
            <a:ext cx="5334120" cy="3486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72000" y="2479680"/>
            <a:ext cx="4572000" cy="4378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962520"/>
            <a:ext cx="3505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The common currency of the European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380880" y="4343400"/>
            <a:ext cx="396252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447920" y="3619440"/>
          <a:ext cx="6629400" cy="323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3619440"/>
                    <a:ext cx="662940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ques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e Euro help trade between countries who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complete the Frayer Model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600200"/>
          <a:ext cx="8001000" cy="47239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ON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RKET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countries reduce or remove trade barrier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are the effects of a common marke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creases trade by using the euro, eliminating tax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457200" y="5181480"/>
            <a:ext cx="3962520" cy="7621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and questions below.  Use the graph on the next slide to answer the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RADE B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de Bloc – a group of countries that act together to increase their influence over worl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U’s influence is comparable to which major economic pow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eate a real-life situation where the EU is acting as a trade blo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1460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DP (in trillions of US doll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95280" y="4700520"/>
            <a:ext cx="6327720" cy="798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573876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785880"/>
            <a:ext cx="0" cy="495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57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57150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295280" y="1523880"/>
            <a:ext cx="6327720" cy="2857680"/>
            <a:chOff x="1295280" y="1523880"/>
            <a:chExt cx="6327720" cy="2857680"/>
          </a:xfrm>
        </p:grpSpPr>
        <p:sp>
          <p:nvSpPr>
            <p:cNvPr id="69" name=""/>
            <p:cNvSpPr/>
            <p:nvPr/>
          </p:nvSpPr>
          <p:spPr>
            <a:xfrm>
              <a:off x="1295280" y="3581280"/>
              <a:ext cx="6327720" cy="800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95280" y="2514600"/>
              <a:ext cx="43434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5280" y="1523880"/>
              <a:ext cx="236232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228600" y="1600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2666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3809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48769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28600"/>
            <a:ext cx="693432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ss Domestic Product of the Top Four Economic Powers,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248520" y="358128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664000" y="3581280"/>
            <a:ext cx="288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3581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71600" y="3809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38098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24280" y="38098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400800" y="3657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EU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24480" y="2971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867280" y="3276720"/>
            <a:ext cx="533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43600" y="1447920"/>
            <a:ext cx="2971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etch the graph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question #1 from the previous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352680"/>
            <a:ext cx="7543800" cy="12193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76520" y="3657600"/>
            <a:ext cx="5638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RADE BLOC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3:49:47Z</dcterms:created>
  <dc:creator>CFISD</dc:creator>
  <dc:description/>
  <dc:language>en-US</dc:language>
  <cp:lastModifiedBy>CFISD</cp:lastModifiedBy>
  <dcterms:modified xsi:type="dcterms:W3CDTF">2008-12-01T13:52:01Z</dcterms:modified>
  <cp:revision>2</cp:revision>
  <dc:subject/>
  <dc:title>EU – Economic Policies</dc:title>
</cp:coreProperties>
</file>