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BE6-3D25-4713-855F-12C25CA8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5C65-2FDD-49BF-9D85-746BD5D7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E4D-CF81-4BDE-B005-E94AF156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DCA-01C7-4952-BE16-59B6546E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05E-CF75-47FC-8DAA-7EC9EBC7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573-BDE0-43C2-AEF1-CB48BC30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63A-6003-44CD-9997-0B7DEDE5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E258-2BA7-4F45-ACBF-583F81A1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13F-F667-4A34-8503-F2C77131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2FC-4B52-4AEE-9897-A99AB20D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830-66EB-4CA0-8B34-5AAC48A9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E9E-0A0C-4F0D-A19E-3150A4C7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3609-7BD1-41FD-9FD1-E7200D8EF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 – Economic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eliminating taxes, and creating a trade blo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609480" y="5638680"/>
            <a:ext cx="3962520" cy="7621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and questions below.  Use the graph on the next slide to 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countries make the largest contribution to the GDP of the E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will this affect immigration to those count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y 2 – Economic Effects of the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urn to the page right after your EU – Background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le it EU – Econom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Record the Economic Key Question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Key Question: Why is the EU considered a cooperative trade z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600200"/>
          <a:ext cx="8001000" cy="43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914400" y="4800600"/>
            <a:ext cx="3200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ve this portion blank and complete it as you go through the sl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334120" cy="3486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0" y="2479680"/>
            <a:ext cx="4572000" cy="437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962520"/>
            <a:ext cx="350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common currency of the European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80880" y="4343400"/>
            <a:ext cx="3962520" cy="12193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47920" y="3619440"/>
          <a:ext cx="6629400" cy="32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619440"/>
                    <a:ext cx="66294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e Euro help trade between countries who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eliminating taxe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457200" y="5181480"/>
            <a:ext cx="3962520" cy="7621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DE 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Bloc – a group of countries that act together to increase their influence over world t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U’s influence is comparable to which major economic pow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a real-life situation where the EU is acting as a trade blo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14600" y="632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 (in trillions of US doll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700520"/>
            <a:ext cx="6327720" cy="79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573876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95280" y="78588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95280" y="1523880"/>
            <a:ext cx="6327720" cy="2857680"/>
            <a:chOff x="1295280" y="1523880"/>
            <a:chExt cx="6327720" cy="2857680"/>
          </a:xfrm>
        </p:grpSpPr>
        <p:sp>
          <p:nvSpPr>
            <p:cNvPr id="69" name=""/>
            <p:cNvSpPr/>
            <p:nvPr/>
          </p:nvSpPr>
          <p:spPr>
            <a:xfrm>
              <a:off x="1295280" y="3581280"/>
              <a:ext cx="6327720" cy="800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5280" y="2514600"/>
              <a:ext cx="434340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1523880"/>
              <a:ext cx="236232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2860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28600"/>
            <a:ext cx="6934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Domestic Product of the Top Four Economic Powers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64000" y="3581280"/>
            <a:ext cx="288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2971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867280" y="327672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1447920"/>
            <a:ext cx="2971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the graph bel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question #1 from the previou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352680"/>
            <a:ext cx="7543800" cy="12193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76520" y="3657600"/>
            <a:ext cx="5638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ADE BLOC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3:49:47Z</dcterms:created>
  <dc:creator>CFISD</dc:creator>
  <dc:description/>
  <dc:language>en-US</dc:language>
  <cp:lastModifiedBy>CFISD</cp:lastModifiedBy>
  <dcterms:modified xsi:type="dcterms:W3CDTF">2008-12-01T13:52:01Z</dcterms:modified>
  <cp:revision>2</cp:revision>
  <dc:subject/>
  <dc:title>EU – Economic Policies</dc:title>
</cp:coreProperties>
</file>