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8AD-2A98-43CF-8E65-025F4A6E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65A-676C-4776-8FFF-84CFAA03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207-AB60-4FDD-B52F-B08B3FF7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F0C-9A37-4A3C-8B83-813EA633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65E-0976-4573-AB10-71DB8B98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3337-2A6E-4167-A687-392E6F57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EAE-A35A-41AB-B9E2-2E2C5184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2078-7257-4796-B7F6-A66726ED2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87C-CF01-4AE9-A771-1B07A497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067D-C04A-4652-94C7-D8761834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C277-C71E-4275-BE20-E685B32D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678-7870-4A10-B50D-87D9BE6D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1798-E820-4390-A446-0A9D71B0E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 – Economic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eliminating taxes, and creating a trade blo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09480" y="5638680"/>
            <a:ext cx="3962520" cy="7621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and questions below.  Use the graph on the next slide to 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countries make the largest contribution to the GDP of the E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will this affect immigration to those count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y 2 – Economic Effects of the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urn to the page right after your EU – Background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 it EU – Econo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Record the Economic Key Question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Key Question: Why is the EU considered a cooperative trade z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600200"/>
          <a:ext cx="8001000" cy="43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914400" y="4800600"/>
            <a:ext cx="3200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 this portion blank and complete it as you go through the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8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2479680"/>
            <a:ext cx="4572000" cy="437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96252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common currency of the European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80880" y="4343400"/>
            <a:ext cx="3962520" cy="1219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47920" y="3619440"/>
          <a:ext cx="6629400" cy="32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19440"/>
                    <a:ext cx="6629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e Euro help trade between countries who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eliminating taxe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457200" y="5181480"/>
            <a:ext cx="3962520" cy="7621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DE 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Bloc – a group of countries that act together to increase their influence over world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U’s influence is comparable to which major economic pow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real-life situation where the EU is acting as a trade blo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14600" y="632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(in trillions of US doll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700520"/>
            <a:ext cx="6327720" cy="79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573876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95280" y="78588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95280" y="1523880"/>
            <a:ext cx="6327720" cy="2857680"/>
            <a:chOff x="1295280" y="1523880"/>
            <a:chExt cx="6327720" cy="2857680"/>
          </a:xfrm>
        </p:grpSpPr>
        <p:sp>
          <p:nvSpPr>
            <p:cNvPr id="69" name=""/>
            <p:cNvSpPr/>
            <p:nvPr/>
          </p:nvSpPr>
          <p:spPr>
            <a:xfrm>
              <a:off x="1295280" y="3581280"/>
              <a:ext cx="6327720" cy="800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2514600"/>
              <a:ext cx="43434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1523880"/>
              <a:ext cx="23623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2860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28600"/>
            <a:ext cx="6934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Domestic Product of the Top Four Economic Powers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4000" y="3581280"/>
            <a:ext cx="28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7280" y="327672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144792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the graph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question #1 from the previou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352680"/>
            <a:ext cx="7543800" cy="1219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76520" y="36576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DE BLOC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3:49:47Z</dcterms:created>
  <dc:creator>CFISD</dc:creator>
  <dc:description/>
  <dc:language>en-US</dc:language>
  <cp:lastModifiedBy>CFISD</cp:lastModifiedBy>
  <dcterms:modified xsi:type="dcterms:W3CDTF">2008-12-01T13:52:01Z</dcterms:modified>
  <cp:revision>2</cp:revision>
  <dc:subject/>
  <dc:title>EU – Economic Policies</dc:title>
</cp:coreProperties>
</file>