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898-2F78-4D41-9A12-B2CE8CE0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829-1A1D-4532-BB2E-D3B140A0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5FB-2E73-4CE2-A15C-98BF5040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45F-3351-40CC-ADB9-8BAECC08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904-8C78-4ECE-A1FC-2C7D3107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3C1-A3D8-42CE-938C-939F7C03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B0F-3A0F-49BA-97D5-4D42E022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E9F-1367-4941-8136-12C37239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D53-657B-4AF4-84FA-FBDBB256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A3F-2945-4733-BF78-F2ACE806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FF8-661A-44E8-BF27-A939976E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EF0-B8C9-4CA7-A574-7C0B6BCD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7689-3703-4860-92D5-A5C34D727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bbc.co.uk/player/nol/newsid_5380000/newsid_5383200/5383258.stm?bw=nb&amp;mp=wm&amp;news=1&amp;bbcws=1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 – Soci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. BEFORE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ries were at war, people exhibited n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ionalism – extreme pride in one’s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is the United Kingdom trying to limit immig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 Is this an example of nationalism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. AFTER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 A European Identity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  European Ide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a sense of pride toward Europe as a whole, rather than one’s ow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ading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 How is the EU trying to promote unity among EU member nations?  (Create a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3505320"/>
            <a:ext cx="7696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Created a European Slog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United in Diversity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BQ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BQ = Document Based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ill use the DBQ and your notes as the pre-write for the Essay you will write tomorr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say Question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4120"/>
            <a:ext cx="883944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creation of the European Union changed Europe economically, politically, and soci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4:03:10Z</dcterms:created>
  <dc:creator>CFISD</dc:creator>
  <dc:description/>
  <dc:language>en-US</dc:language>
  <cp:lastModifiedBy>CFISD</cp:lastModifiedBy>
  <dcterms:modified xsi:type="dcterms:W3CDTF">2008-12-01T20:34:09Z</dcterms:modified>
  <cp:revision>3</cp:revision>
  <dc:subject/>
  <dc:title>EU – Social </dc:title>
</cp:coreProperties>
</file>