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D0BD-BC5B-4B53-9043-9540702D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77CB-43CE-4437-8905-42BDF0F1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B67C-55A4-4AAF-A981-29DCB44F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FEDF-A04A-403A-A68D-4D84EECF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431F-D7E6-4265-9537-DD083878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915D-B514-4CF4-BE87-4C89E7EB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DAA6-D3A0-4015-81EB-1D129539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A43C-3C6E-4137-834B-97B7BC88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6516-BD21-493B-80D9-3E629C52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DC3F-8BB2-47A9-8A23-C9207523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E7E-6A10-407F-8D43-49B7E9DE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4391-6F63-4A18-9E09-953688660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1083-0A1C-440C-B792-89CC9E0A3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ews.bbc.co.uk/player/nol/newsid_5380000/newsid_5383200/5383258.stm?bw=nb&amp;mp=wm&amp;news=1&amp;bbcws=1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U – Soci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456840" indent="-456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Social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. BEFORE THE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ries were at war, people exhibited nation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ionalism – extreme pride in one’s own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p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is the United Kingdom trying to limit immigr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 Is this an example of nationalism? Explain why or why n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402120" indent="-40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Social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. AFTER THE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 A European Identity is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  European Ident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– a sense of pride toward Europe as a whole, rather than one’s own count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ading Ques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.  How is the EU trying to promote unity among EU member nations?  (Create a 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3505320"/>
            <a:ext cx="7696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 Created a European Slog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"United in Diversity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BQ 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BQ = Document Based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will use the DBQ and your notes as the pre-write for the Essay you will write tomorrow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say Question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334120"/>
            <a:ext cx="8839440" cy="1066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as the creation of the European Union changed Europe economically, politically, and social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ag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in Eastern Europe are paid less for doing the same work as people in Western Euro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this effect migration in the E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owned a business, where would you locate your secondary activities? 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4:03:10Z</dcterms:created>
  <dc:creator>CFISD</dc:creator>
  <dc:description/>
  <dc:language>en-US</dc:language>
  <cp:lastModifiedBy>CFISD</cp:lastModifiedBy>
  <dcterms:modified xsi:type="dcterms:W3CDTF">2008-12-01T20:34:09Z</dcterms:modified>
  <cp:revision>3</cp:revision>
  <dc:subject/>
  <dc:title>EU – Social </dc:title>
</cp:coreProperties>
</file>