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8C8-35F1-40DD-8D3B-1FA9FBD8D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4707-777B-4B63-87F6-3CD1D6EA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B163-BE5A-47F7-B123-F5FF78AC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DD8-AEA9-457F-8648-F072C7249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4B4-EDEB-4FA5-A9A2-FCE69865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595-32A6-4038-81D1-9CC73012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F3F-4634-4652-A486-B962E26D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76D-2ABF-4CFD-A277-9F256DC2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84D8-14AC-49A9-825F-8B0F42A8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C46-BF83-4227-9D22-EC5A7B0C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9EA-C487-424D-AB5B-FF1D1FB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9522-576E-4F84-84C3-F52418B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9B80-B769-4EA0-A7B0-0F7DB72B2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Econom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and creating a trade bl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9480" y="56386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countries make the largest contribution to the GDP of the 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ill this affect immigration to those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2 – Economic Effects of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to the page right after your EU – Backgroun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t EU –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cord the Economic Key Questio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914400" y="480060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0880" y="4343400"/>
            <a:ext cx="396252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57200" y="51814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69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28600"/>
            <a:ext cx="693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4479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graph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question #1 from the previou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54380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36576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E BLO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3:49:47Z</dcterms:created>
  <dc:creator>CFISD</dc:creator>
  <dc:description/>
  <dc:language>en-US</dc:language>
  <cp:lastModifiedBy>CFISD</cp:lastModifiedBy>
  <dcterms:modified xsi:type="dcterms:W3CDTF">2008-12-01T13:52:01Z</dcterms:modified>
  <cp:revision>2</cp:revision>
  <dc:subject/>
  <dc:title>EU – Economic Policies</dc:title>
</cp:coreProperties>
</file>