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FD1-27C1-4061-B297-F64393A7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F26E-12A4-4FD8-8810-B8E1ACE3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6E89-08C0-4B89-8984-CF5B0E45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A0B-C638-4E67-BBFC-FFDD62ED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852-5DC5-4727-ADA6-E94D8F00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DB2-1EB1-4E15-BEC9-D156247C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41C-DD21-4998-BAE3-524B1409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D6D-0311-4B9F-85F0-C10B83CD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D99-87C4-4779-91FD-63065E70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09A7-664B-4103-B667-28D4AC73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3AE-2EE8-4926-9EAD-BB8CB9E1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CC4-3316-485C-86B0-1308274B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98AC-5A05-48D7-9BA4-86D57A6A2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 – Economic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600200"/>
          <a:ext cx="8001000" cy="4723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de by using the euro, eliminating taxes, and creating a trade blo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609480" y="5638680"/>
            <a:ext cx="3962520" cy="7621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and questions below.  Use the graph on the next slide to answer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countries make the largest contribution to the GDP of the E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will this affect immigration to those countr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g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in Eastern Europe are paid less for doing the same work as people in Western Eu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is effect migration 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owned a business, where would you locate your secondary activitie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y 2 – Economic Effects of the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urn to the page right after your EU – Background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le it EU – Econom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Record the Economic Key Question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omic Key Question: Why is the EU considered a cooperative trade z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reate and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600200"/>
          <a:ext cx="8001000" cy="43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914400" y="4800600"/>
            <a:ext cx="3200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ve this portion blank and complete it as you go through the sl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334120" cy="3486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0" y="2479680"/>
            <a:ext cx="4572000" cy="4378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962520"/>
            <a:ext cx="350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common currency of the European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600200"/>
          <a:ext cx="8001000" cy="4723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de by using the euro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80880" y="4343400"/>
            <a:ext cx="3962520" cy="12193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447920" y="3619440"/>
          <a:ext cx="6629400" cy="32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619440"/>
                    <a:ext cx="66294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ques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e Euro help trade between countries who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600200"/>
          <a:ext cx="8001000" cy="4723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de by using the euro, eliminating taxe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457200" y="5181480"/>
            <a:ext cx="3962520" cy="7621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and questions below.  Use the graph on the next slide to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DE 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e Bloc – a group of countries that act together to increase their influence over world t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U’s influence is comparable to which major economic pow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a real-life situation where the EU is acting as a trade blo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14600" y="632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P (in trillions of US doll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700520"/>
            <a:ext cx="6327720" cy="79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573876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295280" y="78588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95280" y="1523880"/>
            <a:ext cx="6327720" cy="2857680"/>
            <a:chOff x="1295280" y="1523880"/>
            <a:chExt cx="6327720" cy="2857680"/>
          </a:xfrm>
        </p:grpSpPr>
        <p:sp>
          <p:nvSpPr>
            <p:cNvPr id="69" name=""/>
            <p:cNvSpPr/>
            <p:nvPr/>
          </p:nvSpPr>
          <p:spPr>
            <a:xfrm>
              <a:off x="1295280" y="3581280"/>
              <a:ext cx="6327720" cy="800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95280" y="2514600"/>
              <a:ext cx="434340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1523880"/>
              <a:ext cx="236232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2860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28600"/>
            <a:ext cx="6934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Domestic Product of the Top Four Economic Powers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664000" y="3581280"/>
            <a:ext cx="288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3809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U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2971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867280" y="327672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1447920"/>
            <a:ext cx="2971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tch the graph below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question #1 from the previou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352680"/>
            <a:ext cx="7543800" cy="12193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76520" y="3657600"/>
            <a:ext cx="5638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ADE BLOC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3:49:47Z</dcterms:created>
  <dc:creator>CFISD</dc:creator>
  <dc:description/>
  <dc:language>en-US</dc:language>
  <cp:lastModifiedBy>CFISD</cp:lastModifiedBy>
  <dcterms:modified xsi:type="dcterms:W3CDTF">2008-12-01T13:52:01Z</dcterms:modified>
  <cp:revision>2</cp:revision>
  <dc:subject/>
  <dc:title>EU – Economic Policies</dc:title>
</cp:coreProperties>
</file>