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B99F2B-EF83-4877-9F20-1B9699B13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F0E88-26E3-4686-BA72-4A491068E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51940B-0289-4E72-B8F1-9FAA7FA3D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E317D-E776-4365-803B-F0A23A234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F43D8-C793-43A1-AF71-6340349B7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142AC-1F9C-43F1-9ED2-679BE06A9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272B5-4D42-4E1F-A36C-BAC252336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5EAE9-2FEE-45B4-9C31-A4FEB1996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9E4E-03D2-4774-9FE3-7ACBF6A6F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3528F-B517-4317-8945-D30CEB3DB0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3D8EB-9610-4D45-A1E5-417BDAD59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48741-8952-4684-8D75-4450685B6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0D01-E768-4B79-9B5A-B29964A6B9D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2009/WORLD/africa/03/04/darfur.rape/index.html?iref=newssearch#cnnSTCText"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11201400"/>
          </a:xfrm>
          <a:prstGeom prst="rect">
            <a:avLst/>
          </a:prstGeom>
          <a:ln w="0">
            <a:noFill/>
          </a:ln>
        </p:spPr>
      </p:pic>
      <p:sp>
        <p:nvSpPr>
          <p:cNvPr id="44" name=""/>
          <p:cNvSpPr/>
          <p:nvPr/>
        </p:nvSpPr>
        <p:spPr>
          <a:xfrm>
            <a:off x="0" y="152280"/>
            <a:ext cx="2895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ny, traumatized women and children we've interviewed, distraught families, unable to protect themselves. The pain we put them through, to recount, to relive, their nightmares.”</a:t>
            </a:r>
            <a:endParaRPr b="0" lang="en-US" sz="2400" spc="-1" strike="noStrike">
              <a:solidFill>
                <a:srgbClr val="000000"/>
              </a:solidFill>
              <a:latin typeface="Arial"/>
            </a:endParaRPr>
          </a:p>
        </p:txBody>
      </p:sp>
      <p:sp>
        <p:nvSpPr>
          <p:cNvPr id="45" name=""/>
          <p:cNvSpPr/>
          <p:nvPr/>
        </p:nvSpPr>
        <p:spPr>
          <a:xfrm>
            <a:off x="0" y="4800600"/>
            <a:ext cx="42670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cnn.com/2009/WORLD/africa/03/04/darfur.rape/index.html?iref=newssearch#cnnSTCTex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marytx.edu/ppc/content/2007_08.html</a:t>
            </a:r>
            <a:endParaRPr b="0" lang="en-US" sz="900" spc="-1" strike="noStrike">
              <a:solidFill>
                <a:srgbClr val="000000"/>
              </a:solidFill>
              <a:latin typeface="Arial"/>
            </a:endParaRPr>
          </a:p>
        </p:txBody>
      </p:sp>
      <p:sp>
        <p:nvSpPr>
          <p:cNvPr id="46"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0-320-0095/ Learn More./ Take Action/ www.savedarfur.org</a:t>
            </a:r>
            <a:endParaRPr b="0" lang="en-US" sz="2400" spc="-1" strike="noStrike">
              <a:solidFill>
                <a:srgbClr val="000000"/>
              </a:solidFill>
              <a:latin typeface="Arial"/>
            </a:endParaRPr>
          </a:p>
        </p:txBody>
      </p:sp>
      <p:sp>
        <p:nvSpPr>
          <p:cNvPr id="47" name=""/>
          <p:cNvSpPr/>
          <p:nvPr/>
        </p:nvSpPr>
        <p:spPr>
          <a:xfrm>
            <a:off x="5943600" y="0"/>
            <a:ext cx="30481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is happening in Darfur. You can help end it. You have a bad day. You lose your phone. They have a bad day. They lose their life. Genocide is inhumanely killing people everyday for control over water and land. We can fix this problem, but we can’t do it alone. JOIN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1:52:47Z</dcterms:created>
  <dc:creator>dzarosky</dc:creator>
  <dc:description/>
  <dc:language>en-US</dc:language>
  <cp:lastModifiedBy>dzarosky</cp:lastModifiedBy>
  <dcterms:modified xsi:type="dcterms:W3CDTF">2009-05-26T02:24:59Z</dcterms:modified>
  <cp:revision>2</cp:revision>
  <dc:subject/>
  <dc:title>Slide 1</dc:title>
</cp:coreProperties>
</file>