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52F03-C896-4B60-956B-FC23F48CC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F9C37-C5E0-4CA6-BB38-5818C1A8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8A155-5605-4E73-BB76-5F7F82B07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D9D35-6780-4C55-9B8E-4E33D29D6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7064-0D60-4533-A868-4DE0F924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43ED9-233B-4F91-95FE-46AC4B34F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915EC-2F0D-4B70-A44C-82B662B6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A23E1-4E04-44F5-AA77-ED594B45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CB74E-C459-4665-A68B-A2F208AA0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53B7-D189-4E24-A29A-64C0D8270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0394E-58C9-4F03-9561-C2D5CA07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73F2-DE19-43B1-9D44-C81EDE0C2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0544-27F8-402C-A2CA-EE3F38721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4:59Z</dcterms:modified>
  <cp:revision>2</cp:revision>
  <dc:subject/>
  <dc:title>Slide 1</dc:title>
</cp:coreProperties>
</file>