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A31F39-AC5F-44B3-A2D8-B6AC0196E0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597FD2-29AE-4629-89F2-0F0185AD73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6F6F49-3680-4C3D-A3EC-7E36B0C0AA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729BD7-A14E-4ABD-AD0D-FB59FB8CDF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ADA5CF-74B2-4678-8DDE-5CC312D23D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EABA33-6FD4-40C6-AD84-C931224567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C1BF1D-28EE-4D8A-9B43-5295A30B5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4D2A95-A82B-43C2-96A2-7F0697367A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D9BF68-69F7-4CA8-AD93-519E090522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73BFB-FC90-4119-9F7B-2252999A0F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EA30F-8BDD-4ADA-A12A-8D4EF1E4F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6CF90-0A53-4426-AF6F-DEAAD3E2BF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CFACD-C9E2-4E27-8366-E23DB3DB52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nn.com/2009/WORLD/africa/03/04/darfur.rape/index.html?iref=newssearch#cnnSTCText" TargetMode="External"/><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9144000" cy="11201400"/>
          </a:xfrm>
          <a:prstGeom prst="rect">
            <a:avLst/>
          </a:prstGeom>
          <a:ln w="0">
            <a:noFill/>
          </a:ln>
        </p:spPr>
      </p:pic>
      <p:sp>
        <p:nvSpPr>
          <p:cNvPr id="44" name=""/>
          <p:cNvSpPr/>
          <p:nvPr/>
        </p:nvSpPr>
        <p:spPr>
          <a:xfrm>
            <a:off x="0" y="152280"/>
            <a:ext cx="2895480" cy="4117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e many, traumatized women and children we've interviewed, distraught families, unable to protect themselves. The pain we put them through, to recount, to relive, their nightmares.”</a:t>
            </a:r>
            <a:endParaRPr b="0" lang="en-US" sz="2400" spc="-1" strike="noStrike">
              <a:solidFill>
                <a:srgbClr val="000000"/>
              </a:solidFill>
              <a:latin typeface="Arial"/>
            </a:endParaRPr>
          </a:p>
        </p:txBody>
      </p:sp>
      <p:sp>
        <p:nvSpPr>
          <p:cNvPr id="45" name=""/>
          <p:cNvSpPr/>
          <p:nvPr/>
        </p:nvSpPr>
        <p:spPr>
          <a:xfrm>
            <a:off x="0" y="4800600"/>
            <a:ext cx="4267080" cy="6480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9999"/>
                </a:solidFill>
                <a:uFillTx/>
                <a:latin typeface="Arial"/>
                <a:hlinkClick r:id="rId2"/>
              </a:rPr>
              <a:t>http://www.cnn.com/2009/WORLD/africa/03/04/darfur.rape/index.html?iref=newssearch#cnnSTCText</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ttp://www.stmarytx.edu/ppc/content/2007_08.html</a:t>
            </a:r>
            <a:endParaRPr b="0" lang="en-US" sz="900" spc="-1" strike="noStrike">
              <a:solidFill>
                <a:srgbClr val="000000"/>
              </a:solidFill>
              <a:latin typeface="Arial"/>
            </a:endParaRPr>
          </a:p>
        </p:txBody>
      </p:sp>
      <p:sp>
        <p:nvSpPr>
          <p:cNvPr id="46" name=""/>
          <p:cNvSpPr/>
          <p:nvPr/>
        </p:nvSpPr>
        <p:spPr>
          <a:xfrm>
            <a:off x="0" y="586728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800-320-0095/ Learn More./ Take Action/ www.savedarfur.org</a:t>
            </a:r>
            <a:endParaRPr b="0" lang="en-US" sz="2400" spc="-1" strike="noStrike">
              <a:solidFill>
                <a:srgbClr val="000000"/>
              </a:solidFill>
              <a:latin typeface="Arial"/>
            </a:endParaRPr>
          </a:p>
        </p:txBody>
      </p:sp>
      <p:sp>
        <p:nvSpPr>
          <p:cNvPr id="47" name=""/>
          <p:cNvSpPr/>
          <p:nvPr/>
        </p:nvSpPr>
        <p:spPr>
          <a:xfrm>
            <a:off x="5943600" y="0"/>
            <a:ext cx="3048120" cy="5580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ocide is happening in Darfur. You can help end it. You have a bad day. You lose your phone. They have a bad day. They lose their life. Genocide is inhumanely killing people everyday for control over water and land. We can fix this problem, but we can’t do it alone. JOIN 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6T01:52:47Z</dcterms:created>
  <dc:creator>dzarosky</dc:creator>
  <dc:description/>
  <dc:language>en-US</dc:language>
  <cp:lastModifiedBy>dzarosky</cp:lastModifiedBy>
  <dcterms:modified xsi:type="dcterms:W3CDTF">2009-05-26T02:24:59Z</dcterms:modified>
  <cp:revision>2</cp:revision>
  <dc:subject/>
  <dc:title>Slide 1</dc:title>
</cp:coreProperties>
</file>