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6434B0-C4CA-46B6-A181-2820086AD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81F0A-229A-46EE-8964-DB5936F47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47564-4183-438B-8AA0-CEBBCE60F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1A7E3-A388-4032-B98D-B02972BD93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31200-F2E8-46E4-BC7F-90E93C5AF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37D32-6ED8-4523-AC7E-F07D83B04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C5223-1928-43F9-8699-7A3633DA4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F2375-3370-4108-8D54-9FBF8098D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E896C-1202-4BBC-83A9-D09C0A765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3BF29-F2FC-414B-AC5A-24D77F3AB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DBA0E-B8A6-4F6E-9C7B-8DD191434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15C3A-9EA4-4109-8664-597243E82C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635AF-567A-4B38-B2BC-24E4143BC6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nn.com/2009/WORLD/africa/03/04/darfur.rape/index.html?iref=newssearch#cnnSTCText" TargetMode="External"/><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11201400"/>
          </a:xfrm>
          <a:prstGeom prst="rect">
            <a:avLst/>
          </a:prstGeom>
          <a:ln w="0">
            <a:noFill/>
          </a:ln>
        </p:spPr>
      </p:pic>
      <p:sp>
        <p:nvSpPr>
          <p:cNvPr id="44" name=""/>
          <p:cNvSpPr/>
          <p:nvPr/>
        </p:nvSpPr>
        <p:spPr>
          <a:xfrm>
            <a:off x="0" y="152280"/>
            <a:ext cx="28954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many, traumatized women and children we've interviewed, distraught families, unable to protect themselves. The pain we put them through, to recount, to relive, their nightmares.”</a:t>
            </a:r>
            <a:endParaRPr b="0" lang="en-US" sz="2400" spc="-1" strike="noStrike">
              <a:solidFill>
                <a:srgbClr val="000000"/>
              </a:solidFill>
              <a:latin typeface="Arial"/>
            </a:endParaRPr>
          </a:p>
        </p:txBody>
      </p:sp>
      <p:sp>
        <p:nvSpPr>
          <p:cNvPr id="45" name=""/>
          <p:cNvSpPr/>
          <p:nvPr/>
        </p:nvSpPr>
        <p:spPr>
          <a:xfrm>
            <a:off x="0" y="4800600"/>
            <a:ext cx="426708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Arial"/>
                <a:hlinkClick r:id="rId2"/>
              </a:rPr>
              <a:t>http://www.cnn.com/2009/WORLD/africa/03/04/darfur.rape/index.html?iref=newssearch#cnnSTCText</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ww.stmarytx.edu/ppc/content/2007_08.html</a:t>
            </a:r>
            <a:endParaRPr b="0" lang="en-US" sz="900" spc="-1" strike="noStrike">
              <a:solidFill>
                <a:srgbClr val="000000"/>
              </a:solidFill>
              <a:latin typeface="Arial"/>
            </a:endParaRPr>
          </a:p>
        </p:txBody>
      </p:sp>
      <p:sp>
        <p:nvSpPr>
          <p:cNvPr id="46" name=""/>
          <p:cNvSpPr/>
          <p:nvPr/>
        </p:nvSpPr>
        <p:spPr>
          <a:xfrm>
            <a:off x="0" y="58672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00-320-0095/ Learn More./ Take Action/ www.savedarfur.org</a:t>
            </a:r>
            <a:endParaRPr b="0" lang="en-US" sz="2400" spc="-1" strike="noStrike">
              <a:solidFill>
                <a:srgbClr val="000000"/>
              </a:solidFill>
              <a:latin typeface="Arial"/>
            </a:endParaRPr>
          </a:p>
        </p:txBody>
      </p:sp>
      <p:sp>
        <p:nvSpPr>
          <p:cNvPr id="47" name=""/>
          <p:cNvSpPr/>
          <p:nvPr/>
        </p:nvSpPr>
        <p:spPr>
          <a:xfrm>
            <a:off x="5943600" y="0"/>
            <a:ext cx="304812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ocide is happening in Darfur. You can help end it. You have a bad day. You lose your phone. They have a bad day. They lose their life. Genocide is inhumanely killing people everyday for control over water and land. We can fix this problem, but we can’t do it alone. JOIN 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6T01:52:47Z</dcterms:created>
  <dc:creator>dzarosky</dc:creator>
  <dc:description/>
  <dc:language>en-US</dc:language>
  <cp:lastModifiedBy>dzarosky</cp:lastModifiedBy>
  <dcterms:modified xsi:type="dcterms:W3CDTF">2009-05-26T02:24:59Z</dcterms:modified>
  <cp:revision>2</cp:revision>
  <dc:subject/>
  <dc:title>Slide 1</dc:title>
</cp:coreProperties>
</file>