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6B7E6-14AD-426C-8C8F-893D3924AA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3954D-D7E1-4A80-A143-09F64A039E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B424-B54F-482D-80B0-E29D966A9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48B5E-B09C-4B55-8916-5437C78F6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B33E-E769-4BD2-A8A1-4B6597B78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2E2F2-091B-4E45-9808-EBDA0D5A4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BBADE-B72C-4E3A-A370-223042A22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27548-6DBD-465D-92FF-3DA2540CB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C7655-A047-4A43-8013-9A48025AC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5A9F89-BC6A-407C-AD31-35036F431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8575F-AF9A-492F-A26A-33604E34D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7C788-7F92-4B2B-92CA-A42009E36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97C52-4B16-4708-BD52-FC116A05D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BAF7F-06A2-4657-9518-B71AF8A6A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B617D-3E28-4588-8746-1CEE6BF058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E3C27-8B2B-48DD-B854-594E5B68C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E904A-AB2C-4B4C-A0FE-F69EB9DE6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14662-03FE-423E-BE89-35FB87E27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82C0-BF9C-4A2D-8A91-DA3FD9034E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ubai.com/" TargetMode="External"/><Relationship Id="rId2" Type="http://schemas.openxmlformats.org/officeDocument/2006/relationships/hyperlink" Target="http://www.dubai.ae/"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2743200" y="4114800"/>
            <a:ext cx="3505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WordArt 7"/>
          <p:cNvSpPr txBox="1"/>
          <p:nvPr/>
        </p:nvSpPr>
        <p:spPr>
          <a:xfrm>
            <a:off x="2209680" y="2362320"/>
            <a:ext cx="4719600" cy="1726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Arial"/>
              </a:rPr>
              <a:t>Welcome to Dubai</a:t>
            </a:r>
            <a:endParaRPr b="1" lang="en-US" sz="1800" spc="1" strike="noStrike">
              <a:ln w="255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Arial"/>
              </a:rPr>
              <a:t>    </a:t>
            </a:r>
            <a:r>
              <a:rPr b="1" lang="en-US" sz="1800" spc="1" strike="noStrike">
                <a:ln w="25560">
                  <a:solidFill>
                    <a:srgbClr val="000000"/>
                  </a:solidFill>
                  <a:miter/>
                </a:ln>
                <a:solidFill>
                  <a:srgbClr val="ffffff"/>
                </a:solidFill>
                <a:latin typeface="Arial"/>
              </a:rPr>
              <a:t>Luxury Trip</a:t>
            </a:r>
            <a:endParaRPr b="1" lang="en-US" sz="1800" spc="1" strike="noStrike">
              <a:ln w="25560">
                <a:solidFill>
                  <a:srgbClr val="000000"/>
                </a:solidFill>
                <a:miter/>
              </a:ln>
              <a:solidFill>
                <a:srgbClr val="ffffff"/>
              </a:solidFill>
              <a:latin typeface="Arial"/>
              <a:ea typeface="Arial"/>
            </a:endParaRPr>
          </a:p>
        </p:txBody>
      </p:sp>
      <p:sp>
        <p:nvSpPr>
          <p:cNvPr id="50" name="WordArt 8"/>
          <p:cNvSpPr txBox="1"/>
          <p:nvPr/>
        </p:nvSpPr>
        <p:spPr>
          <a:xfrm>
            <a:off x="3505320" y="4114800"/>
            <a:ext cx="24192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1680">
                  <a:solidFill>
                    <a:srgbClr val="000000"/>
                  </a:solidFill>
                  <a:miter/>
                </a:ln>
                <a:solidFill>
                  <a:srgbClr val="ffffff"/>
                </a:solidFill>
                <a:latin typeface="Arial"/>
              </a:rPr>
              <a:t>Tri Nguyen</a:t>
            </a:r>
            <a:endParaRPr b="1" lang="en-US" sz="2400" spc="1" strike="noStrike">
              <a:ln w="3168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WordArt 4"/>
          <p:cNvSpPr txBox="1"/>
          <p:nvPr/>
        </p:nvSpPr>
        <p:spPr>
          <a:xfrm>
            <a:off x="609480" y="304920"/>
            <a:ext cx="82011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Arial"/>
              </a:rPr>
              <a:t>7-Star Luxury Hotel: The Burj Al Arab</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
        <p:nvSpPr>
          <p:cNvPr id="52" name="Text Box 6"/>
          <p:cNvSpPr/>
          <p:nvPr/>
        </p:nvSpPr>
        <p:spPr>
          <a:xfrm>
            <a:off x="457200" y="2286000"/>
            <a:ext cx="72388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you have picked our luxury trip, we will stop at no expense to ensure you have the best experience in our wonderful country, Duba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j Al Arab is located in Dubai, 100 metres from the Souk Madinat Jumeirah and five kilometres from Palm Island. The city centre is 15 kilometres away. This hotel sits 321 metres above sea level on an man-made island linked to the Dubai mainland by causewa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or throughout is lavish, in bold tones, and amenities include a full-service health spa, indoor swimming pool, and hair sal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j Al Arab has a selection of restaurants including pan-Asian cuisine, a seafood restaurant reached via submarine, and a cocktail bar with panoramic views of the Jumeirah Beach shore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0492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ubai is a fascinating city and a spectacular sight from air. Helicopters and plane tours and even hot air balloon rides over the city will give u a birds-eye perspective to the wonder that is called 'Dubai'. Some trips take tourists across the city, and over the desert and the Hajar Mountains. And since you have selected our Luxery Trip, we will stop at no expense to ensure you fully enjoy your tour of Dubai.</a:t>
            </a:r>
            <a:endParaRPr b="0" lang="en-US" sz="2800" spc="-1" strike="noStrike">
              <a:solidFill>
                <a:srgbClr val="000000"/>
              </a:solidFill>
              <a:latin typeface="Arial"/>
            </a:endParaRPr>
          </a:p>
        </p:txBody>
      </p:sp>
      <p:pic>
        <p:nvPicPr>
          <p:cNvPr id="54" name="Rectangle 4" descr=""/>
          <p:cNvPicPr/>
          <p:nvPr/>
        </p:nvPicPr>
        <p:blipFill>
          <a:blip r:embed="rId2"/>
          <a:stretch/>
        </p:blipFill>
        <p:spPr>
          <a:xfrm>
            <a:off x="1060560" y="195120"/>
            <a:ext cx="7145280" cy="113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what rich people like, and rich people like Golf. Dubai is a golfer's paradise. The Dubai Creek Golf &amp; Yacht Club and the famous Emirates Golf Club are the venues of the European PGA tour. The Nad Al Sheeba Golf and Racing Club even offers night golf at night for the enthusiasts who want to beat the summer heat of Dubai!</a:t>
            </a:r>
            <a:endParaRPr b="0" lang="en-US" sz="3200" spc="-1" strike="noStrike">
              <a:solidFill>
                <a:srgbClr val="000000"/>
              </a:solidFill>
              <a:latin typeface="Arial"/>
            </a:endParaRPr>
          </a:p>
        </p:txBody>
      </p:sp>
      <p:pic>
        <p:nvPicPr>
          <p:cNvPr id="56" name="Rectangle 3" descr=""/>
          <p:cNvPicPr/>
          <p:nvPr/>
        </p:nvPicPr>
        <p:blipFill>
          <a:blip r:embed="rId2"/>
          <a:stretch/>
        </p:blipFill>
        <p:spPr>
          <a:xfrm>
            <a:off x="817560" y="115920"/>
            <a:ext cx="7278840" cy="18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ght Clubs are the hit of Dubai. The new upbeat styles of Dubai’s clubs are a popular attraction for Rich people like you! It’s great to meet people and enjoy and fascinating night life of Dubai. It’s diversity from America is a wonder and will give you a thrilling sensation you have not known before.</a:t>
            </a:r>
            <a:endParaRPr b="0" lang="en-US" sz="3200" spc="-1" strike="noStrike">
              <a:solidFill>
                <a:srgbClr val="000000"/>
              </a:solidFill>
              <a:latin typeface="Arial"/>
            </a:endParaRPr>
          </a:p>
        </p:txBody>
      </p:sp>
      <p:pic>
        <p:nvPicPr>
          <p:cNvPr id="58" name="Rectangle 3" descr=""/>
          <p:cNvPicPr/>
          <p:nvPr/>
        </p:nvPicPr>
        <p:blipFill>
          <a:blip r:embed="rId2"/>
          <a:stretch/>
        </p:blipFill>
        <p:spPr>
          <a:xfrm>
            <a:off x="1212840" y="244440"/>
            <a:ext cx="710244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taurant is Dubai’s #1 rated restaurant. It is located on the 50</a:t>
            </a:r>
            <a:r>
              <a:rPr b="0" lang="en-US" sz="3200" spc="-1" strike="noStrike" baseline="30000">
                <a:solidFill>
                  <a:srgbClr val="000000"/>
                </a:solidFill>
                <a:latin typeface="Arial"/>
              </a:rPr>
              <a:t>th</a:t>
            </a:r>
            <a:r>
              <a:rPr b="0" lang="en-US" sz="3200" spc="-1" strike="noStrike">
                <a:solidFill>
                  <a:srgbClr val="000000"/>
                </a:solidFill>
                <a:latin typeface="Arial"/>
              </a:rPr>
              <a:t> floor of Jumeirah Emirates Towers. The environment is quite elegant, romantic, and perfect for a pair of lovers. It has a great ambience and the food is just amazing. The price fits your ability to spend money too!</a:t>
            </a:r>
            <a:endParaRPr b="0" lang="en-US" sz="3200" spc="-1" strike="noStrike">
              <a:solidFill>
                <a:srgbClr val="000000"/>
              </a:solidFill>
              <a:latin typeface="Arial"/>
            </a:endParaRPr>
          </a:p>
        </p:txBody>
      </p:sp>
      <p:sp>
        <p:nvSpPr>
          <p:cNvPr id="60" name=""/>
          <p:cNvSpPr txBox="1"/>
          <p:nvPr/>
        </p:nvSpPr>
        <p:spPr>
          <a:xfrm>
            <a:off x="2133720" y="457200"/>
            <a:ext cx="5105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ae3b7"/>
                    </a:gs>
                    <a:gs pos="50000">
                      <a:srgbClr val="fbe4ae"/>
                    </a:gs>
                    <a:gs pos="100000">
                      <a:srgbClr val="fae3b7"/>
                    </a:gs>
                  </a:gsLst>
                  <a:lin ang="5400000"/>
                </a:gradFill>
                <a:latin typeface="Arial Black"/>
              </a:rPr>
              <a:t>Vu's Restaurant</a:t>
            </a:r>
            <a:endParaRPr b="0" lang="en-US" sz="1800" spc="1" strike="noStrike">
              <a:ln w="9360">
                <a:solidFill>
                  <a:srgbClr val="000000"/>
                </a:solidFill>
                <a:miter/>
              </a:ln>
              <a:gradFill rotWithShape="0">
                <a:gsLst>
                  <a:gs pos="0">
                    <a:srgbClr val="fae3b7"/>
                  </a:gs>
                  <a:gs pos="50000">
                    <a:srgbClr val="fbe4ae"/>
                  </a:gs>
                  <a:gs pos="100000">
                    <a:srgbClr val="fae3b7"/>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12 acres of desert filled with 30 million litres of water, solely dedicated to having fun. That is Wild Wadi in Dubai, with 23 rides to entertain and excite every member of the family. This has been more than just a shelter for those wanting to escape the heat of the desert. This is a great place to spend your money!</a:t>
            </a:r>
            <a:endParaRPr b="0" lang="en-US" sz="3200" spc="-1" strike="noStrike">
              <a:solidFill>
                <a:srgbClr val="000000"/>
              </a:solidFill>
              <a:latin typeface="Arial"/>
            </a:endParaRPr>
          </a:p>
        </p:txBody>
      </p:sp>
      <p:sp>
        <p:nvSpPr>
          <p:cNvPr id="62" name=""/>
          <p:cNvSpPr txBox="1"/>
          <p:nvPr/>
        </p:nvSpPr>
        <p:spPr>
          <a:xfrm>
            <a:off x="2133720" y="380880"/>
            <a:ext cx="507672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33ccff"/>
                    </a:gs>
                    <a:gs pos="100000">
                      <a:srgbClr val="ffffff"/>
                    </a:gs>
                  </a:gsLst>
                  <a:lin ang="5400000"/>
                </a:gradFill>
                <a:effectLst>
                  <a:outerShdw dist="125751" dir="18900000" blurRad="0" rotWithShape="0">
                    <a:srgbClr val="000099"/>
                  </a:outerShdw>
                </a:effectLst>
                <a:latin typeface="Impact"/>
              </a:rPr>
              <a:t>Wild Wadi</a:t>
            </a:r>
            <a:endParaRPr b="0" lang="en-US" sz="1800" spc="1" strike="noStrike">
              <a:ln w="12600">
                <a:solidFill>
                  <a:srgbClr val="000099"/>
                </a:solidFill>
                <a:miter/>
              </a:ln>
              <a:gradFill rotWithShape="0">
                <a:gsLst>
                  <a:gs pos="0">
                    <a:srgbClr val="33ccff"/>
                  </a:gs>
                  <a:gs pos="100000">
                    <a:srgbClr val="ffffff"/>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s official language is Arabic. However, many people as tourists are often located here, speak and communicate in English.</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 is very tolerant of Tourists who do not practice the religion of Islam, however, fasting is practiced here during Ramadan, so tourists must be aware of this.</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 had it’s first recorded establishment in the year of 1799. The first clan that ruled Dubai was the Al Abu Falasa lineage of Bani Yas clan established itself in Dubai, which remained a dependent of the settlement of Abu Dhabi until 1833.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s Al Khaimah joined the UAE in 1972 as the seventh emirate. In 1973, Dubai joined the other emirates to adopt a single, uniform currency: the UAE dirham. </a:t>
            </a:r>
            <a:endParaRPr b="0" lang="en-US" sz="2400" spc="-1" strike="noStrike">
              <a:solidFill>
                <a:srgbClr val="000000"/>
              </a:solidFill>
              <a:latin typeface="Arial"/>
            </a:endParaRPr>
          </a:p>
        </p:txBody>
      </p:sp>
      <p:sp>
        <p:nvSpPr>
          <p:cNvPr id="64" name=""/>
          <p:cNvSpPr txBox="1"/>
          <p:nvPr/>
        </p:nvSpPr>
        <p:spPr>
          <a:xfrm rot="20662800">
            <a:off x="3047760" y="304920"/>
            <a:ext cx="4038480" cy="11365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ubai's Histor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d text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Dubai.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dubai.a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4:00Z</dcterms:created>
  <dc:creator>cfisd</dc:creator>
  <dc:description/>
  <dc:language>en-US</dc:language>
  <cp:lastModifiedBy>123</cp:lastModifiedBy>
  <dcterms:modified xsi:type="dcterms:W3CDTF">2009-02-22T09:36:39Z</dcterms:modified>
  <cp:revision>25</cp:revision>
  <dc:subject/>
  <dc:title>Slide 1</dc:title>
</cp:coreProperties>
</file>