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7EAC-4700-4158-8942-9BE8BD5CE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68B-3506-4EDB-9ECE-13BD5A0C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7D5-DA35-41FC-B650-E55ADDF6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B7DF-40FC-4D0E-8640-001F2C30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6F2D-FCB1-43DF-8980-52BD8EC5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D0A-5863-4E60-8916-5C312DC3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613D-37A0-4EEC-88A4-F2C2B083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952A-9F61-4E78-BE88-DEF8FF73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60C-7C73-4AFD-87D6-AFB3F77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A20-513C-434D-A753-DA3BCA19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C26-2436-4B98-8DC3-FCF09A9E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A467-46AA-42EC-9CD5-D91E9163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EAD0-DC9D-49C5-9EBC-6770C3959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43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bai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36576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nd Hyatt Ho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star ho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y restaurants &amp;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7 acres of beach and beautiful 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ms are spacious and luxurio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and Hyatt dubai "/>
          <p:cNvPicPr/>
          <p:nvPr/>
        </p:nvPicPr>
        <p:blipFill>
          <a:blip r:embed="rId1"/>
          <a:stretch/>
        </p:blipFill>
        <p:spPr>
          <a:xfrm>
            <a:off x="4343400" y="1752480"/>
            <a:ext cx="48006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bai started as a trade hub for India and made money from the trade that flowed through the Persian Gu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ough Dubai makes money off its high class real estate, low tax on business draws big business, and tourism is a major player in Dubai’s econom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tiary and Quandary Activitie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 was in Dubai I wou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buy books from the bookstore in the Dubai 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 and learn a bit from the Dubai National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the week in a hotel like the Grand Hya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the formation and history of SW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nd way to much money on dinner for my family or if I was older w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295280"/>
            <a:ext cx="1831680" cy="1447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477120" y="1828800"/>
            <a:ext cx="2219040" cy="2666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Grand Hyatt dubai "/>
          <p:cNvPicPr/>
          <p:nvPr/>
        </p:nvPicPr>
        <p:blipFill>
          <a:blip r:embed="rId3"/>
          <a:stretch/>
        </p:blipFill>
        <p:spPr>
          <a:xfrm>
            <a:off x="4800600" y="2743200"/>
            <a:ext cx="1676520" cy="149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495680" y="4191120"/>
            <a:ext cx="2057400" cy="2109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553080" y="4495680"/>
            <a:ext cx="190512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6666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would buy secular books and that is a sign of modern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oubtful a white guy would be allowed to normally view the history of a Arab State with out moder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doubtful I would be allowed in the country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tto on the second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other wouldn’t be allowed to wear her normal clothes and most likely the women I marry would e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23:02:07Z</dcterms:created>
  <dc:creator>Current User</dc:creator>
  <dc:description/>
  <dc:language>en-US</dc:language>
  <cp:lastModifiedBy>Current User</cp:lastModifiedBy>
  <dcterms:modified xsi:type="dcterms:W3CDTF">2009-02-24T23:46:35Z</dcterms:modified>
  <cp:revision>2</cp:revision>
  <dc:subject/>
  <dc:title>Dubai Trip</dc:title>
</cp:coreProperties>
</file>