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F09-AB19-4911-AFEC-8BC2BEB3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ED3-6E67-4F36-AA49-08C41214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4DB-5589-4613-81D8-9ABA4719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4FF-F890-426B-86B5-8993C7E9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F7D-E967-4908-BE46-FE475FC3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604-E774-4B6D-892F-4F76F004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788-ED0A-4552-8915-B9C9E0AE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034-E4C8-4A75-90E8-AF7C60C1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B79-F2BC-4632-9558-1B4BB289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FE2-88EC-4B60-ACFA-ECDF1380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C56-4FFF-433C-95CA-AF8DFAD1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8BF-EC9B-420A-8425-43A09F8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080A-B390-4624-8CBB-9E882EE33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ai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36576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Hyatt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star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y restaurants &amp;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 acres of beach and beautiful 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s are spacious and luxuri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and Hyatt dubai "/>
          <p:cNvPicPr/>
          <p:nvPr/>
        </p:nvPicPr>
        <p:blipFill>
          <a:blip r:embed="rId1"/>
          <a:stretch/>
        </p:blipFill>
        <p:spPr>
          <a:xfrm>
            <a:off x="4343400" y="1752480"/>
            <a:ext cx="4800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ai started as a trade hub for India and made money from the trade that flowed through the Persian Gu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ough Dubai makes money off its high class real estate, low tax on business draws big business, and tourism is a major player in Dubai’s econom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tiary and Quandary Activitie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was in Dubai I w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and buy books from the bookstore in the Dubai 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and learn a bit from the Dubai National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 the week in a hotel like the Grand Hy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the formation and history of SW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 way to much money on dinner for my family or if I was older w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183168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77120" y="1828800"/>
            <a:ext cx="221904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Grand Hyatt dubai "/>
          <p:cNvPicPr/>
          <p:nvPr/>
        </p:nvPicPr>
        <p:blipFill>
          <a:blip r:embed="rId3"/>
          <a:stretch/>
        </p:blipFill>
        <p:spPr>
          <a:xfrm>
            <a:off x="4800600" y="274320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95680" y="4191120"/>
            <a:ext cx="205740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553080" y="4495680"/>
            <a:ext cx="1905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buy secular books and that is a sign of moder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oubtful a white guy would be allowed to normally view the history of a Arab State with out moder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doubtful I would be allowed in the country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to on the secon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mother wouldn’t be allowed to wear her normal clothes and most likely the women I marry would 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3:02:07Z</dcterms:created>
  <dc:creator>Current User</dc:creator>
  <dc:description/>
  <dc:language>en-US</dc:language>
  <cp:lastModifiedBy>Current User</cp:lastModifiedBy>
  <dcterms:modified xsi:type="dcterms:W3CDTF">2009-02-24T23:46:35Z</dcterms:modified>
  <cp:revision>2</cp:revision>
  <dc:subject/>
  <dc:title>Dubai Trip</dc:title>
</cp:coreProperties>
</file>