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DFD-0E82-4C76-A257-02F898E2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62B1-23EB-46EC-AD6E-FE34B40B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90F-4C70-400F-8F5B-90FBF3CA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DCD-1F57-486E-9CA7-F4E6C5BC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660-E7EF-4294-AD1E-6AA40698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C7E-A4AF-44CC-87A0-093C6D2CE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0A3-5519-48DB-AE57-0E1315A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628-FD8A-49EA-A8F8-B06E6470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A93-04FA-4D8F-83E1-E317496F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C21-637F-4BE8-937A-C5B13A48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D23-AC92-4698-B259-4AE444AD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F59A-0CD1-44D0-9641-CBF25F7E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5016-3EF2-42DC-8067-AAC9704B9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657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Hyatt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star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y restaurants &amp;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 acres of beach and beautiful 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s are spacious and lux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and Hyatt dubai 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ai started as a trade hub for India and made money from the trade that flowed through the Persian Gu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ough Dubai makes money off its high class real estate, low tax on business draws big business, and tourism is a major player in Dubai’s econom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and Quandary Activiti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was in Dubai I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buy books from the bookstore in the Dubai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learn a bit from the Dubai National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the week in a hotel like the Grand Hy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formation and history of SW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ay to much money on dinner for my family or if I was older w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183168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21904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rand Hyatt dubai "/>
          <p:cNvPicPr/>
          <p:nvPr/>
        </p:nvPicPr>
        <p:blipFill>
          <a:blip r:embed="rId3"/>
          <a:stretch/>
        </p:blipFill>
        <p:spPr>
          <a:xfrm>
            <a:off x="4800600" y="27432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05740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495680"/>
            <a:ext cx="1905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secular books and that is a sign of moder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oubtful a white guy would be allowed to normally view the history of a Arab State with out moder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doubtful I would be allowed in the country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to on the secon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other wouldn’t be allowed to wear her normal clothes and most likely the women I marry would 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02:07Z</dcterms:created>
  <dc:creator>Current User</dc:creator>
  <dc:description/>
  <dc:language>en-US</dc:language>
  <cp:lastModifiedBy>Current User</cp:lastModifiedBy>
  <dcterms:modified xsi:type="dcterms:W3CDTF">2009-02-24T23:46:35Z</dcterms:modified>
  <cp:revision>2</cp:revision>
  <dc:subject/>
  <dc:title>Dubai Trip</dc:title>
</cp:coreProperties>
</file>