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17D-4039-42E3-9060-FD95F500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19B-8841-4A99-B47B-5FB7FB1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D80-BFFB-4B7F-8799-EB60F80C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77B-E6D2-4C0A-9B5E-29E20681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08E-EFFE-42E8-80C2-A0470851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F4C-5DA5-4BAB-B36C-E681A66B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CE2-B3A5-4ACB-96B5-6A88BEF8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967-9257-4592-8B30-A26319A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A57-7352-4D55-84BB-2B915943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A98-FCAA-4D39-AE7C-9300016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82D-F961-42A6-8228-711DD0F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594-903A-4F79-BEC4-0332524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2462-6E7F-4881-AED9-F8B1809F1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657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Hyatt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star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y restaurants &amp;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 acres of beach and beautiful 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s are spacious and luxuri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and Hyatt dubai 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ai started as a trade hub for India and made money from the trade that flowed through the Persian Gu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ough Dubai makes money off its high class real estate, low tax on business draws big business, and tourism is a major player in Dubai’s econom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tiary and Quandary Activitie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was in Dubai I w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buy books from the bookstore in the Dubai 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learn a bit from the Dubai National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the week in a hotel like the Grand Hy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he formation and history of SW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way to much money on dinner for my family or if I was older w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183168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221904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rand Hyatt dubai "/>
          <p:cNvPicPr/>
          <p:nvPr/>
        </p:nvPicPr>
        <p:blipFill>
          <a:blip r:embed="rId3"/>
          <a:stretch/>
        </p:blipFill>
        <p:spPr>
          <a:xfrm>
            <a:off x="4800600" y="27432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05740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4495680"/>
            <a:ext cx="1905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buy secular books and that is a sign of moder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oubtful a white guy would be allowed to normally view the history of a Arab State with out moder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doubtful I would be allowed in the country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to on the secon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mother wouldn’t be allowed to wear her normal clothes and most likely the women I marry would 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3:02:07Z</dcterms:created>
  <dc:creator>Current User</dc:creator>
  <dc:description/>
  <dc:language>en-US</dc:language>
  <cp:lastModifiedBy>Current User</cp:lastModifiedBy>
  <dcterms:modified xsi:type="dcterms:W3CDTF">2009-02-24T23:46:35Z</dcterms:modified>
  <cp:revision>2</cp:revision>
  <dc:subject/>
  <dc:title>Dubai Trip</dc:title>
</cp:coreProperties>
</file>