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F85-0235-4FE4-923E-899527BD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B35-507C-4A4B-9339-A81D5688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0BB-E556-4FB6-AA4F-2BBA8E78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803-1E8E-4928-8DAF-2A793D2E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B2E-B0FD-4E9D-92F0-7F83FF2D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573-ED51-4F25-B098-64962F45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F7C-3998-4672-BC76-C8A0F076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8F8-8623-45D4-90F4-4447933F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A65-6160-4174-AE05-4A616988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3E3-2E90-4244-B7FB-99154DC7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E10-790A-460D-9C87-D3DEB340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3C4-E29D-403F-914C-D5E1BDDE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B526-2389-4C43-9B2B-A18025B3D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1133640" y="450720"/>
            <a:ext cx="6370560" cy="528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33520" y="533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remy Ph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hat type of government (political system) does the United States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United States has a democratic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MCj03013160000[1]"/>
          <p:cNvPicPr/>
          <p:nvPr/>
        </p:nvPicPr>
        <p:blipFill>
          <a:blip r:embed="rId2"/>
          <a:stretch/>
        </p:blipFill>
        <p:spPr>
          <a:xfrm>
            <a:off x="3200400" y="2590920"/>
            <a:ext cx="2666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ho holds the power in this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people hold the power in a democra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2146320" y="3371760"/>
            <a:ext cx="5278320" cy="84636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2"/>
          <p:cNvSpPr/>
          <p:nvPr/>
        </p:nvSpPr>
        <p:spPr>
          <a:xfrm>
            <a:off x="7428960" y="3962520"/>
            <a:ext cx="37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14"/>
          <p:cNvSpPr/>
          <p:nvPr/>
        </p:nvSpPr>
        <p:spPr>
          <a:xfrm flipH="1" flipV="1">
            <a:off x="7010280" y="396216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790640" y="4114800"/>
            <a:ext cx="3816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20"/>
          <p:cNvSpPr/>
          <p:nvPr/>
        </p:nvSpPr>
        <p:spPr>
          <a:xfrm flipV="1">
            <a:off x="1751760" y="3886200"/>
            <a:ext cx="76212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23"/>
          <p:cNvSpPr/>
          <p:nvPr/>
        </p:nvSpPr>
        <p:spPr>
          <a:xfrm flipH="1">
            <a:off x="1447920" y="5410080"/>
            <a:ext cx="38088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25"/>
          <p:cNvSpPr/>
          <p:nvPr/>
        </p:nvSpPr>
        <p:spPr>
          <a:xfrm>
            <a:off x="1828800" y="541008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27"/>
          <p:cNvSpPr/>
          <p:nvPr/>
        </p:nvSpPr>
        <p:spPr>
          <a:xfrm flipH="1">
            <a:off x="7162920" y="5334120"/>
            <a:ext cx="3045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29"/>
          <p:cNvSpPr/>
          <p:nvPr/>
        </p:nvSpPr>
        <p:spPr>
          <a:xfrm>
            <a:off x="7467480" y="533412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miley Face 31"/>
          <p:cNvSpPr/>
          <p:nvPr/>
        </p:nvSpPr>
        <p:spPr>
          <a:xfrm>
            <a:off x="1371600" y="327672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miley Face 32"/>
          <p:cNvSpPr/>
          <p:nvPr/>
        </p:nvSpPr>
        <p:spPr>
          <a:xfrm>
            <a:off x="7010280" y="3124080"/>
            <a:ext cx="838440" cy="8384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228600" y="3505320"/>
            <a:ext cx="4152960" cy="140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Program Files\Microsoft Office\MEDIA\CAGCAT10\j0300840.wmf"/>
          <p:cNvPicPr/>
          <p:nvPr/>
        </p:nvPicPr>
        <p:blipFill>
          <a:blip r:embed="rId3">
            <a:lum contrast="-62000"/>
          </a:blip>
          <a:stretch/>
        </p:blipFill>
        <p:spPr>
          <a:xfrm rot="20330400">
            <a:off x="6509880" y="2165040"/>
            <a:ext cx="2210040" cy="1860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deas from the Enlightment period are still present in the government (political system) of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Baron de Montesquieu’s ideas influenced the U.S. Constitution by providing checks and bal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Montesquieu’s idea of three branches of government still exist today as executive, legislative, and judicial bra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Jean-Jacques Rousseau wrote that good government must be based on popular sovereign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 would the government of the United States be a pull factor for people living in a dictatorship or communist country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John\Local Settings\Temporary Internet Files\Content.IE5\BC0JG4PZ\MCj04125500000[1].wmf"/>
          <p:cNvPicPr/>
          <p:nvPr/>
        </p:nvPicPr>
        <p:blipFill>
          <a:blip r:embed="rId2"/>
          <a:stretch/>
        </p:blipFill>
        <p:spPr>
          <a:xfrm>
            <a:off x="6095880" y="457200"/>
            <a:ext cx="1524240" cy="15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John\Local Settings\Temporary Internet Files\Content.IE5\Q6DUN2J7\MCj04396000000[1].png"/>
          <p:cNvPicPr/>
          <p:nvPr/>
        </p:nvPicPr>
        <p:blipFill>
          <a:blip r:embed="rId3"/>
          <a:stretch/>
        </p:blipFill>
        <p:spPr>
          <a:xfrm>
            <a:off x="1066680" y="5029200"/>
            <a:ext cx="2684520" cy="1563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914400" y="35812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he United States has freedoms, whereas dictatorship  or communist country takes away the freedoms of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2:44:23Z</dcterms:created>
  <dc:creator>John</dc:creator>
  <dc:description/>
  <dc:language>en-US</dc:language>
  <cp:lastModifiedBy>John</cp:lastModifiedBy>
  <dcterms:modified xsi:type="dcterms:W3CDTF">2008-10-22T05:02:49Z</dcterms:modified>
  <cp:revision>15</cp:revision>
  <dc:subject/>
  <dc:title>Slide 1</dc:title>
</cp:coreProperties>
</file>