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7E41-6B31-4F06-A3F8-9FDB0C12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3016-807B-4751-AF8B-649C2237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F778-5CE3-47E6-85DE-5C364AA2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6C9-62A9-4B57-8452-B0E595D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F1D0-32B2-45AA-9F2D-DC86A9FD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B39-F711-4342-866A-A3E0113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894-5DB6-4BDD-8C07-1218A025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FC5-535A-46DC-9BE6-B7B04B4F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B2A9-D55C-4EDE-AB66-3C681DB1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6650-8F4A-43D4-9D77-A3D321BF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BDF-7171-4577-85A0-AB9896A9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7718-D624-4692-96F3-499B9950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D4A9-A9F5-45C6-B86A-BFACDCA5F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2T05:02:49Z</dcterms:modified>
  <cp:revision>15</cp:revision>
  <dc:subject/>
  <dc:title>Slide 1</dc:title>
</cp:coreProperties>
</file>