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FC0-527A-46F3-AA7B-CD9E1374A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6B9D-1881-4492-8380-0EB95365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2E3-5D0A-4F03-BDB7-FF3327F7A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8BCC-E22F-41D4-B042-513F024D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E8F8-53E0-4E3E-B6C0-80857FD2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74C4-3334-488A-A137-7B312539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8709-FE76-4B77-8192-745F0C93D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2E9-B9DC-4A5C-9448-821068D12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EDE-68D1-4DAE-B8E0-57FE0C7D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DC3-0DFA-4FD8-8561-55912851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107-AD98-46E7-BFBC-C51626DA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D568-784A-4FE9-95D5-FE76693D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C3A7-7130-42E1-97D7-532D491EA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bbc.co.uk/nolpda/ifs_news/hi/newsid_7360000/7360258.stm" TargetMode="External"/><Relationship Id="rId2" Type="http://schemas.openxmlformats.org/officeDocument/2006/relationships/hyperlink" Target="http://sitemaker.umich.edu/003_003/avanca_brasil_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orestation in the Amazon Rain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inforest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be assigned to a group and provided with introductory resear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must create a presentation that will be given to a panel including me and student jud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nel will decide the answer to the 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Brazi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erv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conomically develop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the rainfo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Poster – 4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racy = 30 (get yours approve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facts are accurate, everything required is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ance =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ure represents most important reasons, uses color appropriately, spelling/grammar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resentation – 3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urac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cts are accurate, able to respond to questions correctly and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ud enough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uasive for jud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oes not use slang/poor gram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ion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is involved and has a role in the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udience Participation – 30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uracy and completion – 3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BC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University of Michigan 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n grou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fter I put up the group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a captain, stay in your regular seat and raise your h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If you are not a captain, locate your captain and go to their loc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first group with all members seated will get to choose their profe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2057400"/>
                <a:gridCol w="172080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Cin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Vinc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y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ayl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ob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Linds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Kia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bast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Shar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st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Brow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ect your te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  <a:gridCol w="1828800"/>
                <a:gridCol w="1752480"/>
                <a:gridCol w="15541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ulio Jar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ley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Denz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eti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Ramiro 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rand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viet Union - So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600200"/>
                <a:gridCol w="1828800"/>
                <a:gridCol w="1752480"/>
                <a:gridCol w="2025720"/>
                <a:gridCol w="189072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N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metr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hle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-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s with a C in front of their name are the captain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ains make sure your group is on tas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will select one judge from each grou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Thursday 1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Laptops – 2 per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powerpoint called “Deforestation in the Amaz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egin researching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4343400" cy="2828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838080"/>
            <a:ext cx="358128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I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Amazon rainforest in Brazil is disappear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Defores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cutting down and clearing of trees and forest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9917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8769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How is this happ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roups are cutting down the rainforest for economic reas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. Effec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azil’s GDP has increa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y have a trade surplus – they are exporting goods from the rain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916" t="27777" r="56251" b="33338"/>
          <a:stretch/>
        </p:blipFill>
        <p:spPr>
          <a:xfrm>
            <a:off x="4724280" y="457200"/>
            <a:ext cx="3864240" cy="541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685800"/>
            <a:ext cx="3429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Mor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Native groups are threatened by rainforest de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6943" t="21298" r="40278" b="231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6943" t="27777" r="40278" b="24076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52280" y="152280"/>
            <a:ext cx="89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4. Mor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Global warming is increased because of rainforest de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25:44Z</dcterms:created>
  <dc:creator>CFISD</dc:creator>
  <dc:description/>
  <dc:language>en-US</dc:language>
  <cp:lastModifiedBy>CFISD</cp:lastModifiedBy>
  <dcterms:modified xsi:type="dcterms:W3CDTF">2009-01-22T17:18:36Z</dcterms:modified>
  <cp:revision>24</cp:revision>
  <dc:subject/>
  <dc:title>Deforestation in the Amazon Rainforest</dc:title>
</cp:coreProperties>
</file>