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EB2F-CE55-45DB-ADFD-C75F5C4FD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8E84-C098-495D-B640-CFB65496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310A-CE1D-4D6B-9F42-24DBE9516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0D4A-9BDE-449D-A593-B3E2AD1CC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5F64-B5E8-4145-BC1F-63651B96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58BF-BA58-4B63-A958-8C88EFC3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BDD3-0A6C-423F-9DB6-A92DDDA8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B8A5-ABAD-423A-A0A5-EBF94927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1D52-B6B0-4FC5-BC04-91349DAF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FEB6-86FA-4F08-A2F9-D01A3147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AB2B-2E27-4168-BB92-3697DD5A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14B6-EE27-43DE-835C-CB32BA79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A652-BE9D-4EDA-A8BA-749899081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news.bbc.co.uk/nolpda/ifs_news/hi/newsid_7360000/7360258.stm" TargetMode="External"/><Relationship Id="rId2" Type="http://schemas.openxmlformats.org/officeDocument/2006/relationships/hyperlink" Target="http://sitemaker.umich.edu/003_003/avanca_brasil_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orestation in the Amazon Rainfo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inforest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be assigned to a group and provided with introductory resear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group must create a presentation that will be given to a panel including me and student judg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nel will decide the answer to the key ques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ll Brazil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erv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conomically develop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the rainfor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b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Poster – 40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racy = 30 (get yours approve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facts are accurate, everything required is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ance =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represents most important reasons, uses color appropriately, spelling/grammar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Presentation – 30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cy –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facts are accurate, able to respond to questions correctly and eff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very –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ud enough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ersuasive for judg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oes not use slang/poor gramm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ion –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is involved and has a role in the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Audience Participation – 30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ccuracy and completion – 3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er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poster must ha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itle – your group’s profession and students’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Bullets - An explanation of your profession’s posi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Key Ques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e you for or again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ainforest destruction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At least 3 reasons that support you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 (the more the be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Explanation for each r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Pictures – include at least two pictures to represent your pos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BC 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University of Michigan 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seven group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fter I put up the group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f you are a captain, stay in your regular seat and raise your ha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f you are not a captain, locate your captain and go to their loc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he first group with all members seated will get to choose their profess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0" y="228600"/>
          <a:ext cx="9097920" cy="6324480"/>
        </p:xfrm>
        <a:graphic>
          <a:graphicData uri="http://schemas.openxmlformats.org/drawingml/2006/table">
            <a:tbl>
              <a:tblPr/>
              <a:tblGrid>
                <a:gridCol w="1752480"/>
                <a:gridCol w="1676520"/>
                <a:gridCol w="2057400"/>
                <a:gridCol w="1720800"/>
                <a:gridCol w="1890720"/>
              </a:tblGrid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1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B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- Cin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Vin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Cy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Kayl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Cob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- Linds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s with a C in front of their name are the captai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ins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lect your te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ins make sure your group is on task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228600"/>
          <a:ext cx="9097920" cy="6324480"/>
        </p:xfrm>
        <a:graphic>
          <a:graphicData uri="http://schemas.openxmlformats.org/drawingml/2006/table">
            <a:tbl>
              <a:tblPr/>
              <a:tblGrid>
                <a:gridCol w="1752480"/>
                <a:gridCol w="1905120"/>
                <a:gridCol w="1676520"/>
                <a:gridCol w="1904760"/>
                <a:gridCol w="1859040"/>
              </a:tblGrid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1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Kia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a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basti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T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nif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t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t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yan W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Shar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d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nel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Lu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st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ls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D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e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s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Brow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l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s with a C in front of their name are the captai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ins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lect your te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ins make sure your group is on task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0" y="228600"/>
          <a:ext cx="9097920" cy="6324480"/>
        </p:xfrm>
        <a:graphic>
          <a:graphicData uri="http://schemas.openxmlformats.org/drawingml/2006/table">
            <a:tbl>
              <a:tblPr/>
              <a:tblGrid>
                <a:gridCol w="2133720"/>
                <a:gridCol w="1828800"/>
                <a:gridCol w="1828800"/>
                <a:gridCol w="1752480"/>
                <a:gridCol w="1554120"/>
              </a:tblGrid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1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miro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el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blo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Julio Jarv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 E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Cley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tta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va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 O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Denz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s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Leti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e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Ramiro 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m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han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v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- Brand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ss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s with a C in front of their name are the captai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ins make sure your group is on task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ill select one judge from each group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28600" y="914400"/>
          <a:ext cx="8763120" cy="506088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viet Union - Soc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l of Commun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ssia After Communism – Political and Econom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Latin America (LA)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Cover P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ores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28600" y="38862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0" y="228600"/>
          <a:ext cx="9097920" cy="6324480"/>
        </p:xfrm>
        <a:graphic>
          <a:graphicData uri="http://schemas.openxmlformats.org/drawingml/2006/table">
            <a:tbl>
              <a:tblPr/>
              <a:tblGrid>
                <a:gridCol w="1600200"/>
                <a:gridCol w="1828800"/>
                <a:gridCol w="1752480"/>
                <a:gridCol w="2025720"/>
                <a:gridCol w="1890720"/>
              </a:tblGrid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1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J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d B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Ni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rd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e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y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Mad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etri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hoce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hl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Cr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ller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ngri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fon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Lu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ylyn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v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nif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- Bl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kar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s with a C in front of their name are the captai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ins make sure your group is on task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ill select one judge from each group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Do List – Thursday 1-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. Laptops – 2 per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ww.orso2ndperiod.wikispac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rking peri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the powerpoint called “Deforestation in the Amaz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. Begin researching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he additional research slide in the powerpoi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. Rough D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together and create a rough draft of your poster or powerpoint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 Appro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Get your rough drafts appro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48320" y="533520"/>
            <a:ext cx="4343400" cy="2828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838080"/>
            <a:ext cx="358128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In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e Amazon rainforest in Brazil is disappearing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. Defores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utting down and clearing of trees and forest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917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48769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How is this happ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Groups are cutting down the rainforest for economic reas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Effe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razil’s GDP has increa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hey have a trade surplus – they are exporting goods from the rainfor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22916" t="27777" r="56251" b="33338"/>
          <a:stretch/>
        </p:blipFill>
        <p:spPr>
          <a:xfrm>
            <a:off x="4724280" y="457200"/>
            <a:ext cx="3864240" cy="5410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685800"/>
            <a:ext cx="34290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. Mor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Native groups are threatened by rainforest de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6943" t="21298" r="40278" b="2314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6943" t="27777" r="40278" b="24076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280" y="152280"/>
            <a:ext cx="899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4. More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Global warming is increased because of rainforest de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2:25:44Z</dcterms:created>
  <dc:creator>CFISD</dc:creator>
  <dc:description/>
  <dc:language>en-US</dc:language>
  <cp:lastModifiedBy>CFISD</cp:lastModifiedBy>
  <dcterms:modified xsi:type="dcterms:W3CDTF">2009-01-22T17:18:36Z</dcterms:modified>
  <cp:revision>24</cp:revision>
  <dc:subject/>
  <dc:title>Deforestation in the Amazon Rainforest</dc:title>
</cp:coreProperties>
</file>