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9FF6-C9A0-445F-BBF7-1D4CD959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0B3B-FB00-46A9-B9FA-BC5F4AE8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586-73A4-4092-B845-CCB5184B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4492-D982-467C-8D42-A49D9F66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623B-BDF6-492B-880D-DA1FCCFB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6ACF-7E86-4943-A0D2-45651DF1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7F5-3168-4CD5-9B68-51B07E18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3A5-A8BD-48C3-8579-0731C044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C1A3-3DCE-4A29-98C8-8F972D21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BC4E-F265-4031-8FF5-B0D1D908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6692-B66B-4185-99BD-D63F2243C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52C-4CEE-4E6C-94EA-0900CA04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9A83-C6ED-4EA0-855D-93B300F46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ews.bbc.co.uk/nolpda/ifs_news/hi/newsid_7360000/7360258.stm" TargetMode="External"/><Relationship Id="rId2" Type="http://schemas.openxmlformats.org/officeDocument/2006/relationships/hyperlink" Target="http://sitemaker.umich.edu/003_003/avanca_brasil_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estation in the Amazon Rain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nforest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signed to a group and provided with introductory resear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oup must create a presentation that will be given to a panel including me and student jud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nel will decide the answer to the key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Brazi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erv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ally develo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he rain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Poster – 4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 = 30 (get yours appro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acts are accurate, everything required i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ance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represents most important reasons, uses color appropriately, spelling/grammar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Presentation – 30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cts are accurate, able to respond to questions correctly and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d enough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uasive for jud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es not use slang/poor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is involved and has a role in the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Audience Participation – 3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ccuracy and completion – 3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poster must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itle – your group’s profession and students’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ullets - An explanation of your profession’s pos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Key Ques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you for or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inforest destructio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At least 3 reasons that support y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(the more the be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Explanation for each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ictures – include at least two pictures to represent your 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BC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niversity of Michigan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n grou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 I put up the group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f you are a captain, stay in your regular seat and raise your h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f you are not a captain, locate your captain and go to their lo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first group with all members seated will get to choose their profe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2057400"/>
                <a:gridCol w="1720800"/>
                <a:gridCol w="18907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B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Cin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Vin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y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Kayl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ob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Linds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ect your 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Ki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st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yan W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Sha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l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st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s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D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Br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ect your 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2133720"/>
                <a:gridCol w="1828800"/>
                <a:gridCol w="1828800"/>
                <a:gridCol w="1752480"/>
                <a:gridCol w="15541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lo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Julio Jar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ley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t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Denz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eti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e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miro 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Bran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select one judge from each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50608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 After Communism – Political and Econ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Latin America (LA)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ores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3886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600200"/>
                <a:gridCol w="1828800"/>
                <a:gridCol w="1752480"/>
                <a:gridCol w="2025720"/>
                <a:gridCol w="18907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N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etr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h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select one judge from each grou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 – Thursday 1-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Laptops – 2 pe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ing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powerpoint called “Deforestation in the Amaz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Begin research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additional research slide in the powerpo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. Rough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ogether and create a rough draft of your poster or powerpoint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 Appr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Get your rough drafts appro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343400" cy="2828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838080"/>
            <a:ext cx="3581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Amazon rainforest in Brazil is disappear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Defores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utting down and clearing of trees and fores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8769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How is this happ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roups are cutting down the rainforest for economic rea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azil’s GDP has incre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y have a trade surplus – they are exporting goods from the rainfo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2916" t="27777" r="56251" b="33338"/>
          <a:stretch/>
        </p:blipFill>
        <p:spPr>
          <a:xfrm>
            <a:off x="4724280" y="457200"/>
            <a:ext cx="386424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685800"/>
            <a:ext cx="3429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Mor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ative groups are threatened by rainforest de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6943" t="21298" r="40278" b="231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6943" t="27777" r="40278" b="24076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15228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. Mor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Global warming is increased because of rainforest de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2:25:44Z</dcterms:created>
  <dc:creator>CFISD</dc:creator>
  <dc:description/>
  <dc:language>en-US</dc:language>
  <cp:lastModifiedBy>CFISD</cp:lastModifiedBy>
  <dcterms:modified xsi:type="dcterms:W3CDTF">2009-01-22T17:18:36Z</dcterms:modified>
  <cp:revision>24</cp:revision>
  <dc:subject/>
  <dc:title>Deforestation in the Amazon Rainforest</dc:title>
</cp:coreProperties>
</file>