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E762-DBFD-4CB1-A868-EFDE0969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FD89-1BC8-4BC8-88FE-D79281F8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8867-29A5-4899-9A8D-17D44594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B0B-9387-4495-828A-94477513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2390-93D8-4409-859E-E8A2E7FF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CD6-6EE6-4EF1-9B3F-2A66AC81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5838-E4E2-4E51-B8F5-1478B22D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2D7-D7F8-43E6-9A53-D6C8281B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5111-B0E7-43C9-BAC7-E7595C5B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27E-ED53-4EE2-8E9E-7CAE7703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A62-8E31-42C6-8DB5-9761D94F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5EA3-4E90-4336-9706-7FD9A06E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B2BF-BC97-497D-9361-FD496C073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news.bbc.co.uk/nolpda/ifs_news/hi/newsid_7360000/7360258.stm" TargetMode="External"/><Relationship Id="rId2" Type="http://schemas.openxmlformats.org/officeDocument/2006/relationships/hyperlink" Target="http://sitemaker.umich.edu/003_003/avanca_brasil_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orestation in the Amazon Rain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inforest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assigned to a group and provided with introductory resear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group must create a presentation that will be given to a panel including me and student jud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nel will decide the answer to the key 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Brazil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erv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ally develo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the rainfor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Poster – 4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 = 30 (get yours approv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facts are accurate, everything required is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ance =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represents most important reasons, uses color appropriately, spelling/grammar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Presentation – 30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acts are accurate, able to respond to questions correctly and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d enough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suasive for jud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oes not use slang/poor gram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is involved and has a role in the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Audience Participation – 3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ccuracy and completion – 3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er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poster must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itle – your group’s profession and students’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ullets - An explanation of your profession’s pos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Key Ques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 you for or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inforest destruction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At least 3 reasons that support yo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(the more the be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Explanation for each r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ictures – include at least two pictures to represent your 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BC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University of Michigan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even grou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ter I put up the group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f you are a captain, stay in your regular seat and raise your h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f you are not a captain, locate your captain and go to their loc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first group with all members seated will get to choose their profe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2057400"/>
                <a:gridCol w="1720800"/>
                <a:gridCol w="189072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B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- Cin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Vin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Cy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Kayl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Cob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- Linds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s with a C in front of their name are the capt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lect your te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make sure your group is on task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752480"/>
                <a:gridCol w="1905120"/>
                <a:gridCol w="1676520"/>
                <a:gridCol w="1904760"/>
                <a:gridCol w="185904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Ki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bast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T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t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yan W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Sha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d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nel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Lu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st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ls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D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Br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s with a C in front of their name are the capt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lect your te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make sure your group is on task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2133720"/>
                <a:gridCol w="1828800"/>
                <a:gridCol w="1828800"/>
                <a:gridCol w="1752480"/>
                <a:gridCol w="155412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iro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el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blo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Julio Jarv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 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Cley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t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 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Denz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Leti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e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Ramiro 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h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- Bran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s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s with a C in front of their name are the capt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make sure your group is on task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select one judge from each grou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914400"/>
          <a:ext cx="8763120" cy="506088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So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 of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 After Communism – Political and Econo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Latin America (LA)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ores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3886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600200"/>
                <a:gridCol w="1828800"/>
                <a:gridCol w="1752480"/>
                <a:gridCol w="2025720"/>
                <a:gridCol w="189072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J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d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N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Mad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etr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oce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hl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C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ller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gr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on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Lu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yly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- Bl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ka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s with a C in front of their name are the capt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make sure your group is on tas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select one judge from each grou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Do List – Thursday 1-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. Laptops – 2 pe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orso2ndperiod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king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powerpoint called “Deforestation in the Amaz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. Begin researchi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he additional research slide in the powerpo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. Rough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ogether and create a rough draft of your poster or powerpoint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 Appro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Get your rough drafts appro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533520"/>
            <a:ext cx="4343400" cy="2828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838080"/>
            <a:ext cx="35812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I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Amazon rainforest in Brazil is disappear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Defores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utting down and clearing of trees and fores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48769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How is this happ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roups are cutting down the rainforest for economic rea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azil’s GDP has incre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y have a trade surplus – they are exporting goods from the rainfor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22916" t="27777" r="56251" b="33338"/>
          <a:stretch/>
        </p:blipFill>
        <p:spPr>
          <a:xfrm>
            <a:off x="4724280" y="457200"/>
            <a:ext cx="386424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685800"/>
            <a:ext cx="3429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. Mor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ative groups are threatened by rainforest de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6943" t="21298" r="40278" b="231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6943" t="27777" r="40278" b="24076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15228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4. Mor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Global warming is increased because of rainforest de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2:25:44Z</dcterms:created>
  <dc:creator>CFISD</dc:creator>
  <dc:description/>
  <dc:language>en-US</dc:language>
  <cp:lastModifiedBy>CFISD</cp:lastModifiedBy>
  <dcterms:modified xsi:type="dcterms:W3CDTF">2009-01-22T17:18:36Z</dcterms:modified>
  <cp:revision>24</cp:revision>
  <dc:subject/>
  <dc:title>Deforestation in the Amazon Rainforest</dc:title>
</cp:coreProperties>
</file>