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9A0-058D-4E02-994B-001E669F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450-77E2-4D9F-B6FE-CB854A53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943-0112-403F-A631-854051FD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E25-EB78-4F4C-8AF2-DEF64FE6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4BE-B545-4D93-924B-58076018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6E8-C097-4AEC-A312-DE505E60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BE0-219D-4912-A3DE-3946CFAB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9BF-ADBF-407D-810C-BA32F073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FDC-E4DA-4557-B81D-79998BE3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942-E611-4992-B499-E4F543F7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9EA-0FB2-498B-BC64-5DF9E15A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750-1600-4884-A6E5-A3E73CC0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4A2C-90E9-41B8-AF6A-B2F10864D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 – Major Grad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free agent in the NFL, looking a new team. Below are my choic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ver Broncos, Buffalo Bills, Philadelphia Eagles, New Orleans Saints, Kansas City Chiefs, St. Louis Rams, Pittsburgh Steelers, Toronto Argo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wife needs a job.  This is a major factor in my decision on where I’m gonna l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as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t is up to you to convince me to move to one of the regions in the US and Canada, 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You must convince me NOT to move to one of the regions in the US and Can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tisement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dvertisement must include the following. (5 points eac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lo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gion I should move to and explain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gion I shouldn’t move to and explain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ictures supporting the good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cture supporting the bad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 caption underneath each pic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hree physiographic regions provide the greatest ECONOMIC contribution to the US and Can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 them in ord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roviding the most contribution, 2 providing the second best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16:32Z</dcterms:created>
  <dc:creator>CFISD</dc:creator>
  <dc:description/>
  <dc:language>en-US</dc:language>
  <cp:lastModifiedBy>CFISD</cp:lastModifiedBy>
  <dcterms:modified xsi:type="dcterms:W3CDTF">2008-10-20T12:34:36Z</dcterms:modified>
  <cp:revision>3</cp:revision>
  <dc:subject/>
  <dc:title>Day 3 – Major Grade US</dc:title>
</cp:coreProperties>
</file>