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A29-200A-4975-87D2-88C0D0F8B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F94-5E36-4849-B507-097CED19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576-14DA-4BA5-B443-3629EB1B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DC9-534B-4473-A532-5094AB4C1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714F-8952-4517-9213-A3CFBEFA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065-9D95-48E5-B8FD-B7DD01AA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8382-F746-4F91-A918-C2EF965E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ED5-B0BA-4A3D-8E06-D664BCBC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222-1D00-4083-9A77-7F4DF1AA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839E-E13A-40C6-A006-4C43CF53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23A-08BA-4FFA-B94C-0D3A0F30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80C-1BF2-4C2D-8CD5-98FCFCB3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D197-B290-4F1B-B871-B5807A104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3 – Major Grade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m free agent in the NFL, looking a new team. Below are my choic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ver Broncos, Buffalo Bills, Philadelphia Eagles, New Orleans Saints, Kansas City Chiefs, St. Louis Rams, Pittsburgh Steelers, Toronto Argo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ife needs a job.  This is a major factor in my decision on where I’m gonna li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tas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It is up to you to convince me to move to one of the regions in the US and Canada, an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You must convince me NOT to move to one of the regions in the US and Can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ertisement 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dvertisement must include the following. (5 points each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lo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region I shouldn’t move to and explain wh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pictures supporting the goo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icture supporting the bad reg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 caption underneath each pictur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66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iting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hree physiographic regions provide the greatest ECONOMIC contribution to the US and Canad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k them in orde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providing the most contribution, 2 providing the second best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16:32Z</dcterms:created>
  <dc:creator>CFISD</dc:creator>
  <dc:description/>
  <dc:language>en-US</dc:language>
  <cp:lastModifiedBy>CFISD</cp:lastModifiedBy>
  <dcterms:modified xsi:type="dcterms:W3CDTF">2008-10-20T12:34:36Z</dcterms:modified>
  <cp:revision>3</cp:revision>
  <dc:subject/>
  <dc:title>Day 3 – Major Grade US</dc:title>
</cp:coreProperties>
</file>