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B93A-DBF4-4369-889D-C490C997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555-8D22-418C-8CA4-62312D59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357-D420-445A-83CB-C7AD1857C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EA3-194B-4F67-A49B-44867509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F66-8F91-4EB6-B863-8A9B3BFC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F96-F020-48C0-BAAD-04BA9EDE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776-722D-45E0-9814-1B2BCD44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733-4918-43B2-9D80-544D3009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86A8-803F-4EF5-B0C4-C784DEC7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ED2-F947-4172-A5B9-878CB438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64D9-B5F0-43FB-BB33-B93693DE9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6A4-0DDF-447F-93AC-F3633CE0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E742-0F6C-4AD0-84A0-0AD370EE7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 – Major Grad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free agent in the NFL, looking a new team. Below are my choi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ver Broncos, Buffalo Bills, Philadelphia Eagles, New Orleans Saints, Kansas City Chiefs, St. Louis Rams, Pittsburgh Steelers, Toronto Argo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wife needs a job.  This is a major factor in my decision on where I’m gonna l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t is up to you to convince me to move to one of the regions in the US and Canada, 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ou must convince me NOT to move to one of the regions in the US and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tisement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dvertisement must include the following. (5 points eac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lo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n’t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ctures supporting the goo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cture supporting the ba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 caption underneath each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hree physiographic regions provide the greatest ECONOMIC contribution to the US and Can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them in ord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viding the most contribution, 2 providing the second bes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16:32Z</dcterms:created>
  <dc:creator>CFISD</dc:creator>
  <dc:description/>
  <dc:language>en-US</dc:language>
  <cp:lastModifiedBy>CFISD</cp:lastModifiedBy>
  <dcterms:modified xsi:type="dcterms:W3CDTF">2008-10-20T12:34:36Z</dcterms:modified>
  <cp:revision>3</cp:revision>
  <dc:subject/>
  <dc:title>Day 3 – Major Grade US</dc:title>
</cp:coreProperties>
</file>