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4765-54EC-44B7-B738-9FB79A3E2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B27A-7668-44A0-8E8B-5B63C42D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E735-FE78-488B-AE34-22455ED1C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E669-4127-47FA-9DE4-4C647102C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D821-52E5-4F5B-820C-43A56B0E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F6A5-4E43-4C69-B710-2BD8BBE7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8CB7-6BEE-4530-8B49-7BC3A662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874F-29E9-4629-8A77-47259011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C230-35DE-4EC2-BA70-41976CD9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089A-668B-4A17-8CD1-88AC6373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C9F4-DF17-4D4B-AE6C-3648E578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38B6-E4C0-4CC6-A28B-BF27DCD5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D209-6C09-47C4-B48F-DF9F7337D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3 – Major Grade 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free agent in the NFL, looking a new team. Below are my choic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ver Broncos, Buffalo Bills, Philadelphia Eagles, New Orleans Saints, Kansas City Chiefs, St. Louis Rams, Pittsburgh Steelers, Toronto Argo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wife needs a job.  This is a major factor in my decision on where I’m gonna li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tas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t is up to you to convince me to move to one of the regions in the US and Canada, a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You must convince me NOT to move to one of the regions in the US and Cana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ertisement 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advertisement must include the following. (5 points each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lo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region I should move to and explain w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region I shouldn’t move to and explain w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pictures supporting the good reg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icture supporting the bad reg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 caption underneath each pictur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three physiographic regions provide the greatest ECONOMIC contribution to the US and Cana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k them in ord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providing the most contribution, 2 providing the second best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2:16:32Z</dcterms:created>
  <dc:creator>CFISD</dc:creator>
  <dc:description/>
  <dc:language>en-US</dc:language>
  <cp:lastModifiedBy>CFISD</cp:lastModifiedBy>
  <dcterms:modified xsi:type="dcterms:W3CDTF">2008-10-20T12:34:36Z</dcterms:modified>
  <cp:revision>3</cp:revision>
  <dc:subject/>
  <dc:title>Day 3 – Major Grade US</dc:title>
</cp:coreProperties>
</file>