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75B3-095F-4AD5-B478-8C777DD9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34AE-EBB5-414B-B43D-C30C3652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E56-4D7D-40FA-B3BE-0EAB7182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CC9-ACC1-4B6B-B74C-CEDE9392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B2DC-1D5A-4D1B-8B89-D4775D84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6EB-57F9-4FFB-B349-389EA41C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5FB-DB76-4024-B17C-7453D326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57C-AD81-4BFE-9EA2-6C217F73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7E27-3628-4DCB-A51C-6E8966AC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45F-8303-4210-B51A-2F5A27FF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BD3C-9979-47D2-9FB6-AA35CEFF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F028-CF17-4360-9E78-BA16404C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97B4-AACE-4E29-8B5A-21D11CD1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 – Major Grad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free agent in the NFL, looking a new team. Below are my choi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ver Broncos, Buffalo Bills, Philadelphia Eagles, New Orleans Saints, Kansas City Chiefs, St. Louis Rams, Pittsburgh Steelers, Toronto Argo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wife needs a job.  This is a major factor in my decision on where I’m gonna l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t is up to you to convince me to move to one of the regions in the US and Canada, 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ou must convince me NOT to move to one of the regions in the US and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tisement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dvertisement must include the following. (5 points eac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lo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n’t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ctures supporting the goo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cture supporting the ba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 caption underneath each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hree physiographic regions provide the greatest ECONOMIC contribution to the US and Can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them in ord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viding the most contribution, 2 providing the second bes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16:32Z</dcterms:created>
  <dc:creator>CFISD</dc:creator>
  <dc:description/>
  <dc:language>en-US</dc:language>
  <cp:lastModifiedBy>CFISD</cp:lastModifiedBy>
  <dcterms:modified xsi:type="dcterms:W3CDTF">2008-10-20T12:34:36Z</dcterms:modified>
  <cp:revision>3</cp:revision>
  <dc:subject/>
  <dc:title>Day 3 – Major Grade US</dc:title>
</cp:coreProperties>
</file>