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4B6-5170-4062-A476-937BD9A0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BDF-9F84-4A86-BD29-326B4F6B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85D-359D-4CB3-9B29-D8C0340C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57D-C2AE-4B91-B2E9-93B1E1F0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28D-03E9-445C-8938-B133F9AF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36B-73BF-4746-AD80-1336C8BF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CE2-A137-4BE4-96E0-75A3EBD6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DEC-E0E8-4ECC-961E-53F99C9E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EBF-C1A7-492A-9179-BCEDDC85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E00-ED58-491A-BEDD-35D5A3F8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F4B-2ED3-4A9F-BFAC-2FA0015A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00E-6D98-4D81-AA5C-BDACA705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1BD6-4652-48F3-8929-D84B20640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ime.com/time/covers/1101041004/photoessay/index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nationalgeographic.com/news/2006/12/061222-sudan-video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in Dar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rf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ibal confli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bers of different tribes with different cultures are fighting for control of the region and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llages have been burn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cide and terrorism are used to push people off of their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3059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8090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13994" t="19109" r="48336" b="7200"/>
          <a:stretch/>
        </p:blipFill>
        <p:spPr>
          <a:xfrm>
            <a:off x="0" y="861840"/>
            <a:ext cx="5854680" cy="5996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19920" y="1143000"/>
            <a:ext cx="2895480" cy="50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upported militia called the Janjaweed are terrorizing the villages of African farmers in Darfu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ab Herders (Musli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frican Farmers (Christ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hoto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view the photo essay consider how this conflict impacts the region economically, politically, and soci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G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– Record your answer to the questions on the video analysis as you watch the cli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485" t="5435" r="0" b="5435"/>
          <a:stretch/>
        </p:blipFill>
        <p:spPr>
          <a:xfrm>
            <a:off x="2787480" y="0"/>
            <a:ext cx="6356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7432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-u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ketch in your notebook a map of how you would draw the borders for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urn to p. 405 in the text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dentify countries where tribal conflict could occur based on the borders drawn by the Europe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524" t="53896" r="63172" b="5435"/>
          <a:stretch/>
        </p:blipFill>
        <p:spPr>
          <a:xfrm>
            <a:off x="12193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3313" t="10052" r="0" b="52971"/>
          <a:stretch/>
        </p:blipFill>
        <p:spPr>
          <a:xfrm>
            <a:off x="304920" y="-7920"/>
            <a:ext cx="8839080" cy="687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830680" y="0"/>
            <a:ext cx="6313320" cy="6858000"/>
            <a:chOff x="2830680" y="0"/>
            <a:chExt cx="631332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1485" t="5435" r="53146" b="53468"/>
            <a:stretch/>
          </p:blipFill>
          <p:spPr>
            <a:xfrm>
              <a:off x="2830680" y="0"/>
              <a:ext cx="6313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43800" y="0"/>
              <a:ext cx="137160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fri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ib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57200" y="304920"/>
            <a:ext cx="8381520" cy="6247800"/>
            <a:chOff x="457200" y="304920"/>
            <a:chExt cx="8381520" cy="62478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28236" t="33291" r="53146" b="53468"/>
            <a:stretch/>
          </p:blipFill>
          <p:spPr>
            <a:xfrm>
              <a:off x="457200" y="304920"/>
              <a:ext cx="8381520" cy="62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661800" y="5157360"/>
              <a:ext cx="195912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fri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ib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7513" t="46039" r="5905" b="5435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4552" t="22799" r="17104" b="52971"/>
          <a:stretch/>
        </p:blipFill>
        <p:spPr>
          <a:xfrm>
            <a:off x="0" y="0"/>
            <a:ext cx="67276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04920"/>
            <a:ext cx="2514600" cy="657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hat ethnic group are most of the Sudane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rue/False – The mixture of Arab and African tribes in Sudan could potentially lead to 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you could redraw Sudan’s borders how would you draw th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51669" t="19109" r="9149" b="6890"/>
          <a:stretch/>
        </p:blipFill>
        <p:spPr>
          <a:xfrm>
            <a:off x="0" y="0"/>
            <a:ext cx="723888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38880" y="0"/>
            <a:ext cx="19051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Sudan has different regions, like 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ne of them, called Darfur has been the site of a brutal ethnic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1:26:01Z</dcterms:created>
  <dc:creator>Braden</dc:creator>
  <dc:description/>
  <dc:language>en-US</dc:language>
  <cp:lastModifiedBy>CFISD</cp:lastModifiedBy>
  <dcterms:modified xsi:type="dcterms:W3CDTF">2009-05-15T12:16:10Z</dcterms:modified>
  <cp:revision>10</cp:revision>
  <dc:subject/>
  <dc:title>Sudan</dc:title>
</cp:coreProperties>
</file>