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8F0F-E2C7-470F-8C2A-35EEFA79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0B01-714A-449B-9B7F-7B50A879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2DD-10E9-429B-9754-2DB5B0CF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76A6-1F5A-4AFF-84F7-E42641D1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FAD5-C22D-4E1B-BD0F-D81CEA3F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F0E-64D4-4DC9-A891-9AAF205F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1F9C-59DC-41B2-BB10-51B54886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624-76DC-4693-8F17-72E4E676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D730-5D5E-4AEF-BC75-182F5131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2BBF-DDCB-4410-9C9F-464B5EC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E6D7-D230-48D1-BA86-A551808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FE7F-617B-4BAB-90CA-01C8E80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D709-A2F9-41DC-AB0C-8CD94951E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ime.com/time/covers/1101041004/photoessay/index.html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nationalgeographic.com/news/2006/12/061222-sudan-videos.html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in Darf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rf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ibal confli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s of different tribes with different cultures are fighting for control of the region and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llages have been burned and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ocide and terrorism are used to push people off of their l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143000"/>
            <a:ext cx="830592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0" b="8090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rcRect l="13994" t="19109" r="48336" b="7200"/>
          <a:stretch/>
        </p:blipFill>
        <p:spPr>
          <a:xfrm>
            <a:off x="0" y="861840"/>
            <a:ext cx="5854680" cy="5996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19920" y="1143000"/>
            <a:ext cx="2895480" cy="505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pported militia called the Janjaweed are terrorizing the villages of African farmers in Darfur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wo s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rab Herders (Muslim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frican Farmers (Christi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hoto Es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view the photo essay consider how this conflict impacts the region economically, politically, and social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G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– Record your answer to the questions on the video analysis as you watch the c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485" t="5435" r="0" b="5435"/>
          <a:stretch/>
        </p:blipFill>
        <p:spPr>
          <a:xfrm>
            <a:off x="2787480" y="0"/>
            <a:ext cx="63565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7432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-up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ketch in your notebook a map of how you would draw the borders for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urn to p. 405 in the text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dentify countries where tribal conflict could occur based on the borders drawn by the Europea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524" t="53896" r="63172" b="5435"/>
          <a:stretch/>
        </p:blipFill>
        <p:spPr>
          <a:xfrm>
            <a:off x="121932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43313" t="10052" r="0" b="52971"/>
          <a:stretch/>
        </p:blipFill>
        <p:spPr>
          <a:xfrm>
            <a:off x="304920" y="-7920"/>
            <a:ext cx="8839080" cy="687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830680" y="0"/>
            <a:ext cx="6313320" cy="6858000"/>
            <a:chOff x="2830680" y="0"/>
            <a:chExt cx="6313320" cy="6858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rcRect l="1485" t="5435" r="53146" b="53468"/>
            <a:stretch/>
          </p:blipFill>
          <p:spPr>
            <a:xfrm>
              <a:off x="2830680" y="0"/>
              <a:ext cx="6313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7543800" y="0"/>
              <a:ext cx="137160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457200" y="304920"/>
            <a:ext cx="8381520" cy="6247800"/>
            <a:chOff x="457200" y="304920"/>
            <a:chExt cx="8381520" cy="62478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rcRect l="28236" t="33291" r="53146" b="53468"/>
            <a:stretch/>
          </p:blipFill>
          <p:spPr>
            <a:xfrm>
              <a:off x="457200" y="304920"/>
              <a:ext cx="8381520" cy="62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6661800" y="5157360"/>
              <a:ext cx="195912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frica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rib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7513" t="46039" r="5905" b="5435"/>
          <a:stretch/>
        </p:blipFill>
        <p:spPr>
          <a:xfrm>
            <a:off x="2438280" y="0"/>
            <a:ext cx="67057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543800" y="0"/>
            <a:ext cx="1371600" cy="101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54552" t="22799" r="17104" b="52971"/>
          <a:stretch/>
        </p:blipFill>
        <p:spPr>
          <a:xfrm>
            <a:off x="0" y="0"/>
            <a:ext cx="67276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400800" y="304920"/>
            <a:ext cx="2514600" cy="657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What ethnic group are most of the Sudane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rue/False – The mixture of Arab and African tribes in Sudan could potentially lead to 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If you could redraw Sudan’s borders how would you draw th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51669" t="19109" r="9149" b="6890"/>
          <a:stretch/>
        </p:blipFill>
        <p:spPr>
          <a:xfrm>
            <a:off x="0" y="0"/>
            <a:ext cx="723888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38880" y="0"/>
            <a:ext cx="1905120" cy="62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Sudan has different regions, like st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 One of them, called Darfur has been the site of a brutal ethnic confl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01:26:01Z</dcterms:created>
  <dc:creator>Braden</dc:creator>
  <dc:description/>
  <dc:language>en-US</dc:language>
  <cp:lastModifiedBy>CFISD</cp:lastModifiedBy>
  <dcterms:modified xsi:type="dcterms:W3CDTF">2009-05-15T12:16:10Z</dcterms:modified>
  <cp:revision>10</cp:revision>
  <dc:subject/>
  <dc:title>Sudan</dc:title>
</cp:coreProperties>
</file>