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7C3-9B0E-4C2E-A411-49EBF0F9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B9A-8765-4E78-8906-D16832D9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E020-9201-4D2D-BA40-51B69E84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3D5-7EE0-4A84-8A8F-6F68B101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D93A-BC27-4928-96EE-583CFF2E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26D4-CDC5-49D9-9383-30136C47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BBDC-A8A0-41E7-8113-D6E04143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7C02-F32D-4CCD-85BA-2F6867C2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A7D-D008-4F01-A8EE-DCEE2D92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2104-E942-48F1-A84F-FBC6C743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AFB8-9109-4AE6-B0EA-5AD52C36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0F05-0E16-443A-A5ED-4D11C75D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85DB-E327-48E7-804B-975EAA4EA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ime.com/time/covers/1101041004/photoessay/index.html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nationalgeographic.com/news/2006/12/061222-sudan-videos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in Dar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rf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ibal confli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mbers of different tribes with different cultures are fighting for control of the region and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llages have been burn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cide and terrorism are used to push people off of their 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143000"/>
            <a:ext cx="830592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8090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13994" t="19109" r="48336" b="7200"/>
          <a:stretch/>
        </p:blipFill>
        <p:spPr>
          <a:xfrm>
            <a:off x="0" y="861840"/>
            <a:ext cx="5854680" cy="5996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19920" y="1143000"/>
            <a:ext cx="2895480" cy="505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supported militia called the Janjaweed are terrorizing the villages of African farmers in Darfur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wo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rab Herders (Muslim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frican Farmers (Christi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hoto E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view the photo essay consider how this conflict impacts the region economically, politically, and soci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G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 – Record your answer to the questions on the video analysis as you watch the cli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485" t="5435" r="0" b="5435"/>
          <a:stretch/>
        </p:blipFill>
        <p:spPr>
          <a:xfrm>
            <a:off x="2787480" y="0"/>
            <a:ext cx="6356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43800" y="0"/>
            <a:ext cx="13716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7432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-up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ketch in your notebook a map of how you would draw the borders for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urn to p. 405 in the textb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dentify countries where tribal conflict could occur based on the borders drawn by the Europea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2524" t="53896" r="63172" b="5435"/>
          <a:stretch/>
        </p:blipFill>
        <p:spPr>
          <a:xfrm>
            <a:off x="12193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43313" t="10052" r="0" b="52971"/>
          <a:stretch/>
        </p:blipFill>
        <p:spPr>
          <a:xfrm>
            <a:off x="304920" y="-7920"/>
            <a:ext cx="8839080" cy="6875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43800" y="0"/>
            <a:ext cx="13716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830680" y="0"/>
            <a:ext cx="6313320" cy="6858000"/>
            <a:chOff x="2830680" y="0"/>
            <a:chExt cx="6313320" cy="6858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rcRect l="1485" t="5435" r="53146" b="53468"/>
            <a:stretch/>
          </p:blipFill>
          <p:spPr>
            <a:xfrm>
              <a:off x="2830680" y="0"/>
              <a:ext cx="6313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43800" y="0"/>
              <a:ext cx="137160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frica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rib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457200" y="304920"/>
            <a:ext cx="8381520" cy="6247800"/>
            <a:chOff x="457200" y="304920"/>
            <a:chExt cx="8381520" cy="62478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rcRect l="28236" t="33291" r="53146" b="53468"/>
            <a:stretch/>
          </p:blipFill>
          <p:spPr>
            <a:xfrm>
              <a:off x="457200" y="304920"/>
              <a:ext cx="8381520" cy="62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661800" y="5157360"/>
              <a:ext cx="195912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frica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rib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7513" t="46039" r="5905" b="5435"/>
          <a:stretch/>
        </p:blipFill>
        <p:spPr>
          <a:xfrm>
            <a:off x="243828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43800" y="0"/>
            <a:ext cx="13716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54552" t="22799" r="17104" b="52971"/>
          <a:stretch/>
        </p:blipFill>
        <p:spPr>
          <a:xfrm>
            <a:off x="0" y="0"/>
            <a:ext cx="67276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00800" y="304920"/>
            <a:ext cx="2514600" cy="657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What ethnic group are most of the Sudane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rue/False – The mixture of Arab and African tribes in Sudan could potentially lead to confl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If you could redraw Sudan’s borders how would you draw th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51669" t="19109" r="9149" b="6890"/>
          <a:stretch/>
        </p:blipFill>
        <p:spPr>
          <a:xfrm>
            <a:off x="0" y="0"/>
            <a:ext cx="7238880" cy="6854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38880" y="0"/>
            <a:ext cx="190512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Sudan has different regions, like st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One of them, called Darfur has been the site of a brutal ethnic confli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01:26:01Z</dcterms:created>
  <dc:creator>Braden</dc:creator>
  <dc:description/>
  <dc:language>en-US</dc:language>
  <cp:lastModifiedBy>CFISD</cp:lastModifiedBy>
  <dcterms:modified xsi:type="dcterms:W3CDTF">2009-05-15T12:16:10Z</dcterms:modified>
  <cp:revision>10</cp:revision>
  <dc:subject/>
  <dc:title>Sudan</dc:title>
</cp:coreProperties>
</file>