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A216-EE1F-4A4E-82D2-D8C71FC71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F5B8-954A-4C1A-9E6A-749A5474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8192-7050-4685-B4C9-A806EA5F2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6C45-BE87-4E68-9A0C-7BD74BE3D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A4EF-C241-4495-9C5F-E037AE5A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181A-DED6-4D6C-B480-B34C7137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7FEA-BCC6-4992-BAE6-596C0811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AB06-AF1B-4ADA-ADA8-1B66A000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3CB4-FDBA-41F1-BE5A-EDE10533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6847-3EC0-47B6-8B16-0EC01EF0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E995-CF1B-47F5-B94F-E9622B42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C8FA-DDAE-489A-A632-6375EFE9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7B1B-53E3-41D5-9279-C7CB02E5A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time.com/time/covers/1101041004/photoessay/index.html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news.nationalgeographic.com/news/2006/12/061222-sudan-videos.html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d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lict in Darf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rf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ibal confli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mbers of different tribes with different cultures are fighting for control of the region and the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llages have been burned and destr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ocide and terrorism are used to push people off of their l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143000"/>
            <a:ext cx="8305920" cy="1752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80901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rcRect l="13994" t="19109" r="48336" b="7200"/>
          <a:stretch/>
        </p:blipFill>
        <p:spPr>
          <a:xfrm>
            <a:off x="0" y="861840"/>
            <a:ext cx="5854680" cy="5996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19920" y="1143000"/>
            <a:ext cx="2895480" cy="505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supported militia called the Janjaweed are terrorizing the villages of African farmers in Darfur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wo s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rab Herders (Muslim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frican Farmers (Christi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hoto Ess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you view the photo essay consider how this conflict impacts the region economically, politically, and social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G Cl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 – Record your answer to the questions on the video analysis as you watch the clip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1485" t="5435" r="0" b="5435"/>
          <a:stretch/>
        </p:blipFill>
        <p:spPr>
          <a:xfrm>
            <a:off x="2787480" y="0"/>
            <a:ext cx="63565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543800" y="0"/>
            <a:ext cx="137160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2743200" cy="57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m-up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ketch in your notebook a map of how you would draw the borders for Af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urn to p. 405 in the textboo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Identify countries where tribal conflict could occur based on the borders drawn by the Europea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2524" t="53896" r="63172" b="5435"/>
          <a:stretch/>
        </p:blipFill>
        <p:spPr>
          <a:xfrm>
            <a:off x="121932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43313" t="10052" r="0" b="52971"/>
          <a:stretch/>
        </p:blipFill>
        <p:spPr>
          <a:xfrm>
            <a:off x="304920" y="-7920"/>
            <a:ext cx="8839080" cy="6875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543800" y="0"/>
            <a:ext cx="137160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2830680" y="0"/>
            <a:ext cx="6313320" cy="6858000"/>
            <a:chOff x="2830680" y="0"/>
            <a:chExt cx="6313320" cy="6858000"/>
          </a:xfrm>
        </p:grpSpPr>
        <p:pic>
          <p:nvPicPr>
            <p:cNvPr id="50" name="" descr=""/>
            <p:cNvPicPr/>
            <p:nvPr/>
          </p:nvPicPr>
          <p:blipFill>
            <a:blip r:embed="rId1"/>
            <a:srcRect l="1485" t="5435" r="53146" b="53468"/>
            <a:stretch/>
          </p:blipFill>
          <p:spPr>
            <a:xfrm>
              <a:off x="2830680" y="0"/>
              <a:ext cx="6313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543800" y="0"/>
              <a:ext cx="1371600" cy="101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frica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rib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457200" y="304920"/>
            <a:ext cx="8381520" cy="6247800"/>
            <a:chOff x="457200" y="304920"/>
            <a:chExt cx="8381520" cy="6247800"/>
          </a:xfrm>
        </p:grpSpPr>
        <p:pic>
          <p:nvPicPr>
            <p:cNvPr id="53" name="" descr=""/>
            <p:cNvPicPr/>
            <p:nvPr/>
          </p:nvPicPr>
          <p:blipFill>
            <a:blip r:embed="rId1"/>
            <a:srcRect l="28236" t="33291" r="53146" b="53468"/>
            <a:stretch/>
          </p:blipFill>
          <p:spPr>
            <a:xfrm>
              <a:off x="457200" y="304920"/>
              <a:ext cx="8381520" cy="62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6661800" y="5157360"/>
              <a:ext cx="1959120" cy="101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frica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rib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37513" t="46039" r="5905" b="5435"/>
          <a:stretch/>
        </p:blipFill>
        <p:spPr>
          <a:xfrm>
            <a:off x="2438280" y="0"/>
            <a:ext cx="67057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43800" y="0"/>
            <a:ext cx="137160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54552" t="22799" r="17104" b="52971"/>
          <a:stretch/>
        </p:blipFill>
        <p:spPr>
          <a:xfrm>
            <a:off x="0" y="0"/>
            <a:ext cx="67276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400800" y="304920"/>
            <a:ext cx="2514600" cy="657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D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What ethnic group are most of the Sudanes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rue/False – The mixture of Arab and African tribes in Sudan could potentially lead to confli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If you could redraw Sudan’s borders how would you draw the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51669" t="19109" r="9149" b="6890"/>
          <a:stretch/>
        </p:blipFill>
        <p:spPr>
          <a:xfrm>
            <a:off x="0" y="0"/>
            <a:ext cx="7238880" cy="6854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238880" y="0"/>
            <a:ext cx="1905120" cy="62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Sudan has different regions, like sta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 One of them, called Darfur has been the site of a brutal ethnic confli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01:26:01Z</dcterms:created>
  <dc:creator>Braden</dc:creator>
  <dc:description/>
  <dc:language>en-US</dc:language>
  <cp:lastModifiedBy>CFISD</cp:lastModifiedBy>
  <dcterms:modified xsi:type="dcterms:W3CDTF">2009-05-15T12:16:10Z</dcterms:modified>
  <cp:revision>10</cp:revision>
  <dc:subject/>
  <dc:title>Sudan</dc:title>
</cp:coreProperties>
</file>