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334-7F4F-4194-92EF-5E4BE03E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D35-9E6D-41A1-83CA-A867A1BD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D80F-435B-401A-B9CF-CBB2FCDF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6B0-44C6-4D47-BAAB-794C6383B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1E2-32A8-4127-8175-5C9D7ED8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417-8B2A-4568-94AC-4758ACB2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E95-AB47-4C3E-9D73-B6FBD48DA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321-6FB6-4587-BB5D-4347F4A1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750-B86C-44C4-BD85-7937548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5E72-46B2-47BC-8209-CE17B352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4CE-72A0-4DE2-BFDC-2C93AEA7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7D7-1390-45FD-A5FF-95632F5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9164-93B2-45FF-AE9B-BFB51034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aid.gov/locations/sub-saharan_africa/sudan/images/destruction_in_darfur/photo14.html" TargetMode="External"/><Relationship Id="rId2" Type="http://schemas.openxmlformats.org/officeDocument/2006/relationships/hyperlink" Target="http://www.nytimes.com/slideshow/2008/04/13/world/20080413CHAD_index.html" TargetMode="External"/><Relationship Id="rId3" Type="http://schemas.openxmlformats.org/officeDocument/2006/relationships/hyperlink" Target="http://www.alertnet.org/thenews/photoalbum/1237308953.htm" TargetMode="External"/><Relationship Id="rId4" Type="http://schemas.openxmlformats.org/officeDocument/2006/relationships/hyperlink" Target="http://news.bbc.co.uk/2/hi/in_pictures/3714877.stm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2008/12/21/opinion/21albright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 – Conflict Int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the link below to view the Timeline.  Use it to answer the questions below and gain knowledge of the events of the conflict in Sudan.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lick Chapter II – Historical Contex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What are the problems in Western Darfur where the conflict started in 2003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ow does this contribute to economic problems in the regio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second bullet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How did the government respond to the uprising in Western Darfur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lick on the first bullet in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What is providing funding for the conflict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 II – Why no one has interven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 the clip on the website below to answer the following ques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: http://www.cfr.org/publication/13129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lick Chapter V – The Untested Doctr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y aren’t countries taking action to end the tribal conflict in Darf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What is required to make the International community take ac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How is this conflict similar to the conflict in the Balk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II – Darfur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file on my wiki titled “Be a Voice for Darfur Proje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and complete the assignm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s are provided in this power point on the following sli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id.gov/locations/sub-saharan_africa/sudan/images/destruction_in_darfur/photo14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ytimes.com/slideshow/2008/04/13/world/20080413CHAD_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lertnet.org/thenews/photoalbum/1237308953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news.bbc.co.uk/2/hi/in_pictures/3714877.s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rfur Arti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ytimes.com/2008/12/21/opinion/21albright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ytimes.com/2009/03/08/opinion/08kristof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cnn.com/2009/WORLD/africa/03/04/darfur.rape/index.html?iref=newssearch#cnnSTC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locate your own articles but make sure they are from a reputable source: newspapers, TV or other new sources, or college websi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23:47:54Z</dcterms:created>
  <dc:creator>Braden</dc:creator>
  <dc:description/>
  <dc:language>en-US</dc:language>
  <cp:lastModifiedBy>Braden</cp:lastModifiedBy>
  <dcterms:modified xsi:type="dcterms:W3CDTF">2009-05-18T01:07:07Z</dcterms:modified>
  <cp:revision>5</cp:revision>
  <dc:subject/>
  <dc:title>Darfur Day 2</dc:title>
</cp:coreProperties>
</file>