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DE77-7ED1-4B58-A351-1E52E93B2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1EE0-8ADD-4277-BF47-427306475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050B-A4F0-4A2C-8972-07AE9705B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9AEC-DE76-4FBF-A049-0BF972C25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34F9-7A5F-4C1C-8FD0-42EDC8F4B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0D1A-0106-4A8B-923A-6962B512C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CB62-C2E3-42BD-A612-3BDF4502F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9779-56D3-4FB8-9E7B-104F4D798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DEFB-F567-4043-972F-1D2020134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826C-C062-49AE-83B3-B27657ECE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E0DB-9A31-4E53-BB5E-B6275C717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3107-C8FA-4E94-8E29-C5DA4C6B5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AE4C5-BA82-4ACF-B20E-30D80BA0FA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usaid.gov/locations/sub-saharan_africa/sudan/images/destruction_in_darfur/photo14.html" TargetMode="External"/><Relationship Id="rId2" Type="http://schemas.openxmlformats.org/officeDocument/2006/relationships/hyperlink" Target="http://www.nytimes.com/slideshow/2008/04/13/world/20080413CHAD_index.html" TargetMode="External"/><Relationship Id="rId3" Type="http://schemas.openxmlformats.org/officeDocument/2006/relationships/hyperlink" Target="http://www.alertnet.org/thenews/photoalbum/1237308953.htm" TargetMode="External"/><Relationship Id="rId4" Type="http://schemas.openxmlformats.org/officeDocument/2006/relationships/hyperlink" Target="http://news.bbc.co.uk/2/hi/in_pictures/3714877.stm" TargetMode="External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nytimes.com/2008/12/21/opinion/21albright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rfur Day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I – Conflict Int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on the link below to view the Timeline.  Use it to answer the questions below and gain knowledge of the events of the conflict in Sudan.</a:t>
            </a: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: http://www.cfr.org/publication/13129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Click Chapter II – Historical Contex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lick on the first bullet in 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What are the problems in Western Darfur where the conflict started in 2003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How does this contribute to economic problems in the region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lick on the second bullet in 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How did the government respond to the uprising in Western Darfur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lick on the first bullet in 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What is providing funding for the conflict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II – Why no one has interven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ew the clip on the website below to answer the following ques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: http://www.cfr.org/publication/13129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lick Chapter V – The Untested Doctri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Why aren’t countries taking action to end the tribal conflict in Darfu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What is required to make the International community take actio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How is this conflict similar to the conflict in the Balka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 III – Darfur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on the file on my wiki titled “Be a Voice for Darfur Projec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irections and complete the assignm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urces are provided in this power point on the following slid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rfur Pho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usaid.gov/locations/sub-saharan_africa/sudan/images/destruction_in_darfur/photo14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nytimes.com/slideshow/2008/04/13/world/20080413CHAD_index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alertnet.org/thenews/photoalbum/1237308953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news.bbc.co.uk/2/hi/in_pictures/3714877.s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rfur Arti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nytimes.com/2008/12/21/opinion/21albright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ytimes.com/2009/03/08/opinion/08kristof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cnn.com/2009/WORLD/africa/03/04/darfur.rape/index.html?iref=newssearch#cnnSTC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may locate your own articles but make sure they are from a reputable source: newspapers, TV or other new sources, or college websit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7T23:47:54Z</dcterms:created>
  <dc:creator>Braden</dc:creator>
  <dc:description/>
  <dc:language>en-US</dc:language>
  <cp:lastModifiedBy>Braden</cp:lastModifiedBy>
  <dcterms:modified xsi:type="dcterms:W3CDTF">2009-05-18T01:07:07Z</dcterms:modified>
  <cp:revision>5</cp:revision>
  <dc:subject/>
  <dc:title>Darfur Day 2</dc:title>
</cp:coreProperties>
</file>