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F7B-3166-4EF5-ABC0-09C6F363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2FA8-C7F7-41CE-B980-A745C5B4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2B6-BFFE-4561-9CBF-268FFFF6D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C3A-FBFD-4F6D-B9C9-58A1DCCD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4F6F-BE5B-447D-81A3-621A01B7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B9D-AA90-48D5-818B-0B51B673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6559-AE4E-401C-8FE0-13BE9207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D11E-6F83-44D3-9736-44393BA17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8B0-38DE-4FCC-A827-CF984A529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AE9-C32E-47CE-AD51-2D659195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517E-E6E1-4223-BC7B-A47D49B8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C634-D6E8-473E-9F4B-B2627ED2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220B-83B2-42AB-9C45-2200715F1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said.gov/locations/sub-saharan_africa/sudan/images/destruction_in_darfur/photo14.html" TargetMode="External"/><Relationship Id="rId2" Type="http://schemas.openxmlformats.org/officeDocument/2006/relationships/hyperlink" Target="http://www.nytimes.com/slideshow/2008/04/13/world/20080413CHAD_index.html" TargetMode="External"/><Relationship Id="rId3" Type="http://schemas.openxmlformats.org/officeDocument/2006/relationships/hyperlink" Target="http://www.alertnet.org/thenews/photoalbum/1237308953.htm" TargetMode="External"/><Relationship Id="rId4" Type="http://schemas.openxmlformats.org/officeDocument/2006/relationships/hyperlink" Target="http://news.bbc.co.uk/2/hi/in_pictures/3714877.stm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ytimes.com/2008/12/21/opinion/21albright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fur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 – Conflict 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he link below to view the Timeline.  Use it to answer the questions below and gain knowledge of the events of the conflict in Sudan.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: http://www.cfr.org/publication/13129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lick Chapter II – Historical Cont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ck on the first bullet in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What are the problems in Western Darfur where the conflict started in 2003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ow does this contribute to economic problems in the regio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ck on the second bullet in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How did the government respond to the uprising in Western Darfur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ck on the first bullet in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What is providing funding for the conflic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 – Why no one has interven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the clip on the website below to answer the following ques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: http://www.cfr.org/publication/13129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lick Chapter V – The Untested Doctr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y aren’t countries taking action to end the tribal conflict in Darf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What is required to make the International community take a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How is this conflict similar to the conflict in the Balk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III – Darfu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file on my wiki titled “Be a Voice for Darfur Proje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irections and complete the assig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are provided in this power point on the following sl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fur Pho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said.gov/locations/sub-saharan_africa/sudan/images/destruction_in_darfur/photo14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ytimes.com/slideshow/2008/04/13/world/20080413CHAD_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lertnet.org/thenews/photoalbum/1237308953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ews.bbc.co.uk/2/hi/in_pictures/3714877.s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fur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ytimes.com/2008/12/21/opinion/21albrigh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ytimes.com/2009/03/08/opinion/08kristof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nn.com/2009/WORLD/africa/03/04/darfur.rape/index.html?iref=newssearch#cnnSTC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locate your own articles but make sure they are from a reputable source: newspapers, TV or other new sources, or college websi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23:47:54Z</dcterms:created>
  <dc:creator>Braden</dc:creator>
  <dc:description/>
  <dc:language>en-US</dc:language>
  <cp:lastModifiedBy>Braden</cp:lastModifiedBy>
  <dcterms:modified xsi:type="dcterms:W3CDTF">2009-05-18T01:07:07Z</dcterms:modified>
  <cp:revision>5</cp:revision>
  <dc:subject/>
  <dc:title>Darfur Day 2</dc:title>
</cp:coreProperties>
</file>