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AB1-6A54-40D3-9C7F-2889B60D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E6A-C64D-4564-B4B8-BC5FF498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4D2-D710-41A1-8697-33E2A6B5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76B-E680-4B3B-924E-B80C34F2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D3C-B2ED-4ED7-B44F-58CB8527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4C6-AEF0-41CE-BB31-EF24BA6A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B88-29BD-4A89-A3F9-1DDB4E7A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D97-92C2-4A7D-882D-020F91BD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227-AE1E-4CE4-969A-0B7A6507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5FA-09B9-4BC4-855E-727D1B25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86F-A646-4044-9DAF-E0CFD522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EF7-FF73-4078-85AD-405E784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D2F-CE4B-4B24-BF41-16E79E446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aid.gov/locations/sub-saharan_africa/sudan/images/destruction_in_darfur/photo14.html" TargetMode="External"/><Relationship Id="rId2" Type="http://schemas.openxmlformats.org/officeDocument/2006/relationships/hyperlink" Target="http://www.nytimes.com/slideshow/2008/04/13/world/20080413CHAD_index.html" TargetMode="External"/><Relationship Id="rId3" Type="http://schemas.openxmlformats.org/officeDocument/2006/relationships/hyperlink" Target="http://www.alertnet.org/thenews/photoalbum/1237308953.htm" TargetMode="External"/><Relationship Id="rId4" Type="http://schemas.openxmlformats.org/officeDocument/2006/relationships/hyperlink" Target="http://news.bbc.co.uk/2/hi/in_pictures/3714877.s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ytimes.com/2008/12/21/opinion/21albright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 – Confli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he link below to view the Timeline.  Use it to answer the questions below and gain knowledge of the events of the conflict in Sudan.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lick Chapter II – Historical Con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What are the problems in Western Darfur where the conflict started in 2003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ow does this contribute to economic problems in the reg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second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How did the government respond to the uprising in Western Darfu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hat is providing funding for the conflic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 – Why no one has interven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the clip on the website below to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lick Chapter V – The Untested Doct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y aren’t countries taking action to end the tribal conflict in Darf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is required to make the International community take a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w is this conflict similar to the conflict in the Balk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– Darfu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file on my wiki titled “Be a Voice for Darfur Proj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and complete the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re provided in this power point on the following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id.gov/locations/sub-saharan_africa/sudan/images/destruction_in_darfur/photo1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slideshow/2008/04/13/world/20080413CHAD_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lertnet.org/thenews/photoalbum/1237308953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in_pictures/3714877.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ytimes.com/2008/12/21/opinion/21albrigh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ytimes.com/2009/03/08/opinion/08kristo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nn.com/2009/WORLD/africa/03/04/darfur.rape/index.html?iref=newssearch#cnnSTC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locate your own articles but make sure they are from a reputable source: newspapers, TV or other new sources, or college websi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47:54Z</dcterms:created>
  <dc:creator>Braden</dc:creator>
  <dc:description/>
  <dc:language>en-US</dc:language>
  <cp:lastModifiedBy>Braden</cp:lastModifiedBy>
  <dcterms:modified xsi:type="dcterms:W3CDTF">2009-05-18T01:07:07Z</dcterms:modified>
  <cp:revision>5</cp:revision>
  <dc:subject/>
  <dc:title>Darfur Day 2</dc:title>
</cp:coreProperties>
</file>