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574D-9770-459F-9F48-76EA13EE9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5951-F6F5-422F-9DD1-8F89B6B7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BC0F-8485-4B80-83A8-F96149806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8FE8-5E31-4F1D-801D-6860E4977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5166-4AF6-42A0-856E-D03CC5A5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ACA4-7DA6-48B4-B3BF-F278140C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8D83-5F45-4846-BF95-ED5FEAC8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DD46-272D-40EF-BC4A-48DE9D8B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A2E9-7C34-445C-8B4A-FCAEC891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BB29-7684-4807-AFD8-25428E3A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6A05-5EED-451F-B319-49BE0A67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F11B-0F2F-4133-894C-8CBA0738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BF93-7D28-4AAD-A533-43E6F04AD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ime.com/time/covers/1101041004/photoessay/index.html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news.nationalgeographic.com/news/2006/12/061222-sudan-videos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d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lict in Darf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rf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ibal confli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mbers of different tribes with different cultures are fighting for control of the region and the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llages have been burned and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cide and terrorism are used to push people off of their l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143000"/>
            <a:ext cx="8305920" cy="175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80901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13994" t="19109" r="48336" b="7200"/>
          <a:stretch/>
        </p:blipFill>
        <p:spPr>
          <a:xfrm>
            <a:off x="0" y="861840"/>
            <a:ext cx="5854680" cy="5996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19920" y="1143000"/>
            <a:ext cx="2895480" cy="505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supported militia called the Janjaweed are terrorizing the villages of African farmers in Darfur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wo 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rab Herders (Muslim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frican Farmers (Christi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hoto Ess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view the photo essay consider how this conflict impacts the region economically, politically, and social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G Cl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 – Record your answer to the questions on the video analysis as you watch the clip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1485" t="5435" r="0" b="5435"/>
          <a:stretch/>
        </p:blipFill>
        <p:spPr>
          <a:xfrm>
            <a:off x="2787480" y="0"/>
            <a:ext cx="63565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543800" y="0"/>
            <a:ext cx="13716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274320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m-up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ketch in your notebook a map of how you would draw the borders for Af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urn to p. 405 in the textboo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Identify countries where tribal conflict could occur based on the borders drawn by the Europea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2524" t="53896" r="63172" b="5435"/>
          <a:stretch/>
        </p:blipFill>
        <p:spPr>
          <a:xfrm>
            <a:off x="121932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43313" t="10052" r="0" b="52971"/>
          <a:stretch/>
        </p:blipFill>
        <p:spPr>
          <a:xfrm>
            <a:off x="304920" y="-7920"/>
            <a:ext cx="8839080" cy="6875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543800" y="0"/>
            <a:ext cx="13716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2830680" y="0"/>
            <a:ext cx="6313320" cy="6858000"/>
            <a:chOff x="2830680" y="0"/>
            <a:chExt cx="6313320" cy="6858000"/>
          </a:xfrm>
        </p:grpSpPr>
        <p:pic>
          <p:nvPicPr>
            <p:cNvPr id="50" name="" descr=""/>
            <p:cNvPicPr/>
            <p:nvPr/>
          </p:nvPicPr>
          <p:blipFill>
            <a:blip r:embed="rId1"/>
            <a:srcRect l="1485" t="5435" r="53146" b="53468"/>
            <a:stretch/>
          </p:blipFill>
          <p:spPr>
            <a:xfrm>
              <a:off x="2830680" y="0"/>
              <a:ext cx="6313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43800" y="0"/>
              <a:ext cx="1371600" cy="101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frica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rib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457200" y="304920"/>
            <a:ext cx="8381520" cy="6247800"/>
            <a:chOff x="457200" y="304920"/>
            <a:chExt cx="8381520" cy="6247800"/>
          </a:xfrm>
        </p:grpSpPr>
        <p:pic>
          <p:nvPicPr>
            <p:cNvPr id="53" name="" descr=""/>
            <p:cNvPicPr/>
            <p:nvPr/>
          </p:nvPicPr>
          <p:blipFill>
            <a:blip r:embed="rId1"/>
            <a:srcRect l="28236" t="33291" r="53146" b="53468"/>
            <a:stretch/>
          </p:blipFill>
          <p:spPr>
            <a:xfrm>
              <a:off x="457200" y="304920"/>
              <a:ext cx="8381520" cy="62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661800" y="5157360"/>
              <a:ext cx="1959120" cy="101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frica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rib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37513" t="46039" r="5905" b="5435"/>
          <a:stretch/>
        </p:blipFill>
        <p:spPr>
          <a:xfrm>
            <a:off x="2438280" y="0"/>
            <a:ext cx="67057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43800" y="0"/>
            <a:ext cx="13716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54552" t="22799" r="17104" b="52971"/>
          <a:stretch/>
        </p:blipFill>
        <p:spPr>
          <a:xfrm>
            <a:off x="0" y="0"/>
            <a:ext cx="67276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400800" y="304920"/>
            <a:ext cx="2514600" cy="657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D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What ethnic group are most of the Sudanes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rue/False – The mixture of Arab and African tribes in Sudan could potentially lead to confli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If you could redraw Sudan’s borders how would you draw the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51669" t="19109" r="9149" b="6890"/>
          <a:stretch/>
        </p:blipFill>
        <p:spPr>
          <a:xfrm>
            <a:off x="0" y="0"/>
            <a:ext cx="7238880" cy="6854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238880" y="0"/>
            <a:ext cx="1905120" cy="62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Sudan has different regions, like sta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One of them, called Darfur has been the site of a brutal ethnic confli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01:26:01Z</dcterms:created>
  <dc:creator>Braden</dc:creator>
  <dc:description/>
  <dc:language>en-US</dc:language>
  <cp:lastModifiedBy>CFISD</cp:lastModifiedBy>
  <dcterms:modified xsi:type="dcterms:W3CDTF">2009-05-15T12:16:10Z</dcterms:modified>
  <cp:revision>10</cp:revision>
  <dc:subject/>
  <dc:title>Sudan</dc:title>
</cp:coreProperties>
</file>