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843-4E18-41EF-8F15-637D2AE8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3E4-5FF0-45AE-8625-1EC30937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104-7FAF-4D3F-868D-FE733B20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7F3-510E-45FB-B179-775CF262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368-5214-410A-B779-92B70084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4EC-86C3-4294-B964-A148878B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700-9E25-442F-BB2C-93C1F2E8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28F-BC75-4344-83C6-E9BC77D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070-1391-4E90-A4A2-2838FC0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913-D204-4290-B3C6-0E3DBF6B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7A4-A470-4FC2-BB3E-E8E41F8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9A8-F5B8-4BD7-9721-4F39E206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05C-4B23-4348-8D11-33A9C4570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aid.gov/locations/sub-saharan_africa/sudan/images/destruction_in_darfur/photo14.html" TargetMode="External"/><Relationship Id="rId2" Type="http://schemas.openxmlformats.org/officeDocument/2006/relationships/hyperlink" Target="http://www.nytimes.com/slideshow/2008/04/13/world/20080413CHAD_index.html" TargetMode="External"/><Relationship Id="rId3" Type="http://schemas.openxmlformats.org/officeDocument/2006/relationships/hyperlink" Target="http://www.alertnet.org/thenews/photoalbum/1237308953.htm" TargetMode="External"/><Relationship Id="rId4" Type="http://schemas.openxmlformats.org/officeDocument/2006/relationships/hyperlink" Target="http://news.bbc.co.uk/2/hi/in_pictures/3714877.s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2008/12/21/opinion/21albrigh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 – Confli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link below to view the Timeline.  Use it to answer the questions below and gain knowledge of the events of the conflict in Sudan.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lick Chapter II – Historical Con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What are the problems in Western Darfur where the conflict started in 2003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ow does this contribute to economic problems in the reg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second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How did the government respond to the uprising in Western Darfu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hat is providing funding for the conflic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 – Why no one has interven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clip on the website below to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lick Chapter V – The Untested Doct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y aren’t countries taking action to end the tribal conflict in Darf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is required to make the International community take a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is this conflict similar to the conflict in the Balk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arfu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file on my wiki titled “Be a Voice for Darf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and complete the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re provided in this power point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id.gov/locations/sub-saharan_africa/sudan/images/destruction_in_darfur/photo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slideshow/2008/04/13/world/20080413CHAD_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ertnet.org/thenews/photoalbum/123730895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in_pictures/3714877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ytimes.com/2008/12/21/opinion/21albrigh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ytimes.com/2009/03/08/opinion/08kristo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nn.com/2009/WORLD/africa/03/04/darfur.rape/index.html?iref=newssearch#cnnSTC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locate your own articles but make sure they are from a reputable source: newspapers, TV or other new sources, or college webs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47:54Z</dcterms:created>
  <dc:creator>Braden</dc:creator>
  <dc:description/>
  <dc:language>en-US</dc:language>
  <cp:lastModifiedBy>Braden</cp:lastModifiedBy>
  <dcterms:modified xsi:type="dcterms:W3CDTF">2009-05-18T01:07:07Z</dcterms:modified>
  <cp:revision>5</cp:revision>
  <dc:subject/>
  <dc:title>Darfur Day 2</dc:title>
</cp:coreProperties>
</file>