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697-16BA-4621-AF06-74E985B2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5BC-5A75-42DE-BCFE-620CD3C9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F0E-3C51-438E-8A18-6A222620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3A5D-6A25-4A64-AD10-104045F6E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005-BF72-4585-956C-96DABE46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8A0-E8C2-480D-A998-44707B0A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72C-0D7F-45FA-B4E7-136538B4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BF0F-D822-43AB-8898-1791B3E3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89B-E210-4D87-B8CC-BC4DD1F4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1D30-9C3E-480F-8F4A-3095C463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29B-B231-400B-9D82-D90A0298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BDE-4109-4A36-8684-9C658B92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114F-50B4-4AFA-BE16-B0277F826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a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Away Boxes provide detailed explanations about physical features on a ma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book to p. 120 and look at the examples for the Mississippi Riv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in the very back of your notebook, resources section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must be in a complet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cover another physical feature that is gra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have an arrow that points directly to the physical feature in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at is the economic importance of the Canadian Shiel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13085" t="6048" r="12151" b="7972"/>
          <a:stretch/>
        </p:blipFill>
        <p:spPr>
          <a:xfrm>
            <a:off x="-152280" y="0"/>
            <a:ext cx="7086600" cy="6486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43600" y="228600"/>
            <a:ext cx="2895480" cy="1465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nadian shield is important economically because it is a major source of minerals and other natural resource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019920" y="17524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: Why is the Mississippi River so important economicall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swer this question as a cut-away box to your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2:02:23Z</dcterms:created>
  <dc:creator>CFISD</dc:creator>
  <dc:description/>
  <dc:language>en-US</dc:language>
  <cp:lastModifiedBy>CFISD</cp:lastModifiedBy>
  <dcterms:modified xsi:type="dcterms:W3CDTF">2008-10-21T15:40:01Z</dcterms:modified>
  <cp:revision>5</cp:revision>
  <dc:subject/>
  <dc:title>Cut-Away Boxes</dc:title>
</cp:coreProperties>
</file>