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E706-E176-425F-9F0B-5DD762FC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F034-EA1C-4602-89BF-31762D8A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2EB9-9A11-4967-AA93-60971F40F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B125-EB8B-477B-914B-ADC9C6F9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C399-35A4-4791-B20F-129CAB74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8C49-CF2D-4CA5-9EFE-83901789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9476-1119-47AA-8433-B717C1EC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87FE-A44F-4D6F-ACCC-1C3087B5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25C1-FA15-461C-8354-46A6DBA1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03FF-6CE1-4AF8-98FE-F73ECA5E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3DDC-63E6-4077-8612-F40757EA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8A52-84E0-43A0-8D9C-F3191B25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F25B-C47B-433C-A172-902618495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t-Away Bo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-Away Boxes provide detailed explanations about physical features on a ma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 book to p. 120 and look at the examples for the Mississippi Riv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t-Away Box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in the very back of your notebook, resources section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must be in a complete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not cover another physical feature that is gra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have an arrow that points directly to the physical feature in the ques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What is the economic importance of the Canadian Shiel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rcRect l="13085" t="6048" r="12151" b="7972"/>
          <a:stretch/>
        </p:blipFill>
        <p:spPr>
          <a:xfrm>
            <a:off x="-152280" y="0"/>
            <a:ext cx="7086600" cy="6486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43600" y="228600"/>
            <a:ext cx="2895480" cy="1465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nadian shield is important economically because it is a major source of minerals and other natural resourc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019920" y="17524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Why is the Mississippi River so important economicall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swer this question as a cut-away box to your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2:02:23Z</dcterms:created>
  <dc:creator>CFISD</dc:creator>
  <dc:description/>
  <dc:language>en-US</dc:language>
  <cp:lastModifiedBy>CFISD</cp:lastModifiedBy>
  <dcterms:modified xsi:type="dcterms:W3CDTF">2008-10-21T15:40:01Z</dcterms:modified>
  <cp:revision>5</cp:revision>
  <dc:subject/>
  <dc:title>Cut-Away Boxes</dc:title>
</cp:coreProperties>
</file>