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95A-5D75-4984-998E-8FF2EE2D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39B-01B6-45E1-BC14-B75059FB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4BD-0844-439B-8DFC-10CE0E21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E38-8B94-464C-9EA0-EF4EC3D4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0AB-EC02-4F34-AA3F-8EBBBD14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3CD-27F8-4416-9590-50362650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0B4-7845-4288-B26B-CA7154AB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EC2-9AAC-4BEB-90E6-0D843941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F91-82FA-48B7-8831-F5E056D6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99B-582F-488B-853C-B99E459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74E-F21F-4F02-9D24-F571C7AA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7DA-FA6F-461E-BC4F-0A3CB5D9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4785-1D33-409D-87F0-EAEF0BF3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es provide detailed explanations about physical features on a m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book to p. 120 and look at the examples for the Mississippi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is the economic importance of the Canadian Shie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3085" t="6048" r="12151" b="7972"/>
          <a:stretch/>
        </p:blipFill>
        <p:spPr>
          <a:xfrm>
            <a:off x="-152280" y="0"/>
            <a:ext cx="7086600" cy="648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228600"/>
            <a:ext cx="289548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nadian shield is important economically because it is a major source of minerals and other natural resour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9920" y="17524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y is the Mississippi River so important economical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 this question as a cut-away box to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2:02:23Z</dcterms:created>
  <dc:creator>CFISD</dc:creator>
  <dc:description/>
  <dc:language>en-US</dc:language>
  <cp:lastModifiedBy>CFISD</cp:lastModifiedBy>
  <dcterms:modified xsi:type="dcterms:W3CDTF">2008-10-21T15:40:01Z</dcterms:modified>
  <cp:revision>5</cp:revision>
  <dc:subject/>
  <dc:title>Cut-Away Boxes</dc:title>
</cp:coreProperties>
</file>