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AB17A-BDFE-449D-9E14-C455AFACE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5D612-AD38-406B-A49D-882EB0E99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F911F-6CCE-405E-AC9D-FCA6165E4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CCDEB-A20A-4460-A518-1BB4E5F71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A8B31-744E-439A-9F52-881B87526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A6150-004E-44C9-A69E-D42E98B59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950BB-328C-47B0-8329-D4B9FAEE0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F7353-010F-4287-89D9-A34FAB86C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E927B-4DD3-48B3-9892-B612396F2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AEE48-8A08-4B7B-B3DC-629A1D173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DB445-DE09-44B4-A484-F746E633D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5C054-B063-44B5-BCAB-2542C20B1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78621-82E5-42DC-9D5B-2CC464562E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ut-Away Box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lan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-Away Boxes provide detailed explanations about physical features on a map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a book to p. 120 and look at the examples for the Mississippi Riv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ut-Away Box Procedu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rd in the very back of your notebook, resources section…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swer must be in a complete sente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cannot cover another physical feature that is grade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must have an arrow that points directly to the physical feature in the quest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tion: What is the economic importance of the Canadian Shield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2"/>
          <a:srcRect l="13085" t="6048" r="12151" b="7972"/>
          <a:stretch/>
        </p:blipFill>
        <p:spPr>
          <a:xfrm>
            <a:off x="-152280" y="0"/>
            <a:ext cx="7086600" cy="64864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5943600" y="228600"/>
            <a:ext cx="2895480" cy="14655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anadian shield is important economically because it is a major source of minerals and other natural resources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6019920" y="1752480"/>
            <a:ext cx="8380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our tur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tion: Why is the Mississippi River so important economically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sk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swer this question as a cut-away box to your m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1T12:02:23Z</dcterms:created>
  <dc:creator>CFISD</dc:creator>
  <dc:description/>
  <dc:language>en-US</dc:language>
  <cp:lastModifiedBy>CFISD</cp:lastModifiedBy>
  <dcterms:modified xsi:type="dcterms:W3CDTF">2008-10-21T15:40:01Z</dcterms:modified>
  <cp:revision>5</cp:revision>
  <dc:subject/>
  <dc:title>Cut-Away Boxes</dc:title>
</cp:coreProperties>
</file>