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DA8-D5AF-4A8C-B96D-3A35C02F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74C-2C0C-408F-ADFC-1F930B28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EAE-40E9-4FB2-994B-E59CE937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686-D9BF-4805-A03A-25547605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CD5-9ADD-44E0-A2CB-4CF3B480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007-80C8-407F-AB20-8E17926F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D25-E7E0-4BD7-919B-D1715A3A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E34-C520-4106-B8B2-2B7BA172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5D0-2150-4405-B85A-BA7DDAC3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D1F-86DE-4EE0-8C2A-5025A637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159-8A8A-4387-B56B-3F4E714A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635-8930-49A0-8714-926A42C5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5138-4CDF-4583-80A3-B0BF79B0F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es provide detailed explanations about physical features on a m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book to p. 120 and look at the examples for the Mississippi R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at is the economic importance of the Canadian Shie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13085" t="6048" r="12151" b="7972"/>
          <a:stretch/>
        </p:blipFill>
        <p:spPr>
          <a:xfrm>
            <a:off x="-152280" y="0"/>
            <a:ext cx="7086600" cy="6486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228600"/>
            <a:ext cx="2895480" cy="14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nadian shield is important economically because it is a major source of minerals and other natural resourc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19920" y="17524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y is the Mississippi River so important economicall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swer this question as a cut-away box to you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2:02:23Z</dcterms:created>
  <dc:creator>CFISD</dc:creator>
  <dc:description/>
  <dc:language>en-US</dc:language>
  <cp:lastModifiedBy>CFISD</cp:lastModifiedBy>
  <dcterms:modified xsi:type="dcterms:W3CDTF">2008-10-21T15:40:01Z</dcterms:modified>
  <cp:revision>5</cp:revision>
  <dc:subject/>
  <dc:title>Cut-Away Boxes</dc:title>
</cp:coreProperties>
</file>