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1D0F-1887-4580-B33B-30E002CF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5AA2-3BAB-46C6-9588-023C8002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5CD3-2A7A-404E-A25B-E44519B2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53C-EF2D-4F72-81F5-1F249554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5899-EEAF-4117-A39D-8BEA1931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F4D-830D-42B4-802B-6AC2C921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2967-6A10-443D-9FE4-9FF21112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B04-F45F-4B8A-8791-F0BB39E8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71B8-6F38-41D4-BB3A-781FB938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256-ED3A-47B2-8396-E6F1322D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0B9A-D502-42F8-A2C8-7F99BE5A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E83-B25C-4E9F-BF97-4F6E55FD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4EAE-AFC1-413D-BC02-AEBB54D90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-Away Boxes provide detailed explanations about physical features on a m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 book to p. 120 and look at the examples for the Mississippi Ri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in the very back of your notebook, resources section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must be in a complet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cover another physical feature that is gra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an arrow that points directly to the physical feature in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What is the economic importance of the Canadian Shie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13085" t="6048" r="12151" b="7972"/>
          <a:stretch/>
        </p:blipFill>
        <p:spPr>
          <a:xfrm>
            <a:off x="-152280" y="0"/>
            <a:ext cx="7086600" cy="6486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3600" y="228600"/>
            <a:ext cx="2895480" cy="1465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nadian shield is important economically because it is a major source of minerals and other natural resourc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019920" y="17524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Why is the Mississippi River so important economicall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swer this question as a cut-away box to your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2:02:23Z</dcterms:created>
  <dc:creator>CFISD</dc:creator>
  <dc:description/>
  <dc:language>en-US</dc:language>
  <cp:lastModifiedBy>CFISD</cp:lastModifiedBy>
  <dcterms:modified xsi:type="dcterms:W3CDTF">2008-10-21T15:40:01Z</dcterms:modified>
  <cp:revision>5</cp:revision>
  <dc:subject/>
  <dc:title>Cut-Away Boxes</dc:title>
</cp:coreProperties>
</file>