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C81-4B8A-402A-A396-3051C9D91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DBC-34F8-4429-AC94-3857EB83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903-CF7A-4EAC-B3EB-76B0498C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819B-7472-4D60-8115-681AD27B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8A9-E17E-4944-A511-FDB5305C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FFD9-FC89-4DB5-A09E-86ACE8CE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9EA-A375-4FD6-8EF4-E610B8DA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99D-7D41-4713-A9F6-FF12E67A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BF7-1C50-46D0-ADB1-8FC24501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08F-9066-43D8-82C2-6C84547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8E67-7070-4B5B-86E9-E21FCD71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1E6-D2B4-485F-B0BE-90C0A176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9807-386E-4617-92B4-6E5A29F7D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sports.espn.go.com/mlb/columns/story?columnist=stark_jayson&amp;page=rumblings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hyperlink" Target="http://en.wikipedia.org/wiki/Image:Jay-z_and_beyonce.jpg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and Spatial Diff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304812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onclusions can you draw from this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’s mi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 and Christianity have an impact on a majority of the World’s cultu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8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58200" y="1600200"/>
            <a:ext cx="685800" cy="533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295280"/>
          <a:ext cx="8229600" cy="48373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 Proces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ograph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Human Geography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tical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c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s of Economic Ac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l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Line 41"/>
          <p:cNvSpPr/>
          <p:nvPr/>
        </p:nvSpPr>
        <p:spPr>
          <a:xfrm>
            <a:off x="533520" y="3124080"/>
            <a:ext cx="82296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ltu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nowledge, attitudes, and behaviors shared by and passed on by a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781680" y="2286000"/>
            <a:ext cx="2133720" cy="393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Ty Wigginton disparó dos jonrones contra Aaron Harang, Brandon Backe lanzó buena pelota hasta la séptima entrada, y los Astros de Houston superaron el jueves por 3-2 a los Rojos de Cincinn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African kaftan clothing for men"/>
          <p:cNvPicPr/>
          <p:nvPr/>
        </p:nvPicPr>
        <p:blipFill>
          <a:blip r:embed="rId2"/>
          <a:stretch/>
        </p:blipFill>
        <p:spPr>
          <a:xfrm>
            <a:off x="3733920" y="3429000"/>
            <a:ext cx="1471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hicago Cubs">
            <a:hlinkClick r:id="rId3"/>
          </p:cNvPr>
          <p:cNvPicPr/>
          <p:nvPr/>
        </p:nvPicPr>
        <p:blipFill>
          <a:blip r:embed="rId4"/>
          <a:srcRect l="3881" t="0" r="70882" b="8700"/>
          <a:stretch/>
        </p:blipFill>
        <p:spPr>
          <a:xfrm>
            <a:off x="2514600" y="2286000"/>
            <a:ext cx="1130400" cy="2209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index"/>
          <p:cNvPicPr/>
          <p:nvPr/>
        </p:nvPicPr>
        <p:blipFill>
          <a:blip r:embed="rId5"/>
          <a:srcRect l="9858" t="2688" r="9858" b="4839"/>
          <a:stretch/>
        </p:blipFill>
        <p:spPr>
          <a:xfrm>
            <a:off x="5410080" y="4724280"/>
            <a:ext cx="1239840" cy="1905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ttl_txt_menu_tacosburritos_1"/>
          <p:cNvPicPr/>
          <p:nvPr/>
        </p:nvPicPr>
        <p:blipFill>
          <a:blip r:embed="rId6"/>
          <a:srcRect l="7466" t="44689" r="56547" b="15445"/>
          <a:stretch/>
        </p:blipFill>
        <p:spPr>
          <a:xfrm>
            <a:off x="4800600" y="2133720"/>
            <a:ext cx="175248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9"/>
          <p:cNvGrpSpPr/>
          <p:nvPr/>
        </p:nvGrpSpPr>
        <p:grpSpPr>
          <a:xfrm>
            <a:off x="0" y="3276720"/>
            <a:ext cx="2514600" cy="3581280"/>
            <a:chOff x="0" y="3276720"/>
            <a:chExt cx="2514600" cy="3581280"/>
          </a:xfrm>
        </p:grpSpPr>
        <p:pic>
          <p:nvPicPr>
            <p:cNvPr id="54" name="Picture 17" descr="Knowles and husband Jay-Z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0" y="3276720"/>
              <a:ext cx="25146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"/>
            <p:cNvPicPr/>
            <p:nvPr/>
          </p:nvPicPr>
          <p:blipFill>
            <a:blip r:embed="rId9"/>
            <a:srcRect l="15127" t="6527" r="12947" b="4351"/>
            <a:stretch/>
          </p:blipFill>
          <p:spPr>
            <a:xfrm>
              <a:off x="1295280" y="3352680"/>
              <a:ext cx="60192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 –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music I like from foreign countr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gae - Jama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timore – many Irish immigr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80880" y="3124080"/>
            <a:ext cx="3809880" cy="2666880"/>
            <a:chOff x="380880" y="3124080"/>
            <a:chExt cx="3809880" cy="2666880"/>
          </a:xfrm>
        </p:grpSpPr>
        <p:pic>
          <p:nvPicPr>
            <p:cNvPr id="59" name="" descr=""/>
            <p:cNvPicPr/>
            <p:nvPr/>
          </p:nvPicPr>
          <p:blipFill>
            <a:blip r:embed="rId2"/>
            <a:srcRect l="0" t="15999" r="0" b="30675"/>
            <a:stretch/>
          </p:blipFill>
          <p:spPr>
            <a:xfrm>
              <a:off x="380880" y="3124080"/>
              <a:ext cx="38098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380880" y="3124080"/>
              <a:ext cx="1683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ew Y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029200" y="4114800"/>
            <a:ext cx="3276360" cy="2514240"/>
            <a:chOff x="5029200" y="4114800"/>
            <a:chExt cx="3276360" cy="251424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029200" y="4114800"/>
              <a:ext cx="3276360" cy="25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029200" y="4114800"/>
              <a:ext cx="201636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x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029200" y="1143000"/>
            <a:ext cx="3809880" cy="2724120"/>
            <a:chOff x="5029200" y="1143000"/>
            <a:chExt cx="3809880" cy="2724120"/>
          </a:xfrm>
        </p:grpSpPr>
        <p:pic>
          <p:nvPicPr>
            <p:cNvPr id="65" name="" descr=""/>
            <p:cNvPicPr/>
            <p:nvPr/>
          </p:nvPicPr>
          <p:blipFill>
            <a:blip r:embed="rId4"/>
            <a:stretch/>
          </p:blipFill>
          <p:spPr>
            <a:xfrm>
              <a:off x="5029200" y="1143000"/>
              <a:ext cx="3809880" cy="27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029200" y="1143000"/>
              <a:ext cx="18288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ry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Girlfri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1984320" cy="2514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191120" y="2362320"/>
            <a:ext cx="43718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4190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Liz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62520" y="2362320"/>
            <a:ext cx="41148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so Family Cultur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ma Jo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t her hous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362320" y="304812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0384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an example of your culture for each of the elements of culture to the le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3048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ajor Reli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du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d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uci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rel_pie"/>
          <p:cNvPicPr/>
          <p:nvPr/>
        </p:nvPicPr>
        <p:blipFill>
          <a:blip r:embed="rId2"/>
          <a:stretch/>
        </p:blipFill>
        <p:spPr>
          <a:xfrm>
            <a:off x="3124080" y="609480"/>
            <a:ext cx="6019920" cy="601992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 flipV="1">
            <a:off x="2590920" y="1371600"/>
            <a:ext cx="1981080" cy="22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4572000" y="68580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4419720"/>
            <a:ext cx="1523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ld’s Reli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16:04:37Z</dcterms:created>
  <dc:creator>CFISD</dc:creator>
  <dc:description/>
  <dc:language>en-US</dc:language>
  <cp:lastModifiedBy>CFISD</cp:lastModifiedBy>
  <dcterms:modified xsi:type="dcterms:W3CDTF">2008-10-03T12:21:10Z</dcterms:modified>
  <cp:revision>49</cp:revision>
  <dc:subject/>
  <dc:title>Culture and Spatial Diffusion</dc:title>
</cp:coreProperties>
</file>