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0B6-67ED-4481-B0F0-F8A4C530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D0D-E1C3-4AFB-A69C-C2124817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44A-E780-4EC7-9059-7C207E80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0E7-FEFD-41F6-A99D-11B79FD2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E9F-AA07-4870-BA3C-A06A91F3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A6C-39BA-4963-8F08-DEC4204F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DE8-57D9-4FD4-8C5C-A63DC69E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697-E801-4377-9EA3-75D0CD5D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EA0-C8F0-4CA3-8B4A-333BCE4D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B8E-E0CD-4500-8E50-5702244A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8E2-1D84-4837-92E1-51E33CC0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9F0-2D51-41B4-AF27-DDBE8D16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24B1-A042-4DA5-ACC0-A299023B9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sports.espn.go.com/mlb/columns/story?columnist=stark_jayson&amp;page=rumblings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hyperlink" Target="http://en.wikipedia.org/wiki/Image:Jay-z_and_beyonce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and Spatial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3048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nclusions can you draw from this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 and Christianity have an impact on a majority of the World’s cultu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rel_pie"/>
          <p:cNvPicPr/>
          <p:nvPr/>
        </p:nvPicPr>
        <p:blipFill>
          <a:blip r:embed="rId2"/>
          <a:stretch/>
        </p:blipFill>
        <p:spPr>
          <a:xfrm>
            <a:off x="3124080" y="60948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88" name="Oval 8"/>
          <p:cNvSpPr/>
          <p:nvPr/>
        </p:nvSpPr>
        <p:spPr>
          <a:xfrm>
            <a:off x="4572000" y="685800"/>
            <a:ext cx="914400" cy="609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419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1600200"/>
            <a:ext cx="685800" cy="533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48373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s of Economic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533520" y="31240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nowledge, attitudes, and behaviors shared by and passed on by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781680" y="2286000"/>
            <a:ext cx="213372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y Wigginton disparó dos jonrones contra Aaron Harang, Brandon Backe lanzó buena pelota hasta la séptima entrada, y los Astros de Houston superaron el jueves por 3-2 a los Rojos de Cincinna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African kaftan clothing for men"/>
          <p:cNvPicPr/>
          <p:nvPr/>
        </p:nvPicPr>
        <p:blipFill>
          <a:blip r:embed="rId2"/>
          <a:stretch/>
        </p:blipFill>
        <p:spPr>
          <a:xfrm>
            <a:off x="3733920" y="3429000"/>
            <a:ext cx="147132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hicago Cubs">
            <a:hlinkClick r:id="rId3"/>
          </p:cNvPr>
          <p:cNvPicPr/>
          <p:nvPr/>
        </p:nvPicPr>
        <p:blipFill>
          <a:blip r:embed="rId4"/>
          <a:srcRect l="3881" t="0" r="70882" b="8700"/>
          <a:stretch/>
        </p:blipFill>
        <p:spPr>
          <a:xfrm>
            <a:off x="2514600" y="2286000"/>
            <a:ext cx="11304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index"/>
          <p:cNvPicPr/>
          <p:nvPr/>
        </p:nvPicPr>
        <p:blipFill>
          <a:blip r:embed="rId5"/>
          <a:srcRect l="9858" t="2688" r="9858" b="4839"/>
          <a:stretch/>
        </p:blipFill>
        <p:spPr>
          <a:xfrm>
            <a:off x="5410080" y="4724280"/>
            <a:ext cx="123984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ttl_txt_menu_tacosburritos_1"/>
          <p:cNvPicPr/>
          <p:nvPr/>
        </p:nvPicPr>
        <p:blipFill>
          <a:blip r:embed="rId6"/>
          <a:srcRect l="7466" t="44689" r="56547" b="15445"/>
          <a:stretch/>
        </p:blipFill>
        <p:spPr>
          <a:xfrm>
            <a:off x="4800600" y="2133720"/>
            <a:ext cx="1752480" cy="12189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9"/>
          <p:cNvGrpSpPr/>
          <p:nvPr/>
        </p:nvGrpSpPr>
        <p:grpSpPr>
          <a:xfrm>
            <a:off x="0" y="3276720"/>
            <a:ext cx="2514600" cy="3581280"/>
            <a:chOff x="0" y="3276720"/>
            <a:chExt cx="2514600" cy="3581280"/>
          </a:xfrm>
        </p:grpSpPr>
        <p:pic>
          <p:nvPicPr>
            <p:cNvPr id="54" name="Picture 17" descr="Knowles and husband Jay-Z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0" y="3276720"/>
              <a:ext cx="25146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"/>
            <p:cNvPicPr/>
            <p:nvPr/>
          </p:nvPicPr>
          <p:blipFill>
            <a:blip r:embed="rId9"/>
            <a:srcRect l="15127" t="6527" r="12947" b="4351"/>
            <a:stretch/>
          </p:blipFill>
          <p:spPr>
            <a:xfrm>
              <a:off x="1295280" y="3352680"/>
              <a:ext cx="6019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–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music I like from foreign count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gae - Jama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timore – many Irish immigr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80880" y="3124080"/>
            <a:ext cx="3809880" cy="2666880"/>
            <a:chOff x="380880" y="3124080"/>
            <a:chExt cx="3809880" cy="2666880"/>
          </a:xfrm>
        </p:grpSpPr>
        <p:pic>
          <p:nvPicPr>
            <p:cNvPr id="59" name="" descr=""/>
            <p:cNvPicPr/>
            <p:nvPr/>
          </p:nvPicPr>
          <p:blipFill>
            <a:blip r:embed="rId2"/>
            <a:srcRect l="0" t="15999" r="0" b="30675"/>
            <a:stretch/>
          </p:blipFill>
          <p:spPr>
            <a:xfrm>
              <a:off x="380880" y="3124080"/>
              <a:ext cx="38098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80880" y="3124080"/>
              <a:ext cx="1683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 Y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029200" y="4114800"/>
            <a:ext cx="3276360" cy="2514240"/>
            <a:chOff x="5029200" y="4114800"/>
            <a:chExt cx="3276360" cy="251424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029200" y="4114800"/>
              <a:ext cx="3276360" cy="25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029200" y="4114800"/>
              <a:ext cx="201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029200" y="1143000"/>
            <a:ext cx="3809880" cy="2724120"/>
            <a:chOff x="5029200" y="1143000"/>
            <a:chExt cx="3809880" cy="2724120"/>
          </a:xfrm>
        </p:grpSpPr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5029200" y="1143000"/>
              <a:ext cx="380988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029200" y="1143000"/>
              <a:ext cx="18288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y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Girl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1984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43718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ma Li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 her ho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62520" y="2362320"/>
            <a:ext cx="41148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ma J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 her hous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rd an example of your culture for each of the elements of culture to the le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51920" y="761760"/>
            <a:ext cx="3048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jor Reli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ci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rel_pie"/>
          <p:cNvPicPr/>
          <p:nvPr/>
        </p:nvPicPr>
        <p:blipFill>
          <a:blip r:embed="rId2"/>
          <a:stretch/>
        </p:blipFill>
        <p:spPr>
          <a:xfrm>
            <a:off x="3124080" y="60948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 flipV="1">
            <a:off x="2590920" y="1371600"/>
            <a:ext cx="198108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"/>
          <p:cNvSpPr/>
          <p:nvPr/>
        </p:nvSpPr>
        <p:spPr>
          <a:xfrm>
            <a:off x="4572000" y="685800"/>
            <a:ext cx="9144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419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’s Reli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6:04:37Z</dcterms:created>
  <dc:creator>CFISD</dc:creator>
  <dc:description/>
  <dc:language>en-US</dc:language>
  <cp:lastModifiedBy>CFISD</cp:lastModifiedBy>
  <dcterms:modified xsi:type="dcterms:W3CDTF">2008-10-03T12:21:10Z</dcterms:modified>
  <cp:revision>49</cp:revision>
  <dc:subject/>
  <dc:title>Culture and Spatial Diffusion</dc:title>
</cp:coreProperties>
</file>