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0D22-FB96-490C-81EA-FDB6F1C8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64D-6A4C-4D7B-925B-30B3365C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25E-FA64-4D07-B7B2-CD5788DF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395B-A73E-42D3-8822-83502A7F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59FB-EBFF-4522-B6C6-A09D2195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CBF3-B5F3-4AC4-B1A7-458E6C1C3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CC4F-A112-4A92-B06B-AC243125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05E1-F4BC-4D67-9902-DBD36A9C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9F78-8C40-4A80-A1FB-A1C77271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DEA-8A29-41DF-A318-A45C0857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CA49-7EA0-416B-BA38-D84BFD61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7018-F52F-470F-9248-7D45209E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645A-71E8-4AAD-91B4-C2DFD872E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sports.espn.go.com/mlb/columns/story?columnist=stark_jayson&amp;page=rumblings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hyperlink" Target="http://en.wikipedia.org/wiki/Image:Jay-z_and_beyonce.jpg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and Spatial 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30481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nclusions can you draw from this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’s m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am and Christianity have an impact on a majority of the World’s cultu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rel_pie"/>
          <p:cNvPicPr/>
          <p:nvPr/>
        </p:nvPicPr>
        <p:blipFill>
          <a:blip r:embed="rId2"/>
          <a:stretch/>
        </p:blipFill>
        <p:spPr>
          <a:xfrm>
            <a:off x="3124080" y="609480"/>
            <a:ext cx="6019920" cy="6019920"/>
          </a:xfrm>
          <a:prstGeom prst="rect">
            <a:avLst/>
          </a:prstGeom>
          <a:ln w="0">
            <a:noFill/>
          </a:ln>
        </p:spPr>
      </p:pic>
      <p:sp>
        <p:nvSpPr>
          <p:cNvPr id="88" name="Oval 8"/>
          <p:cNvSpPr/>
          <p:nvPr/>
        </p:nvSpPr>
        <p:spPr>
          <a:xfrm>
            <a:off x="4572000" y="685800"/>
            <a:ext cx="914400" cy="609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44197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458200" y="1600200"/>
            <a:ext cx="685800" cy="533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295280"/>
          <a:ext cx="8229600" cy="483732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ograp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Human Geography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s of Economic 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Line 41"/>
          <p:cNvSpPr/>
          <p:nvPr/>
        </p:nvSpPr>
        <p:spPr>
          <a:xfrm>
            <a:off x="533520" y="312408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nowledge, attitudes, and behaviors shared by and passed on by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781680" y="2286000"/>
            <a:ext cx="213372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y Wigginton disparó dos jonrones contra Aaron Harang, Brandon Backe lanzó buena pelota hasta la séptima entrada, y los Astros de Houston superaron el jueves por 3-2 a los Rojos de Cincinna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African kaftan clothing for men"/>
          <p:cNvPicPr/>
          <p:nvPr/>
        </p:nvPicPr>
        <p:blipFill>
          <a:blip r:embed="rId2"/>
          <a:stretch/>
        </p:blipFill>
        <p:spPr>
          <a:xfrm>
            <a:off x="3733920" y="3429000"/>
            <a:ext cx="1471320" cy="323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Chicago Cubs">
            <a:hlinkClick r:id="rId3"/>
          </p:cNvPr>
          <p:cNvPicPr/>
          <p:nvPr/>
        </p:nvPicPr>
        <p:blipFill>
          <a:blip r:embed="rId4"/>
          <a:srcRect l="3881" t="0" r="70882" b="8700"/>
          <a:stretch/>
        </p:blipFill>
        <p:spPr>
          <a:xfrm>
            <a:off x="2514600" y="2286000"/>
            <a:ext cx="113040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index"/>
          <p:cNvPicPr/>
          <p:nvPr/>
        </p:nvPicPr>
        <p:blipFill>
          <a:blip r:embed="rId5"/>
          <a:srcRect l="9858" t="2688" r="9858" b="4839"/>
          <a:stretch/>
        </p:blipFill>
        <p:spPr>
          <a:xfrm>
            <a:off x="5410080" y="4724280"/>
            <a:ext cx="1239840" cy="1905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ttl_txt_menu_tacosburritos_1"/>
          <p:cNvPicPr/>
          <p:nvPr/>
        </p:nvPicPr>
        <p:blipFill>
          <a:blip r:embed="rId6"/>
          <a:srcRect l="7466" t="44689" r="56547" b="15445"/>
          <a:stretch/>
        </p:blipFill>
        <p:spPr>
          <a:xfrm>
            <a:off x="4800600" y="2133720"/>
            <a:ext cx="1752480" cy="121896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9"/>
          <p:cNvGrpSpPr/>
          <p:nvPr/>
        </p:nvGrpSpPr>
        <p:grpSpPr>
          <a:xfrm>
            <a:off x="0" y="3276720"/>
            <a:ext cx="2514600" cy="3581280"/>
            <a:chOff x="0" y="3276720"/>
            <a:chExt cx="2514600" cy="3581280"/>
          </a:xfrm>
        </p:grpSpPr>
        <p:pic>
          <p:nvPicPr>
            <p:cNvPr id="54" name="Picture 17" descr="Knowles and husband Jay-Z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0" y="3276720"/>
              <a:ext cx="251460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"/>
            <p:cNvPicPr/>
            <p:nvPr/>
          </p:nvPicPr>
          <p:blipFill>
            <a:blip r:embed="rId9"/>
            <a:srcRect l="15127" t="6527" r="12947" b="4351"/>
            <a:stretch/>
          </p:blipFill>
          <p:spPr>
            <a:xfrm>
              <a:off x="1295280" y="3352680"/>
              <a:ext cx="60192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so Family Cultur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90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 –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music I like from foreign count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gae - Jama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timore – many Irish immigr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80880" y="3124080"/>
            <a:ext cx="3809880" cy="2666880"/>
            <a:chOff x="380880" y="3124080"/>
            <a:chExt cx="3809880" cy="2666880"/>
          </a:xfrm>
        </p:grpSpPr>
        <p:pic>
          <p:nvPicPr>
            <p:cNvPr id="59" name="" descr=""/>
            <p:cNvPicPr/>
            <p:nvPr/>
          </p:nvPicPr>
          <p:blipFill>
            <a:blip r:embed="rId2"/>
            <a:srcRect l="0" t="15999" r="0" b="30675"/>
            <a:stretch/>
          </p:blipFill>
          <p:spPr>
            <a:xfrm>
              <a:off x="380880" y="3124080"/>
              <a:ext cx="380988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80880" y="3124080"/>
              <a:ext cx="1683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w Y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029200" y="4114800"/>
            <a:ext cx="3276360" cy="2514240"/>
            <a:chOff x="5029200" y="4114800"/>
            <a:chExt cx="3276360" cy="251424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029200" y="4114800"/>
              <a:ext cx="3276360" cy="25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029200" y="4114800"/>
              <a:ext cx="201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029200" y="1143000"/>
            <a:ext cx="3809880" cy="2724120"/>
            <a:chOff x="5029200" y="1143000"/>
            <a:chExt cx="3809880" cy="2724120"/>
          </a:xfrm>
        </p:grpSpPr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5029200" y="1143000"/>
              <a:ext cx="3809880" cy="27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029200" y="1143000"/>
              <a:ext cx="18288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ry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so Family Cultur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Girlfri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95280" y="3276720"/>
            <a:ext cx="198432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191120" y="2362320"/>
            <a:ext cx="43718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so Family Cultur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90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dma Li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t her hou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962520" y="2362320"/>
            <a:ext cx="41148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so Family Cultur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dma J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t her house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362320" y="30481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ord an example of your culture for each of the elements of culture to the lef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51920" y="761760"/>
            <a:ext cx="3048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jor Reli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uci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rel_pie"/>
          <p:cNvPicPr/>
          <p:nvPr/>
        </p:nvPicPr>
        <p:blipFill>
          <a:blip r:embed="rId2"/>
          <a:stretch/>
        </p:blipFill>
        <p:spPr>
          <a:xfrm>
            <a:off x="3124080" y="609480"/>
            <a:ext cx="6019920" cy="601992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 flipV="1">
            <a:off x="2590920" y="1371600"/>
            <a:ext cx="1981080" cy="22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8"/>
          <p:cNvSpPr/>
          <p:nvPr/>
        </p:nvSpPr>
        <p:spPr>
          <a:xfrm>
            <a:off x="4572000" y="685800"/>
            <a:ext cx="9144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44197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’s Reli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6:04:37Z</dcterms:created>
  <dc:creator>CFISD</dc:creator>
  <dc:description/>
  <dc:language>en-US</dc:language>
  <cp:lastModifiedBy>CFISD</cp:lastModifiedBy>
  <dcterms:modified xsi:type="dcterms:W3CDTF">2008-10-03T12:21:10Z</dcterms:modified>
  <cp:revision>49</cp:revision>
  <dc:subject/>
  <dc:title>Culture and Spatial Diffusion</dc:title>
</cp:coreProperties>
</file>