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7137-2A26-45F8-A634-E1CF0E73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C246-D29B-4268-92D7-1B09B335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1E4-CC2F-40DA-9B19-503B07C29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BB41-2340-43F9-8EB6-39C6CE6E8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82D1-1E17-4D7B-A19D-B60C68E99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3D06-471A-47EB-AAC4-F81CB1A3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B24-9FD1-4ED7-9A91-02D631DA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B90-6F2E-45AD-BE5B-A2C4A6CC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050F-9AA2-47DE-A574-C92C35E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F43-D860-4E7A-8E86-4209F222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CF42-9175-42A7-BBAD-B3AD0E79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E118-9E74-4DED-8C34-15F0CBDC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0BF8-3686-470E-ACB6-7BAC95D62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conflicts are presently occurring in South As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re between religious groups, ove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Kashm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5228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Copy this chart in your note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it Kashmir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47920" y="2133720"/>
          <a:ext cx="6095880" cy="4064040"/>
        </p:xfrm>
        <a:graphic>
          <a:graphicData uri="http://schemas.openxmlformats.org/drawingml/2006/table">
            <a:tbl>
              <a:tblPr/>
              <a:tblGrid>
                <a:gridCol w="1523880"/>
                <a:gridCol w="45720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Moonland"/>
          <p:cNvPicPr/>
          <p:nvPr/>
        </p:nvPicPr>
        <p:blipFill>
          <a:blip r:embed="rId1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Kashmi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ertile river valley between mou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: Major water source provided by melting glac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: A violent conflict involving random attacks, kidnappings, and military viole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Photo: Men setting of artillery in the Karakoram Mountain Ran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05320" y="6248520"/>
            <a:ext cx="44193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Troops along the Saichen Glac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5105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hen: Conflict resulted from the Partition of Ind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oth sides wanted control of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Photo: Indian soldier emerges from an armored truck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8120" y="-360"/>
            <a:ext cx="3124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3200400" cy="32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: Terrorism is used by both s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ities are militar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51814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6248520"/>
            <a:ext cx="4724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n security in the border town Srinag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7084" t="8334" r="0" b="13891"/>
          <a:stretch/>
        </p:blipFill>
        <p:spPr>
          <a:xfrm>
            <a:off x="0" y="31680"/>
            <a:ext cx="8534520" cy="68263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38680" y="457200"/>
            <a:ext cx="3200400" cy="48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shm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38680" y="990720"/>
            <a:ext cx="32767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: Kashmir, on the border of India and Pakis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: Muslim vs. Hindu Viol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: Both sides use terrorism, ethnic clean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52280"/>
            <a:ext cx="2743200" cy="1981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4920" y="2209680"/>
            <a:ext cx="21812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kist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38280" y="3962520"/>
            <a:ext cx="1247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048120" y="762120"/>
            <a:ext cx="2076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Kash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India's Prithvi missiles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4343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: Both Sides have Nuclear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257800" y="5638680"/>
            <a:ext cx="358128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f India’s strongest nuclear miss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099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029200" y="914400"/>
            <a:ext cx="342900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es this conflict threaten the rest of the wor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How should the US handle this situ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2:07:15Z</dcterms:created>
  <dc:creator>CFISD</dc:creator>
  <dc:description/>
  <dc:language>en-US</dc:language>
  <cp:lastModifiedBy>CFISD</cp:lastModifiedBy>
  <dcterms:modified xsi:type="dcterms:W3CDTF">2009-03-30T12:36:34Z</dcterms:modified>
  <cp:revision>7</cp:revision>
  <dc:subject/>
  <dc:title>Slide 1</dc:title>
</cp:coreProperties>
</file>