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74F-ACBA-4FFE-AAB6-4CA80904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329-36B0-490B-BE65-863DB63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54E-2297-4740-90EC-6E0FD1AB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A48-20BD-4F87-AB41-49225F18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37B-99CB-495F-A415-B8D9706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AF1-F955-47CC-BC5D-CB04C1A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947-81FA-4BAF-8212-6F73D0D9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E83-4397-488A-91F5-0ADCDC6A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8BF-33F2-4F62-A3DC-0E66EA05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C5E-7294-41FC-97CB-35E7EAE2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BFC-B38E-4172-A367-8EEEA8C8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E8B-7458-4872-8F94-C3BBCDB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7E7-B2CB-4681-9E18-E487D18C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onflicts are presently occurring in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between religious groups, ove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ashm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Copy this chart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Kashmi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onland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Kashmi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rtile river valley betwee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Major water source provided by melting glac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A violent conflict involving random attacks, kidnappings, and military vio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: Men setting of artillery in the Karakoram Mountain Ra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6248520"/>
            <a:ext cx="4419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Troops along the Saichen 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: Conflict resulted from the Partition of Ind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h sides wanted control of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: Indian soldier emerges from an armored truck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3124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3200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Terrorism is used by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ities are milit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181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248520"/>
            <a:ext cx="4724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security in the border town Srin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7084" t="8334" r="0" b="13891"/>
          <a:stretch/>
        </p:blipFill>
        <p:spPr>
          <a:xfrm>
            <a:off x="0" y="31680"/>
            <a:ext cx="8534520" cy="6826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8680" y="457200"/>
            <a:ext cx="32004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276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Kashmir, on the border of India and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: Muslim vs. Hindu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Both sides use terrorism, ethnic cle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52280"/>
            <a:ext cx="2743200" cy="19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20968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kist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3962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76212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sh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ndia's Prithvi missile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Both Sides have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63868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f India’s strongest nuclear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29200" y="914400"/>
            <a:ext cx="3429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is conflict threaten the rest of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should the US handle this sit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07:15Z</dcterms:created>
  <dc:creator>CFISD</dc:creator>
  <dc:description/>
  <dc:language>en-US</dc:language>
  <cp:lastModifiedBy>CFISD</cp:lastModifiedBy>
  <dcterms:modified xsi:type="dcterms:W3CDTF">2009-03-30T12:36:34Z</dcterms:modified>
  <cp:revision>7</cp:revision>
  <dc:subject/>
  <dc:title>Slide 1</dc:title>
</cp:coreProperties>
</file>