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2AEF-9F29-4330-885A-B8BD6DC5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87DF-D982-41C3-965D-17A7FE15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C5A5-EF67-4064-A2DE-E9EE6592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5B9-791A-458F-9BC9-F29B2485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A2A9-1CBC-4CA9-AF07-B71438EE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69CC-5C39-4554-901C-E0C1A3DD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43E-9DD7-44C3-9A5C-C3DDBF6B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02CB-F23C-4A6A-9684-3F01AB83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89A-832E-4F2F-9461-7C77078E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C1A-457B-4625-9677-DD6AB032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7269-CF70-4BB6-8F90-A8FF8C28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194A-E77E-467B-B318-BFA6BC96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118C-A813-4B8B-8BDA-C7E79BBE0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ews.yahoo.com/fc/World/Northern_Ireland_Conflict/video/1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hankill_Butchers" TargetMode="External"/><Relationship Id="rId2" Type="http://schemas.openxmlformats.org/officeDocument/2006/relationships/hyperlink" Target="http://en.wikipedia.org/wiki/Shankill_Butchers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5334120" cy="400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62720" y="380880"/>
            <a:ext cx="335268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asked gunmen are standing in front of an Ulster Freedom Fighters bann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hey fire their guns in the air at a Loyalist ral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he group read a statement proclaiming that murdered loyalist volunteer force commander Billy Wright did not die in vain, before discharging a number of rounds into the a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114800"/>
            <a:ext cx="5334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yalist fight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449568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flict has led to the creation of paramilitary group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ilitary groups = civilian sold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amilitary Gro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 UVF – Ulster Volunteer Force, a Loyalist (Protestant) terrorist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p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does the UVF use terrorism in this confli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990720"/>
            <a:ext cx="85345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reland - Terro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id-1970s, a subset of the UVF dubbed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hankil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Butch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 group of UVF from Belfast's Shankill Road) carried out a grisly series of murders of Catholic civili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 of the victims were abducted at random, then beaten and tortured before having their throats slas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001000" y="15228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dabl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Flap 1:  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inside flap write the answers to the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outside flap leave room for a pictu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ern Ireland – Foldable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ckground – ADD TO YOUR FOL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o is figh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 they are figh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lusion – ADD TO YOUR FOL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ow does nationalism contribute to the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ow does terrorism cause instability in this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this a religious conflict or a political conflict? Explain your ans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295280"/>
          <a:ext cx="8763120" cy="509904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Europe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 Revolution/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32004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40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7543800" y="0"/>
              <a:ext cx="16002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eat Brita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29000" y="685800"/>
              <a:ext cx="259092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thern Ire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95680" y="1905120"/>
              <a:ext cx="1295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re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91320" y="220968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19920" y="914400"/>
              <a:ext cx="83808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695720" y="838080"/>
              <a:ext cx="38124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so-called "troubles" began in 1968 when Catholics demanded equal voting rights from the Protestant controlled parlia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monstrations and protests beg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ater, the British army, originally brought in to keep the peace, became involved in the viol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ore than 3,700 people have died since the conflict beg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01000" y="15228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Who is fight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rish Nationalists vs. British Loya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rish = Catho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ritish = Prote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Nation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treme pride in one’s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28600" y="1828800"/>
          <a:ext cx="8686800" cy="449568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is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Definition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extreme pride in one’s countr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Examples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rovide 2 in addition to m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US citizen bullies his student because he is from Canada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609480" y="0"/>
            <a:ext cx="822960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Nationalis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ding Analysis 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Answer the questions below using the Northern Ireland read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ding Analysis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 Why are they fighting? (What does each side wan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background of the confli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4876920" cy="3660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3657600"/>
            <a:ext cx="487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holics marching to Dumcree Chu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59436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52880" y="3200400"/>
            <a:ext cx="4190760" cy="3450600"/>
            <a:chOff x="4952880" y="3200400"/>
            <a:chExt cx="4190760" cy="345060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4952880" y="3200400"/>
              <a:ext cx="4190760" cy="310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952880" y="6282720"/>
              <a:ext cx="4190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testants marching through Belfas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029200" y="0"/>
            <a:ext cx="4114800" cy="27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sides march through each others’ neighborhoo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5. How will these marches increase violence in the region?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660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09880" y="2286000"/>
            <a:ext cx="5334120" cy="3660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86200" y="556272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ritish Army sprays Irish Nationalists (Catholics) who are protesting the ban on marches with fire ho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048120"/>
            <a:ext cx="36576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soldiers stand back after an Irish Nationalist protestor detonated a car bo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0"/>
            <a:ext cx="3886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gle Earth Tour Ques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How does art play a role in this confli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3:03:03Z</dcterms:created>
  <dc:creator>CFISD</dc:creator>
  <dc:description/>
  <dc:language>en-US</dc:language>
  <cp:lastModifiedBy>CFISD</cp:lastModifiedBy>
  <dcterms:modified xsi:type="dcterms:W3CDTF">2008-11-19T14:53:35Z</dcterms:modified>
  <cp:revision>15</cp:revision>
  <dc:subject/>
  <dc:title>Conflict</dc:title>
</cp:coreProperties>
</file>