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C39E-3681-45AA-B380-F5C2C027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1DA-EC87-46CA-85C9-47E3EC3E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3DF-F6D6-429B-A4D1-88E080CD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D627-CEAA-40BE-B6AA-00ED32212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7B0A-C3D7-466F-BFAA-3183805A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DA1-A3CC-4F85-8302-6AB45AF01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E04F-5D53-4807-8BA6-BDF42E4B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2CB-B008-492D-8B06-0400DB07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F92-408D-41EC-9C08-5F5A0E64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6258-6B00-40BE-A5DE-96BC181A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C87B-3DF7-4AA5-A599-DD4E246D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585C-4259-4FED-8DAF-943A2DE6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0D66-1240-44B3-AA66-349E8869B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news.yahoo.com/fc/World/Northern_Ireland_Conflict/video/1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hankill_Butchers" TargetMode="External"/><Relationship Id="rId2" Type="http://schemas.openxmlformats.org/officeDocument/2006/relationships/hyperlink" Target="http://en.wikipedia.org/wiki/Shankill_Butchers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5334120" cy="400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562720" y="380880"/>
            <a:ext cx="335268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asked gunmen are standing in front of an Ulster Freedom Fighters banner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ey fire their guns in the air at a Loyalist ra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he group read a statement proclaiming that murdered loyalist volunteer force commander Billy Wright did not die in vain, before discharging a number of rounds into the a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114800"/>
            <a:ext cx="5334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yalist fighter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44956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flict has led to the creation of paramilitary group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ilitary groups = civilian sold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amilitary Gro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  UVF – Ulster Volunteer Force, a Loyalist (Protestant) terrorist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p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w does the UVF use terrorism in this conflic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990720"/>
            <a:ext cx="85345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 - Terro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mid-1970s, a subset of the UVF dubbed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hankill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Butch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 group of UVF from Belfast's Shankill Road) carried out a grisly series of murders of Catholic civilia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 of the victims were abducted at random, then beaten and tortured before having their throats slas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001000" y="1522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ldabl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le Flap 1:  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inside flap write the answers to the ques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outside flap leave room for a pictu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ern Ireland – Foldable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ckground – ADD TO YOUR FOL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o is figh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why they are figh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nclusion – ADD TO YOUR FOL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ow does nationalism contribute to th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ow does terrorism cause instability in this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Is this a religious conflict or a political conflict? Explain your ans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295280"/>
          <a:ext cx="8763120" cy="509904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Europe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ustrial Revolution/Coloniz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32004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40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7543800" y="0"/>
              <a:ext cx="1600200" cy="8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reat Brita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29000" y="685800"/>
              <a:ext cx="259092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rthern 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95680" y="1905120"/>
              <a:ext cx="129564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791320" y="2209680"/>
              <a:ext cx="7617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19920" y="914400"/>
              <a:ext cx="83808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95720" y="838080"/>
              <a:ext cx="38124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458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The so-called "troubles" began in 1968 when Catholics demanded equal voting rights from the Protestant controlled parlia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monstrations and protests beg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Later, the British army, originally brought in to keep the peace, became involved in the viol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ore than 3,700 people have died since the conflict bega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001000" y="15228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Who is fight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rish Nationalists vs. British Loya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rish = Catholi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ritish = Prote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Nationalis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treme pride in one’s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28600" y="1828800"/>
          <a:ext cx="8686800" cy="44956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is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Definitio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extreme pride in one’s country.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Examples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rovide 2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US citizen bullies his student because he is from Canada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609480" y="0"/>
            <a:ext cx="822960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Nationalis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ding Analysis </a:t>
            </a:r>
            <a:r>
              <a:rPr b="0" i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Answer the questions below using the Northern Ireland reading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ading Analysis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 Why are they fighting? (What does each side wan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background of the confli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4876920" cy="3660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657600"/>
            <a:ext cx="4876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holics marching to Dumcree Chur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59436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952880" y="3200400"/>
            <a:ext cx="4190760" cy="3450600"/>
            <a:chOff x="4952880" y="3200400"/>
            <a:chExt cx="4190760" cy="3450600"/>
          </a:xfrm>
        </p:grpSpPr>
        <p:pic>
          <p:nvPicPr>
            <p:cNvPr id="67" name="" descr=""/>
            <p:cNvPicPr/>
            <p:nvPr/>
          </p:nvPicPr>
          <p:blipFill>
            <a:blip r:embed="rId2"/>
            <a:stretch/>
          </p:blipFill>
          <p:spPr>
            <a:xfrm>
              <a:off x="4952880" y="3200400"/>
              <a:ext cx="4190760" cy="310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952880" y="6282720"/>
              <a:ext cx="41907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testants marching through Belfas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5029200" y="0"/>
            <a:ext cx="4114800" cy="27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sides march through each others’ neighborhoo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5. How will these marches increase violence in the region?</a:t>
            </a:r>
            <a:r>
              <a:rPr b="1" lang="en-US" sz="1800" spc="-1" strike="noStrike">
                <a:solidFill>
                  <a:srgbClr val="ff50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33"/>
            </a:gs>
            <a:gs pos="50000">
              <a:srgbClr val="ffffff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3660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9880" y="2286000"/>
            <a:ext cx="5334120" cy="3660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86200" y="5562720"/>
            <a:ext cx="5257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ritish Army sprays Irish Nationalists (Catholics) who are protesting the ban on marches with fire ho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048120"/>
            <a:ext cx="36576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ish soldiers stand back after an Irish Nationalist protestor detonated a car bo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29200" y="0"/>
            <a:ext cx="3886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ogle Earth Tour Ques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How does art play a role in this conflic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3:03:03Z</dcterms:created>
  <dc:creator>CFISD</dc:creator>
  <dc:description/>
  <dc:language>en-US</dc:language>
  <cp:lastModifiedBy>CFISD</cp:lastModifiedBy>
  <dcterms:modified xsi:type="dcterms:W3CDTF">2008-11-19T14:53:35Z</dcterms:modified>
  <cp:revision>15</cp:revision>
  <dc:subject/>
  <dc:title>Conflict</dc:title>
</cp:coreProperties>
</file>