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441-A619-4D3A-AB91-09821ED9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D7B-3C11-44DD-AA41-3F405CFB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84A-5785-4508-90F2-67ED7123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A06-477C-4C81-B2D2-60A10DBD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2E9-9B40-4451-9ADA-7DF8C5CE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E1E-65D2-40D4-BA8E-56B2C69D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F81-1D0E-45C9-AEE8-065E720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803-1AF7-4ADF-9CC9-A9DAEFAD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9CC-025A-4523-8764-FE09A2F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75B-2683-40F6-B5AC-4F2819BA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58A-9543-4366-96EF-5C3D0C71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79E-E7C5-49AE-B959-A6CFDD66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849E-BC96-43C6-8FE7-27717BDC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yahoo.com/fc/World/Northern_Ireland_Conflict/video/1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hankill_Butchers" TargetMode="External"/><Relationship Id="rId2" Type="http://schemas.openxmlformats.org/officeDocument/2006/relationships/hyperlink" Target="http://en.wikipedia.org/wiki/Shankill_Butchers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5334120" cy="40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2720" y="380880"/>
            <a:ext cx="3352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sked gunmen are standing in front of an Ulster Freedom Fighters ban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y fire their guns in the air at a Loyalist r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group read a statement proclaiming that murdered loyalist volunteer force commander Billy Wright did not die in vain, before discharging a number of rounds into the 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14800"/>
            <a:ext cx="5334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yalist fight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956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has led to the creation of paramilitary grou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ilitary groups = civilian sold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military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 UVF – Ulster Volunteer Force, a Loyalist (Protestant) terrori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oes the UVF use terrorism in this confli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90720"/>
            <a:ext cx="8534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 - Terro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d-1970s, a subset of the UVF dubbed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ank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ut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group of UVF from Belfast's Shankill Road) carried out a grisly series of murders of Catholic civil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of the victims were abducted at random, then beaten and tortured before having their throats sla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dabl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Flap 1: 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inside flap write the answers to the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utside flap leave room for a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 – Foldabl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ckground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o is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they are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nationalism contribute to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w does terrorism cause instability in this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his a religious conflict or a political conflict? Explain your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295280"/>
          <a:ext cx="8763120" cy="50990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32004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so-called "troubles" began in 1968 when Catholics demanded equal voting rights from the Protestant controlled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monstrations and protests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ter, the British army, originally brought in to keep the peace, became involved in the viol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ore than 3,700 people have died since the conflict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Nationalists vs. British Loy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=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itish =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e pride in one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is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extreme pride in one’s countr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S citizen bullies his student because he is from Canad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Nationa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Analysi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nswer the questions below using the Northern Ireland read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ding Analysi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Why are they fighting? (What does each side wan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background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4876920" cy="366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657600"/>
            <a:ext cx="487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holics marching to Dumcree Chu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5943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3200400"/>
            <a:ext cx="4190760" cy="3450600"/>
            <a:chOff x="4952880" y="3200400"/>
            <a:chExt cx="4190760" cy="34506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952880" y="3200400"/>
              <a:ext cx="4190760" cy="31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52880" y="6282720"/>
              <a:ext cx="4190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testants marching through Belfas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029200" y="0"/>
            <a:ext cx="411480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ides march through each others’ neighborho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5. How will these marches increase violence in the region?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60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334120" cy="36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556272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Army sprays Irish Nationalists (Catholics) who are protesting the ban on marches with fire h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048120"/>
            <a:ext cx="3657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oldiers stand back after an Irish Nationalist protestor detonated a car bo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0"/>
            <a:ext cx="3886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 Earth Tour Ques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ow does art play a role in this confl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03:03Z</dcterms:created>
  <dc:creator>CFISD</dc:creator>
  <dc:description/>
  <dc:language>en-US</dc:language>
  <cp:lastModifiedBy>CFISD</cp:lastModifiedBy>
  <dcterms:modified xsi:type="dcterms:W3CDTF">2008-11-19T14:53:35Z</dcterms:modified>
  <cp:revision>15</cp:revision>
  <dc:subject/>
  <dc:title>Conflict</dc:title>
</cp:coreProperties>
</file>