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61A-482B-433F-8CD5-CFE31356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51C8-4C56-4B4D-95C3-CFF13070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8F41-7718-463B-A574-C8539FB8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D949-484D-4CFE-B602-89E5E3DB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D52-1E4C-4F84-A5C8-A99BB324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D3D-6007-4ED7-9052-3D256B4B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F281-C89D-4B5F-A371-1350C909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FCE6-78C5-4A5A-9A74-D7F178C0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977-B5CC-42A1-AE47-E25E6CFF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0E1-B7C3-42FD-9A34-05F12911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782-51E9-4E9F-B656-9720705D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C44-AB5B-459E-B17D-CD653588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01C6-CBC9-41C3-A59F-CD1B535E6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ws.yahoo.com/fc/World/Northern_Ireland_Conflict/video/1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hankill_Butchers" TargetMode="External"/><Relationship Id="rId2" Type="http://schemas.openxmlformats.org/officeDocument/2006/relationships/hyperlink" Target="http://en.wikipedia.org/wiki/Shankill_Butchers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5334120" cy="40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62720" y="380880"/>
            <a:ext cx="33526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sked gunmen are standing in front of an Ulster Freedom Fighters bann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y fire their guns in the air at a Loyalist r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 group read a statement proclaiming that murdered loyalist volunteer force commander Billy Wright did not die in vain, before discharging a number of rounds into the 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114800"/>
            <a:ext cx="5334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yalist fight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44956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lict has led to the creation of paramilitary grou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ilitary groups = civilian sold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amilitary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 UVF – Ulster Volunteer Force, a Loyalist (Protestant) terrorist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p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does the UVF use terrorism in this confli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90720"/>
            <a:ext cx="85345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 - Terro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id-1970s, a subset of the UVF dubbed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hankil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utch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 group of UVF from Belfast's Shankill Road) carried out a grisly series of murders of Catholic civil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of the victims were abducted at random, then beaten and tortured before having their throats sla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01000" y="1522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dabl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Flap 1: 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inside flap write the answers to the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outside flap leave room for a pictu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Ireland – Foldabl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ckground – ADD TO YOUR FOL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o is figh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 they are figh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 – ADD TO YOUR FOL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does nationalism contribute to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ow does terrorism cause instability in this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this a religious conflict or a political conflict? Explain your ans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295280"/>
          <a:ext cx="8763120" cy="509904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32004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543800" y="0"/>
              <a:ext cx="16002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eat Brit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29000" y="685800"/>
              <a:ext cx="259092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thern 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95680" y="1905120"/>
              <a:ext cx="129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91320" y="220968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19920" y="914400"/>
              <a:ext cx="83808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95720" y="838080"/>
              <a:ext cx="38124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so-called "troubles" began in 1968 when Catholics demanded equal voting rights from the Protestant controlled parlia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monstrations and protests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ater, the British army, originally brought in to keep the peace, became involved in the viol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ore than 3,700 people have died since the conflict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01000" y="1522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Who is fight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rish Nationalists vs. British Loy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rish = Catho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ritish =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Natio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treme pride in one’s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8600" y="1828800"/>
          <a:ext cx="8686800" cy="44956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is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Definitio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extreme pride in one’s countr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Examples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US citizen bullies his student because he is from Canada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09480" y="0"/>
            <a:ext cx="822960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Nationali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ing Analysis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Answer the questions below using the Northern Ireland read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ding Analysi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Why are they fighting? (What does each side wan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background of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4876920" cy="3660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657600"/>
            <a:ext cx="487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holics marching to Dumcree Chu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59436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52880" y="3200400"/>
            <a:ext cx="4190760" cy="3450600"/>
            <a:chOff x="4952880" y="3200400"/>
            <a:chExt cx="4190760" cy="345060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4952880" y="3200400"/>
              <a:ext cx="4190760" cy="31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952880" y="6282720"/>
              <a:ext cx="4190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testants marching through Belfas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029200" y="0"/>
            <a:ext cx="4114800" cy="27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sides march through each others’ neighborhoo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5. How will these marches increase violence in the region?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660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9880" y="2286000"/>
            <a:ext cx="5334120" cy="3660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86200" y="556272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tish Army sprays Irish Nationalists (Catholics) who are protesting the ban on marches with fire h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048120"/>
            <a:ext cx="36576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soldiers stand back after an Irish Nationalist protestor detonated a car bo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0"/>
            <a:ext cx="3886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 Earth Tour Ques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ow does art play a role in this confli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3:03:03Z</dcterms:created>
  <dc:creator>CFISD</dc:creator>
  <dc:description/>
  <dc:language>en-US</dc:language>
  <cp:lastModifiedBy>CFISD</cp:lastModifiedBy>
  <dcterms:modified xsi:type="dcterms:W3CDTF">2008-11-19T14:53:35Z</dcterms:modified>
  <cp:revision>15</cp:revision>
  <dc:subject/>
  <dc:title>Conflict</dc:title>
</cp:coreProperties>
</file>